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F0F-4116-4F16-A301-2E4769DF14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no recomputation recursive version computes f(1,c) and some (maybe even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i,y), i &gt; 1, 0 &lt;= y &lt;= c. Iterative version computes f(1,c) and all f(i,y), i &gt; 1, 0 &lt;= y &lt;=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1B6-4949-4B2C-B38F-C52CD1C9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E65-5F0A-4F5D-85F0-D70CFB7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96B-F151-4616-97F1-F5C81281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5C5-1988-4303-8B56-543874CD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D35-4A7D-47DC-857B-6A083D52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C6B-FBE0-453F-8785-4217429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CC5-EC64-4325-8CA0-DC59E88A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538-57D8-4594-A03F-0B027C7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AB9-4FB9-4F44-872D-A0FF0B9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EBD-1DD0-48C9-9490-BD2B4FC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373-AE6F-46B0-B591-F035BF7C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16A-F34A-4F1E-8C7F-B0B43C9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68F-AC39-4A44-B271-CA49272C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problem solution as the result of a sequence of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a formulation for the problem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that the principle of optimality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the dynamic programming recurrence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se equations for the value of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a traceback to determine the optimal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initialize f[n]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Max = Math.min(w[n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n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n][y] = p[n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YELLOW-B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844" name="YELLOW-B" descr=""/>
          <p:cNvPicPr/>
          <p:nvPr/>
        </p:nvPicPr>
        <p:blipFill>
          <a:blip r:embed="rId2"/>
          <a:stretch/>
        </p:blipFill>
        <p:spPr>
          <a:xfrm>
            <a:off x="7620120" y="685800"/>
            <a:ext cx="32040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compute f[i][y], 1 &lt;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n - 1; i &gt; 1; i-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Max = Math.min(w[i] - 1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0; y &lt;= yMax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f[i + 1][y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w[i]; y &lt;= c; y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][y] = Math.max(f[i + 1][y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[i + 1][y - w[i]] + p[i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f[1][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f[2][c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 &gt;= w[1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1][c] = Math.max(f[1][c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[2][c-w[1]] + p[1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for the recursive version with no re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version is expected to run faster because of low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ecks to s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ready computed (but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[i][j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mpu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s replaced by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8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063880" y="2819520"/>
              <a:ext cx="520560" cy="527040"/>
              <a:chOff x="2063880" y="2819520"/>
              <a:chExt cx="520560" cy="527040"/>
            </a:xfrm>
          </p:grpSpPr>
          <p:sp>
            <p:nvSpPr>
              <p:cNvPr id="920" name=""/>
              <p:cNvSpPr/>
              <p:nvPr/>
            </p:nvSpPr>
            <p:spPr>
              <a:xfrm>
                <a:off x="20638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337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597040" y="2819520"/>
              <a:ext cx="520920" cy="527040"/>
              <a:chOff x="2597040" y="2819520"/>
              <a:chExt cx="520920" cy="527040"/>
            </a:xfrm>
          </p:grpSpPr>
          <p:sp>
            <p:nvSpPr>
              <p:cNvPr id="923" name=""/>
              <p:cNvSpPr/>
              <p:nvPr/>
            </p:nvSpPr>
            <p:spPr>
              <a:xfrm>
                <a:off x="25970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668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130560" y="2819520"/>
              <a:ext cx="520560" cy="527040"/>
              <a:chOff x="3130560" y="2819520"/>
              <a:chExt cx="520560" cy="527040"/>
            </a:xfrm>
          </p:grpSpPr>
          <p:sp>
            <p:nvSpPr>
              <p:cNvPr id="926" name=""/>
              <p:cNvSpPr/>
              <p:nvPr/>
            </p:nvSpPr>
            <p:spPr>
              <a:xfrm>
                <a:off x="31305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004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664080" y="2819520"/>
              <a:ext cx="520560" cy="527040"/>
              <a:chOff x="3664080" y="2819520"/>
              <a:chExt cx="520560" cy="527040"/>
            </a:xfrm>
          </p:grpSpPr>
          <p:sp>
            <p:nvSpPr>
              <p:cNvPr id="929" name=""/>
              <p:cNvSpPr/>
              <p:nvPr/>
            </p:nvSpPr>
            <p:spPr>
              <a:xfrm>
                <a:off x="36640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7339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4197240" y="2819520"/>
              <a:ext cx="520920" cy="527040"/>
              <a:chOff x="4197240" y="2819520"/>
              <a:chExt cx="520920" cy="527040"/>
            </a:xfrm>
          </p:grpSpPr>
          <p:sp>
            <p:nvSpPr>
              <p:cNvPr id="932" name=""/>
              <p:cNvSpPr/>
              <p:nvPr/>
            </p:nvSpPr>
            <p:spPr>
              <a:xfrm>
                <a:off x="41972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2670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4730760" y="2819520"/>
              <a:ext cx="520560" cy="527040"/>
              <a:chOff x="4730760" y="2819520"/>
              <a:chExt cx="520560" cy="527040"/>
            </a:xfrm>
          </p:grpSpPr>
          <p:sp>
            <p:nvSpPr>
              <p:cNvPr id="935" name=""/>
              <p:cNvSpPr/>
              <p:nvPr/>
            </p:nvSpPr>
            <p:spPr>
              <a:xfrm>
                <a:off x="47307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06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264280" y="2819520"/>
              <a:ext cx="520560" cy="527040"/>
              <a:chOff x="5264280" y="2819520"/>
              <a:chExt cx="520560" cy="527040"/>
            </a:xfrm>
          </p:grpSpPr>
          <p:sp>
            <p:nvSpPr>
              <p:cNvPr id="938" name=""/>
              <p:cNvSpPr/>
              <p:nvPr/>
            </p:nvSpPr>
            <p:spPr>
              <a:xfrm>
                <a:off x="526428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334120" y="28195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5797440" y="2819520"/>
              <a:ext cx="520920" cy="527040"/>
              <a:chOff x="5797440" y="2819520"/>
              <a:chExt cx="520920" cy="527040"/>
            </a:xfrm>
          </p:grpSpPr>
          <p:sp>
            <p:nvSpPr>
              <p:cNvPr id="941" name=""/>
              <p:cNvSpPr/>
              <p:nvPr/>
            </p:nvSpPr>
            <p:spPr>
              <a:xfrm>
                <a:off x="5797440" y="28256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728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330960" y="2819520"/>
              <a:ext cx="520560" cy="527040"/>
              <a:chOff x="6330960" y="2819520"/>
              <a:chExt cx="520560" cy="527040"/>
            </a:xfrm>
          </p:grpSpPr>
          <p:sp>
            <p:nvSpPr>
              <p:cNvPr id="944" name=""/>
              <p:cNvSpPr/>
              <p:nvPr/>
            </p:nvSpPr>
            <p:spPr>
              <a:xfrm>
                <a:off x="6330960" y="28256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0800" y="28195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2063880" y="3352680"/>
              <a:ext cx="520560" cy="527040"/>
              <a:chOff x="2063880" y="3352680"/>
              <a:chExt cx="520560" cy="527040"/>
            </a:xfrm>
          </p:grpSpPr>
          <p:sp>
            <p:nvSpPr>
              <p:cNvPr id="947" name=""/>
              <p:cNvSpPr/>
              <p:nvPr/>
            </p:nvSpPr>
            <p:spPr>
              <a:xfrm>
                <a:off x="20638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1337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2597040" y="3352680"/>
              <a:ext cx="520920" cy="527040"/>
              <a:chOff x="2597040" y="3352680"/>
              <a:chExt cx="520920" cy="527040"/>
            </a:xfrm>
          </p:grpSpPr>
          <p:sp>
            <p:nvSpPr>
              <p:cNvPr id="950" name=""/>
              <p:cNvSpPr/>
              <p:nvPr/>
            </p:nvSpPr>
            <p:spPr>
              <a:xfrm>
                <a:off x="25970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668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3130560" y="3352680"/>
              <a:ext cx="520560" cy="527040"/>
              <a:chOff x="3130560" y="3352680"/>
              <a:chExt cx="520560" cy="527040"/>
            </a:xfrm>
          </p:grpSpPr>
          <p:sp>
            <p:nvSpPr>
              <p:cNvPr id="953" name=""/>
              <p:cNvSpPr/>
              <p:nvPr/>
            </p:nvSpPr>
            <p:spPr>
              <a:xfrm>
                <a:off x="31305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004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3664080" y="3352680"/>
              <a:ext cx="520560" cy="527040"/>
              <a:chOff x="3664080" y="3352680"/>
              <a:chExt cx="520560" cy="527040"/>
            </a:xfrm>
          </p:grpSpPr>
          <p:sp>
            <p:nvSpPr>
              <p:cNvPr id="956" name=""/>
              <p:cNvSpPr/>
              <p:nvPr/>
            </p:nvSpPr>
            <p:spPr>
              <a:xfrm>
                <a:off x="36640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339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4197240" y="3352680"/>
              <a:ext cx="520920" cy="527040"/>
              <a:chOff x="4197240" y="3352680"/>
              <a:chExt cx="520920" cy="527040"/>
            </a:xfrm>
          </p:grpSpPr>
          <p:sp>
            <p:nvSpPr>
              <p:cNvPr id="959" name=""/>
              <p:cNvSpPr/>
              <p:nvPr/>
            </p:nvSpPr>
            <p:spPr>
              <a:xfrm>
                <a:off x="41972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670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4730760" y="3352680"/>
              <a:ext cx="520560" cy="527040"/>
              <a:chOff x="4730760" y="3352680"/>
              <a:chExt cx="520560" cy="527040"/>
            </a:xfrm>
          </p:grpSpPr>
          <p:sp>
            <p:nvSpPr>
              <p:cNvPr id="962" name=""/>
              <p:cNvSpPr/>
              <p:nvPr/>
            </p:nvSpPr>
            <p:spPr>
              <a:xfrm>
                <a:off x="47307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060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264280" y="3352680"/>
              <a:ext cx="520560" cy="527040"/>
              <a:chOff x="5264280" y="3352680"/>
              <a:chExt cx="520560" cy="527040"/>
            </a:xfrm>
          </p:grpSpPr>
          <p:sp>
            <p:nvSpPr>
              <p:cNvPr id="965" name=""/>
              <p:cNvSpPr/>
              <p:nvPr/>
            </p:nvSpPr>
            <p:spPr>
              <a:xfrm>
                <a:off x="526428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334120" y="335268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5797440" y="3352680"/>
              <a:ext cx="520920" cy="527040"/>
              <a:chOff x="5797440" y="3352680"/>
              <a:chExt cx="520920" cy="527040"/>
            </a:xfrm>
          </p:grpSpPr>
          <p:sp>
            <p:nvSpPr>
              <p:cNvPr id="968" name=""/>
              <p:cNvSpPr/>
              <p:nvPr/>
            </p:nvSpPr>
            <p:spPr>
              <a:xfrm>
                <a:off x="5797440" y="335916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7280" y="335268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324480" y="3352680"/>
              <a:ext cx="685800" cy="527040"/>
              <a:chOff x="6324480" y="3352680"/>
              <a:chExt cx="685800" cy="527040"/>
            </a:xfrm>
          </p:grpSpPr>
          <p:sp>
            <p:nvSpPr>
              <p:cNvPr id="971" name=""/>
              <p:cNvSpPr/>
              <p:nvPr/>
            </p:nvSpPr>
            <p:spPr>
              <a:xfrm>
                <a:off x="6330960" y="335916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24480" y="335268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2063880" y="3886200"/>
              <a:ext cx="520560" cy="527040"/>
              <a:chOff x="2063880" y="3886200"/>
              <a:chExt cx="520560" cy="527040"/>
            </a:xfrm>
          </p:grpSpPr>
          <p:sp>
            <p:nvSpPr>
              <p:cNvPr id="974" name=""/>
              <p:cNvSpPr/>
              <p:nvPr/>
            </p:nvSpPr>
            <p:spPr>
              <a:xfrm>
                <a:off x="20638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337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2597040" y="3886200"/>
              <a:ext cx="520920" cy="527040"/>
              <a:chOff x="2597040" y="3886200"/>
              <a:chExt cx="520920" cy="527040"/>
            </a:xfrm>
          </p:grpSpPr>
          <p:sp>
            <p:nvSpPr>
              <p:cNvPr id="977" name=""/>
              <p:cNvSpPr/>
              <p:nvPr/>
            </p:nvSpPr>
            <p:spPr>
              <a:xfrm>
                <a:off x="25970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668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30560" y="3886200"/>
              <a:ext cx="520560" cy="527040"/>
              <a:chOff x="3130560" y="3886200"/>
              <a:chExt cx="520560" cy="527040"/>
            </a:xfrm>
          </p:grpSpPr>
          <p:sp>
            <p:nvSpPr>
              <p:cNvPr id="980" name=""/>
              <p:cNvSpPr/>
              <p:nvPr/>
            </p:nvSpPr>
            <p:spPr>
              <a:xfrm>
                <a:off x="31305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0040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3664080" y="3886200"/>
              <a:ext cx="520560" cy="527040"/>
              <a:chOff x="3664080" y="3886200"/>
              <a:chExt cx="520560" cy="527040"/>
            </a:xfrm>
          </p:grpSpPr>
          <p:sp>
            <p:nvSpPr>
              <p:cNvPr id="983" name=""/>
              <p:cNvSpPr/>
              <p:nvPr/>
            </p:nvSpPr>
            <p:spPr>
              <a:xfrm>
                <a:off x="36640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33920" y="388620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97240" y="3886200"/>
              <a:ext cx="520920" cy="527040"/>
              <a:chOff x="4197240" y="3886200"/>
              <a:chExt cx="520920" cy="527040"/>
            </a:xfrm>
          </p:grpSpPr>
          <p:sp>
            <p:nvSpPr>
              <p:cNvPr id="986" name=""/>
              <p:cNvSpPr/>
              <p:nvPr/>
            </p:nvSpPr>
            <p:spPr>
              <a:xfrm>
                <a:off x="41972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267080" y="388620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724280" y="3886200"/>
              <a:ext cx="685800" cy="527040"/>
              <a:chOff x="4724280" y="3886200"/>
              <a:chExt cx="685800" cy="527040"/>
            </a:xfrm>
          </p:grpSpPr>
          <p:sp>
            <p:nvSpPr>
              <p:cNvPr id="989" name=""/>
              <p:cNvSpPr/>
              <p:nvPr/>
            </p:nvSpPr>
            <p:spPr>
              <a:xfrm>
                <a:off x="47307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7242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257800" y="3886200"/>
              <a:ext cx="685800" cy="527040"/>
              <a:chOff x="5257800" y="3886200"/>
              <a:chExt cx="685800" cy="527040"/>
            </a:xfrm>
          </p:grpSpPr>
          <p:sp>
            <p:nvSpPr>
              <p:cNvPr id="992" name=""/>
              <p:cNvSpPr/>
              <p:nvPr/>
            </p:nvSpPr>
            <p:spPr>
              <a:xfrm>
                <a:off x="526428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5780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5791320" y="3886200"/>
              <a:ext cx="685800" cy="527040"/>
              <a:chOff x="5791320" y="3886200"/>
              <a:chExt cx="685800" cy="527040"/>
            </a:xfrm>
          </p:grpSpPr>
          <p:sp>
            <p:nvSpPr>
              <p:cNvPr id="995" name=""/>
              <p:cNvSpPr/>
              <p:nvPr/>
            </p:nvSpPr>
            <p:spPr>
              <a:xfrm>
                <a:off x="5797440" y="3892680"/>
                <a:ext cx="52092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9132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324480" y="3886200"/>
              <a:ext cx="685800" cy="527040"/>
              <a:chOff x="6324480" y="3886200"/>
              <a:chExt cx="685800" cy="527040"/>
            </a:xfrm>
          </p:grpSpPr>
          <p:sp>
            <p:nvSpPr>
              <p:cNvPr id="998" name=""/>
              <p:cNvSpPr/>
              <p:nvPr/>
            </p:nvSpPr>
            <p:spPr>
              <a:xfrm>
                <a:off x="6330960" y="3892680"/>
                <a:ext cx="520560" cy="520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24480" y="388620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063880" y="4419720"/>
              <a:ext cx="520560" cy="527040"/>
              <a:chOff x="2063880" y="4419720"/>
              <a:chExt cx="520560" cy="527040"/>
            </a:xfrm>
          </p:grpSpPr>
          <p:sp>
            <p:nvSpPr>
              <p:cNvPr id="1001" name=""/>
              <p:cNvSpPr/>
              <p:nvPr/>
            </p:nvSpPr>
            <p:spPr>
              <a:xfrm>
                <a:off x="20638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1337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2597040" y="4419720"/>
              <a:ext cx="520920" cy="527040"/>
              <a:chOff x="2597040" y="4419720"/>
              <a:chExt cx="520920" cy="527040"/>
            </a:xfrm>
          </p:grpSpPr>
          <p:sp>
            <p:nvSpPr>
              <p:cNvPr id="1004" name=""/>
              <p:cNvSpPr/>
              <p:nvPr/>
            </p:nvSpPr>
            <p:spPr>
              <a:xfrm>
                <a:off x="25970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668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130560" y="4419720"/>
              <a:ext cx="520560" cy="527040"/>
              <a:chOff x="3130560" y="4419720"/>
              <a:chExt cx="520560" cy="527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31305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0040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3664080" y="4419720"/>
              <a:ext cx="520560" cy="527040"/>
              <a:chOff x="3664080" y="4419720"/>
              <a:chExt cx="520560" cy="527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36640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33920" y="4419720"/>
                <a:ext cx="3045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197240" y="4419720"/>
              <a:ext cx="520920" cy="527040"/>
              <a:chOff x="4197240" y="4419720"/>
              <a:chExt cx="520920" cy="527040"/>
            </a:xfrm>
          </p:grpSpPr>
          <p:sp>
            <p:nvSpPr>
              <p:cNvPr id="1013" name=""/>
              <p:cNvSpPr/>
              <p:nvPr/>
            </p:nvSpPr>
            <p:spPr>
              <a:xfrm>
                <a:off x="41972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267080" y="4419720"/>
                <a:ext cx="304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724280" y="4419720"/>
              <a:ext cx="685800" cy="527040"/>
              <a:chOff x="4724280" y="4419720"/>
              <a:chExt cx="685800" cy="527040"/>
            </a:xfrm>
          </p:grpSpPr>
          <p:sp>
            <p:nvSpPr>
              <p:cNvPr id="1016" name=""/>
              <p:cNvSpPr/>
              <p:nvPr/>
            </p:nvSpPr>
            <p:spPr>
              <a:xfrm>
                <a:off x="473076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2428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5257800" y="4419720"/>
              <a:ext cx="685800" cy="527040"/>
              <a:chOff x="5257800" y="4419720"/>
              <a:chExt cx="685800" cy="5270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264280" y="4425840"/>
                <a:ext cx="52056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5780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5791320" y="4419720"/>
              <a:ext cx="685800" cy="527040"/>
              <a:chOff x="5791320" y="4419720"/>
              <a:chExt cx="685800" cy="527040"/>
            </a:xfrm>
          </p:grpSpPr>
          <p:sp>
            <p:nvSpPr>
              <p:cNvPr id="1022" name=""/>
              <p:cNvSpPr/>
              <p:nvPr/>
            </p:nvSpPr>
            <p:spPr>
              <a:xfrm>
                <a:off x="5797440" y="4425840"/>
                <a:ext cx="520920" cy="520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791320" y="4419720"/>
                <a:ext cx="685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1][8] = f[2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YELLOW-B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YELLOW-B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098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101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10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107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110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113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116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11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122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125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128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131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13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137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140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143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146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14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152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155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158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161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16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16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170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173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178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181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184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187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190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193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196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199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2][8] != f[3][8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1207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27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27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28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28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28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29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29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29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30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0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30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30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31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31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31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32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32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32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33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333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336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339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342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34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35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355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358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36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364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367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370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373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37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3][5] != f[4][5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38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45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45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45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46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46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4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47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47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47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48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48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48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48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49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49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49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50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50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50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51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51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51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521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524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52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532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535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538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541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54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547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550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4][0] = f[5][0]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558" name=""/>
            <p:cNvSpPr/>
            <p:nvPr/>
          </p:nvSpPr>
          <p:spPr>
            <a:xfrm>
              <a:off x="2057400" y="2826000"/>
              <a:ext cx="52056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2057400" y="2819520"/>
            <a:ext cx="520560" cy="527040"/>
            <a:chOff x="2057400" y="2819520"/>
            <a:chExt cx="520560" cy="527040"/>
          </a:xfrm>
        </p:grpSpPr>
        <p:sp>
          <p:nvSpPr>
            <p:cNvPr id="1627" name=""/>
            <p:cNvSpPr/>
            <p:nvPr/>
          </p:nvSpPr>
          <p:spPr>
            <a:xfrm>
              <a:off x="2057400" y="2825640"/>
              <a:ext cx="520560" cy="520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27240" y="2819520"/>
              <a:ext cx="304560" cy="519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63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63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163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163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164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164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164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165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165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165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166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166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166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166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167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167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167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168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168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168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169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169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1698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1701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324480" y="3886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170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170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171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171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171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172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172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172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24480" y="4419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3244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9480" y="61722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[5][0] = 0 =&gt;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Tracebac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6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pic>
        <p:nvPicPr>
          <p:cNvPr id="1737" name="3skel" descr=""/>
          <p:cNvPicPr/>
          <p:nvPr/>
        </p:nvPicPr>
        <p:blipFill>
          <a:blip r:embed="rId2"/>
          <a:stretch/>
        </p:blipFill>
        <p:spPr>
          <a:xfrm>
            <a:off x="3646440" y="270360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lving the dynamic programming recurrence recursively, be sure to avoid the recomputation of the optimal value for the same 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run time overheads, and hence to reduce actual run time, dynamic programming recurrences are almost always solved iteratively (no recur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NIWAR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ANIWARN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x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133720" y="2057400"/>
            <a:ext cx="5029200" cy="1342080"/>
            <a:chOff x="2133720" y="2057400"/>
            <a:chExt cx="5029200" cy="1342080"/>
          </a:xfrm>
        </p:grpSpPr>
        <p:sp>
          <p:nvSpPr>
            <p:cNvPr id="1741" name=""/>
            <p:cNvSpPr/>
            <p:nvPr/>
          </p:nvSpPr>
          <p:spPr>
            <a:xfrm>
              <a:off x="3668760" y="259092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81280" y="281952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657600" y="20574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33720" y="2514600"/>
              <a:ext cx="1523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(i,j)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572000" y="2438280"/>
              <a:ext cx="2590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(i,k) * B(k,j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380880" y="3429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all use the number of multiplications as our complexity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are needed to compute o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ons are needed to comput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YELLOW-B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48" name="YELLOW-B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32076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we are to compute the produc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*Y*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ree matric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Y:(1 x 1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00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00 * 1 = 1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of space are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Multiplication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rix dimensio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:(1 x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Z:(100 x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* 100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 x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00 * 1 * 1 =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of space is needed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duct Of 5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ways in which the produc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ces may be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B*(C*(D*E))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(A*B)*C)*D)*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(C*D)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B)*(C*(D*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A*(B*C)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(A*B)*C)*(D*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Best Multiplication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ways to compute the produc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c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q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04920" y="3200400"/>
            <a:ext cx="8381880" cy="2236680"/>
            <a:chOff x="304920" y="3200400"/>
            <a:chExt cx="8381880" cy="2236680"/>
          </a:xfrm>
        </p:grpSpPr>
        <p:pic>
          <p:nvPicPr>
            <p:cNvPr id="1758" name="snail" descr=""/>
            <p:cNvPicPr/>
            <p:nvPr/>
          </p:nvPicPr>
          <p:blipFill>
            <a:blip r:embed="rId1"/>
            <a:stretch/>
          </p:blipFill>
          <p:spPr>
            <a:xfrm>
              <a:off x="1905120" y="4724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hare" descr=""/>
            <p:cNvPicPr/>
            <p:nvPr/>
          </p:nvPicPr>
          <p:blipFill>
            <a:blip r:embed="rId2"/>
            <a:stretch/>
          </p:blipFill>
          <p:spPr>
            <a:xfrm>
              <a:off x="5334120" y="3962520"/>
              <a:ext cx="1542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304920" y="3200400"/>
              <a:ext cx="8381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aluating all ways to compute the product takes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O(4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/q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0.5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ation of pre- and post-operative 3D brain MRI images to determine volume of removed tu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BRAIN" descr=""/>
          <p:cNvPicPr/>
          <p:nvPr/>
        </p:nvPicPr>
        <p:blipFill>
          <a:blip r:embed="rId1"/>
          <a:stretch/>
        </p:blipFill>
        <p:spPr>
          <a:xfrm>
            <a:off x="4029120" y="2743200"/>
            <a:ext cx="1085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38600" cy="365760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728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mag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56 x 256 x 25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x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iteration of the registration algorithm, the product of three matrices is computed at each vox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(12 x 3) * (3 x 3) * (3 x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to righ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12 * 3 * 3 + 12 * 3*1 = 1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s to conv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D Regist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.4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left compu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3 * 3*1 + 12 * 3 * 1 = 4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s per voxel per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multiplications is abo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.5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ltiplications per second,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.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e weights and capacit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iker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6289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Solu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7162920" cy="3856680"/>
            <a:chOff x="228600" y="2286000"/>
            <a:chExt cx="7162920" cy="3856680"/>
          </a:xfrm>
        </p:grpSpPr>
        <p:sp>
          <p:nvSpPr>
            <p:cNvPr id="62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638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70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05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640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72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07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6428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7440" y="4959360"/>
              <a:ext cx="52092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5562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5943600"/>
              <a:ext cx="83844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3880" y="28195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33526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38862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41972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495288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f[i][y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34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286000"/>
              <a:ext cx="447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2286000"/>
              <a:ext cx="447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34290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9625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5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6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7,10,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193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196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199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02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05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208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211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214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217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4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5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1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286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289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292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295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298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301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304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307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310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313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316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319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322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325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328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331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334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337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3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3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8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407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410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413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416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419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422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425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428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431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434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437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440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443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446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449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452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455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458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461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464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467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470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473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476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479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482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485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2][*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4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9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555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558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561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564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567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570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573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576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579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582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585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588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591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594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597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600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603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606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609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612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615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618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621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624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627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630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633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636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639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642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645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648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651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654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657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660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e f[1][c]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3,5,6,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8,10,9,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638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970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05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640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307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6428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7440" y="28256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30960" y="28256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638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70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305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640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307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6428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7440" y="33591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30960" y="33591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38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70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305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640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307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6428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7440" y="389268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30960" y="389268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638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970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305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640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72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307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6428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97440" y="4425840"/>
            <a:ext cx="52092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30960" y="4425840"/>
            <a:ext cx="52056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638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970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305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40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72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07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6428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97440" y="4959360"/>
            <a:ext cx="52092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30960" y="4959360"/>
            <a:ext cx="520560" cy="520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562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5943600"/>
            <a:ext cx="838440" cy="0"/>
          </a:xfrm>
          <a:prstGeom prst="line">
            <a:avLst/>
          </a:prstGeom>
          <a:ln w="5076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3880" y="28195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3880" y="33526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23880" y="38862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441972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495288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251460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[i][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769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1008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2286000"/>
            <a:ext cx="44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2286000"/>
            <a:ext cx="44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3429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162920" y="396252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63880" y="2819520"/>
            <a:ext cx="520560" cy="527040"/>
            <a:chOff x="2063880" y="2819520"/>
            <a:chExt cx="520560" cy="527040"/>
          </a:xfrm>
        </p:grpSpPr>
        <p:sp>
          <p:nvSpPr>
            <p:cNvPr id="730" name=""/>
            <p:cNvSpPr/>
            <p:nvPr/>
          </p:nvSpPr>
          <p:spPr>
            <a:xfrm>
              <a:off x="20638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97040" y="2819520"/>
            <a:ext cx="520920" cy="527040"/>
            <a:chOff x="2597040" y="2819520"/>
            <a:chExt cx="520920" cy="527040"/>
          </a:xfrm>
        </p:grpSpPr>
        <p:sp>
          <p:nvSpPr>
            <p:cNvPr id="733" name=""/>
            <p:cNvSpPr/>
            <p:nvPr/>
          </p:nvSpPr>
          <p:spPr>
            <a:xfrm>
              <a:off x="25970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68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130560" y="2819520"/>
            <a:ext cx="520560" cy="527040"/>
            <a:chOff x="3130560" y="2819520"/>
            <a:chExt cx="520560" cy="527040"/>
          </a:xfrm>
        </p:grpSpPr>
        <p:sp>
          <p:nvSpPr>
            <p:cNvPr id="736" name=""/>
            <p:cNvSpPr/>
            <p:nvPr/>
          </p:nvSpPr>
          <p:spPr>
            <a:xfrm>
              <a:off x="31305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04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664080" y="2819520"/>
            <a:ext cx="520560" cy="527040"/>
            <a:chOff x="3664080" y="2819520"/>
            <a:chExt cx="520560" cy="527040"/>
          </a:xfrm>
        </p:grpSpPr>
        <p:sp>
          <p:nvSpPr>
            <p:cNvPr id="739" name=""/>
            <p:cNvSpPr/>
            <p:nvPr/>
          </p:nvSpPr>
          <p:spPr>
            <a:xfrm>
              <a:off x="36640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339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197240" y="2819520"/>
            <a:ext cx="520920" cy="527040"/>
            <a:chOff x="4197240" y="2819520"/>
            <a:chExt cx="520920" cy="527040"/>
          </a:xfrm>
        </p:grpSpPr>
        <p:sp>
          <p:nvSpPr>
            <p:cNvPr id="742" name=""/>
            <p:cNvSpPr/>
            <p:nvPr/>
          </p:nvSpPr>
          <p:spPr>
            <a:xfrm>
              <a:off x="41972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670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730760" y="2819520"/>
            <a:ext cx="520560" cy="527040"/>
            <a:chOff x="4730760" y="2819520"/>
            <a:chExt cx="520560" cy="527040"/>
          </a:xfrm>
        </p:grpSpPr>
        <p:sp>
          <p:nvSpPr>
            <p:cNvPr id="745" name=""/>
            <p:cNvSpPr/>
            <p:nvPr/>
          </p:nvSpPr>
          <p:spPr>
            <a:xfrm>
              <a:off x="47307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006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264280" y="2819520"/>
            <a:ext cx="520560" cy="527040"/>
            <a:chOff x="5264280" y="2819520"/>
            <a:chExt cx="520560" cy="527040"/>
          </a:xfrm>
        </p:grpSpPr>
        <p:sp>
          <p:nvSpPr>
            <p:cNvPr id="748" name=""/>
            <p:cNvSpPr/>
            <p:nvPr/>
          </p:nvSpPr>
          <p:spPr>
            <a:xfrm>
              <a:off x="526428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797440" y="2819520"/>
            <a:ext cx="520920" cy="527040"/>
            <a:chOff x="5797440" y="2819520"/>
            <a:chExt cx="520920" cy="527040"/>
          </a:xfrm>
        </p:grpSpPr>
        <p:sp>
          <p:nvSpPr>
            <p:cNvPr id="751" name=""/>
            <p:cNvSpPr/>
            <p:nvPr/>
          </p:nvSpPr>
          <p:spPr>
            <a:xfrm>
              <a:off x="5797440" y="28256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728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330960" y="2819520"/>
            <a:ext cx="520560" cy="527040"/>
            <a:chOff x="6330960" y="2819520"/>
            <a:chExt cx="520560" cy="527040"/>
          </a:xfrm>
        </p:grpSpPr>
        <p:sp>
          <p:nvSpPr>
            <p:cNvPr id="754" name=""/>
            <p:cNvSpPr/>
            <p:nvPr/>
          </p:nvSpPr>
          <p:spPr>
            <a:xfrm>
              <a:off x="6330960" y="28256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8195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063880" y="3352680"/>
            <a:ext cx="520560" cy="527040"/>
            <a:chOff x="2063880" y="3352680"/>
            <a:chExt cx="520560" cy="527040"/>
          </a:xfrm>
        </p:grpSpPr>
        <p:sp>
          <p:nvSpPr>
            <p:cNvPr id="757" name=""/>
            <p:cNvSpPr/>
            <p:nvPr/>
          </p:nvSpPr>
          <p:spPr>
            <a:xfrm>
              <a:off x="20638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337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597040" y="3352680"/>
            <a:ext cx="520920" cy="527040"/>
            <a:chOff x="2597040" y="3352680"/>
            <a:chExt cx="520920" cy="527040"/>
          </a:xfrm>
        </p:grpSpPr>
        <p:sp>
          <p:nvSpPr>
            <p:cNvPr id="760" name=""/>
            <p:cNvSpPr/>
            <p:nvPr/>
          </p:nvSpPr>
          <p:spPr>
            <a:xfrm>
              <a:off x="25970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668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130560" y="3352680"/>
            <a:ext cx="520560" cy="527040"/>
            <a:chOff x="3130560" y="3352680"/>
            <a:chExt cx="520560" cy="527040"/>
          </a:xfrm>
        </p:grpSpPr>
        <p:sp>
          <p:nvSpPr>
            <p:cNvPr id="763" name=""/>
            <p:cNvSpPr/>
            <p:nvPr/>
          </p:nvSpPr>
          <p:spPr>
            <a:xfrm>
              <a:off x="31305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004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664080" y="3352680"/>
            <a:ext cx="520560" cy="527040"/>
            <a:chOff x="3664080" y="3352680"/>
            <a:chExt cx="520560" cy="527040"/>
          </a:xfrm>
        </p:grpSpPr>
        <p:sp>
          <p:nvSpPr>
            <p:cNvPr id="766" name=""/>
            <p:cNvSpPr/>
            <p:nvPr/>
          </p:nvSpPr>
          <p:spPr>
            <a:xfrm>
              <a:off x="36640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39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197240" y="3352680"/>
            <a:ext cx="520920" cy="527040"/>
            <a:chOff x="4197240" y="3352680"/>
            <a:chExt cx="520920" cy="527040"/>
          </a:xfrm>
        </p:grpSpPr>
        <p:sp>
          <p:nvSpPr>
            <p:cNvPr id="769" name=""/>
            <p:cNvSpPr/>
            <p:nvPr/>
          </p:nvSpPr>
          <p:spPr>
            <a:xfrm>
              <a:off x="41972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730760" y="3352680"/>
            <a:ext cx="520560" cy="527040"/>
            <a:chOff x="4730760" y="3352680"/>
            <a:chExt cx="520560" cy="527040"/>
          </a:xfrm>
        </p:grpSpPr>
        <p:sp>
          <p:nvSpPr>
            <p:cNvPr id="772" name=""/>
            <p:cNvSpPr/>
            <p:nvPr/>
          </p:nvSpPr>
          <p:spPr>
            <a:xfrm>
              <a:off x="47307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0060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264280" y="3352680"/>
            <a:ext cx="520560" cy="527040"/>
            <a:chOff x="5264280" y="3352680"/>
            <a:chExt cx="520560" cy="527040"/>
          </a:xfrm>
        </p:grpSpPr>
        <p:sp>
          <p:nvSpPr>
            <p:cNvPr id="775" name=""/>
            <p:cNvSpPr/>
            <p:nvPr/>
          </p:nvSpPr>
          <p:spPr>
            <a:xfrm>
              <a:off x="526428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4120" y="335268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797440" y="3352680"/>
            <a:ext cx="520920" cy="527040"/>
            <a:chOff x="5797440" y="3352680"/>
            <a:chExt cx="520920" cy="527040"/>
          </a:xfrm>
        </p:grpSpPr>
        <p:sp>
          <p:nvSpPr>
            <p:cNvPr id="778" name=""/>
            <p:cNvSpPr/>
            <p:nvPr/>
          </p:nvSpPr>
          <p:spPr>
            <a:xfrm>
              <a:off x="5797440" y="335916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33526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324480" y="3352680"/>
            <a:ext cx="685800" cy="527040"/>
            <a:chOff x="6324480" y="3352680"/>
            <a:chExt cx="685800" cy="527040"/>
          </a:xfrm>
        </p:grpSpPr>
        <p:sp>
          <p:nvSpPr>
            <p:cNvPr id="781" name=""/>
            <p:cNvSpPr/>
            <p:nvPr/>
          </p:nvSpPr>
          <p:spPr>
            <a:xfrm>
              <a:off x="6330960" y="33591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4480" y="33526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063880" y="3886200"/>
            <a:ext cx="520560" cy="527040"/>
            <a:chOff x="2063880" y="3886200"/>
            <a:chExt cx="520560" cy="527040"/>
          </a:xfrm>
        </p:grpSpPr>
        <p:sp>
          <p:nvSpPr>
            <p:cNvPr id="784" name=""/>
            <p:cNvSpPr/>
            <p:nvPr/>
          </p:nvSpPr>
          <p:spPr>
            <a:xfrm>
              <a:off x="20638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337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597040" y="3886200"/>
            <a:ext cx="520920" cy="527040"/>
            <a:chOff x="2597040" y="3886200"/>
            <a:chExt cx="520920" cy="527040"/>
          </a:xfrm>
        </p:grpSpPr>
        <p:sp>
          <p:nvSpPr>
            <p:cNvPr id="787" name=""/>
            <p:cNvSpPr/>
            <p:nvPr/>
          </p:nvSpPr>
          <p:spPr>
            <a:xfrm>
              <a:off x="25970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668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130560" y="3886200"/>
            <a:ext cx="520560" cy="527040"/>
            <a:chOff x="3130560" y="3886200"/>
            <a:chExt cx="520560" cy="527040"/>
          </a:xfrm>
        </p:grpSpPr>
        <p:sp>
          <p:nvSpPr>
            <p:cNvPr id="790" name=""/>
            <p:cNvSpPr/>
            <p:nvPr/>
          </p:nvSpPr>
          <p:spPr>
            <a:xfrm>
              <a:off x="31305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0040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664080" y="3886200"/>
            <a:ext cx="520560" cy="527040"/>
            <a:chOff x="3664080" y="3886200"/>
            <a:chExt cx="520560" cy="527040"/>
          </a:xfrm>
        </p:grpSpPr>
        <p:sp>
          <p:nvSpPr>
            <p:cNvPr id="793" name=""/>
            <p:cNvSpPr/>
            <p:nvPr/>
          </p:nvSpPr>
          <p:spPr>
            <a:xfrm>
              <a:off x="36640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33920" y="388620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197240" y="3886200"/>
            <a:ext cx="520920" cy="527040"/>
            <a:chOff x="4197240" y="3886200"/>
            <a:chExt cx="520920" cy="527040"/>
          </a:xfrm>
        </p:grpSpPr>
        <p:sp>
          <p:nvSpPr>
            <p:cNvPr id="796" name=""/>
            <p:cNvSpPr/>
            <p:nvPr/>
          </p:nvSpPr>
          <p:spPr>
            <a:xfrm>
              <a:off x="41972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67080" y="3886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24280" y="3886200"/>
            <a:ext cx="685800" cy="527040"/>
            <a:chOff x="4724280" y="3886200"/>
            <a:chExt cx="685800" cy="527040"/>
          </a:xfrm>
        </p:grpSpPr>
        <p:sp>
          <p:nvSpPr>
            <p:cNvPr id="799" name=""/>
            <p:cNvSpPr/>
            <p:nvPr/>
          </p:nvSpPr>
          <p:spPr>
            <a:xfrm>
              <a:off x="47307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242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57800" y="3886200"/>
            <a:ext cx="685800" cy="527040"/>
            <a:chOff x="5257800" y="3886200"/>
            <a:chExt cx="685800" cy="527040"/>
          </a:xfrm>
        </p:grpSpPr>
        <p:sp>
          <p:nvSpPr>
            <p:cNvPr id="802" name=""/>
            <p:cNvSpPr/>
            <p:nvPr/>
          </p:nvSpPr>
          <p:spPr>
            <a:xfrm>
              <a:off x="526428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780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791320" y="3886200"/>
            <a:ext cx="685800" cy="527040"/>
            <a:chOff x="5791320" y="3886200"/>
            <a:chExt cx="685800" cy="527040"/>
          </a:xfrm>
        </p:grpSpPr>
        <p:sp>
          <p:nvSpPr>
            <p:cNvPr id="805" name=""/>
            <p:cNvSpPr/>
            <p:nvPr/>
          </p:nvSpPr>
          <p:spPr>
            <a:xfrm>
              <a:off x="5797440" y="3892680"/>
              <a:ext cx="52092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9132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324480" y="3886200"/>
            <a:ext cx="685800" cy="527040"/>
            <a:chOff x="6324480" y="3886200"/>
            <a:chExt cx="685800" cy="527040"/>
          </a:xfrm>
        </p:grpSpPr>
        <p:sp>
          <p:nvSpPr>
            <p:cNvPr id="808" name=""/>
            <p:cNvSpPr/>
            <p:nvPr/>
          </p:nvSpPr>
          <p:spPr>
            <a:xfrm>
              <a:off x="6330960" y="389268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24480" y="38862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063880" y="4419720"/>
            <a:ext cx="520560" cy="527040"/>
            <a:chOff x="2063880" y="4419720"/>
            <a:chExt cx="520560" cy="527040"/>
          </a:xfrm>
        </p:grpSpPr>
        <p:sp>
          <p:nvSpPr>
            <p:cNvPr id="811" name=""/>
            <p:cNvSpPr/>
            <p:nvPr/>
          </p:nvSpPr>
          <p:spPr>
            <a:xfrm>
              <a:off x="20638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337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2597040" y="4419720"/>
            <a:ext cx="520920" cy="527040"/>
            <a:chOff x="2597040" y="4419720"/>
            <a:chExt cx="520920" cy="527040"/>
          </a:xfrm>
        </p:grpSpPr>
        <p:sp>
          <p:nvSpPr>
            <p:cNvPr id="814" name=""/>
            <p:cNvSpPr/>
            <p:nvPr/>
          </p:nvSpPr>
          <p:spPr>
            <a:xfrm>
              <a:off x="25970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668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130560" y="4419720"/>
            <a:ext cx="520560" cy="527040"/>
            <a:chOff x="3130560" y="4419720"/>
            <a:chExt cx="520560" cy="527040"/>
          </a:xfrm>
        </p:grpSpPr>
        <p:sp>
          <p:nvSpPr>
            <p:cNvPr id="817" name=""/>
            <p:cNvSpPr/>
            <p:nvPr/>
          </p:nvSpPr>
          <p:spPr>
            <a:xfrm>
              <a:off x="31305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0040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664080" y="4419720"/>
            <a:ext cx="520560" cy="527040"/>
            <a:chOff x="3664080" y="4419720"/>
            <a:chExt cx="520560" cy="527040"/>
          </a:xfrm>
        </p:grpSpPr>
        <p:sp>
          <p:nvSpPr>
            <p:cNvPr id="820" name=""/>
            <p:cNvSpPr/>
            <p:nvPr/>
          </p:nvSpPr>
          <p:spPr>
            <a:xfrm>
              <a:off x="36640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33920" y="44197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197240" y="4419720"/>
            <a:ext cx="520920" cy="527040"/>
            <a:chOff x="4197240" y="4419720"/>
            <a:chExt cx="520920" cy="527040"/>
          </a:xfrm>
        </p:grpSpPr>
        <p:sp>
          <p:nvSpPr>
            <p:cNvPr id="823" name=""/>
            <p:cNvSpPr/>
            <p:nvPr/>
          </p:nvSpPr>
          <p:spPr>
            <a:xfrm>
              <a:off x="41972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67080" y="44197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724280" y="4419720"/>
            <a:ext cx="685800" cy="527040"/>
            <a:chOff x="4724280" y="4419720"/>
            <a:chExt cx="685800" cy="527040"/>
          </a:xfrm>
        </p:grpSpPr>
        <p:sp>
          <p:nvSpPr>
            <p:cNvPr id="826" name=""/>
            <p:cNvSpPr/>
            <p:nvPr/>
          </p:nvSpPr>
          <p:spPr>
            <a:xfrm>
              <a:off x="47307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242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257800" y="4419720"/>
            <a:ext cx="685800" cy="527040"/>
            <a:chOff x="5257800" y="4419720"/>
            <a:chExt cx="685800" cy="527040"/>
          </a:xfrm>
        </p:grpSpPr>
        <p:sp>
          <p:nvSpPr>
            <p:cNvPr id="829" name=""/>
            <p:cNvSpPr/>
            <p:nvPr/>
          </p:nvSpPr>
          <p:spPr>
            <a:xfrm>
              <a:off x="526428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5780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791320" y="4419720"/>
            <a:ext cx="685800" cy="527040"/>
            <a:chOff x="5791320" y="4419720"/>
            <a:chExt cx="685800" cy="527040"/>
          </a:xfrm>
        </p:grpSpPr>
        <p:sp>
          <p:nvSpPr>
            <p:cNvPr id="832" name=""/>
            <p:cNvSpPr/>
            <p:nvPr/>
          </p:nvSpPr>
          <p:spPr>
            <a:xfrm>
              <a:off x="5797440" y="4425840"/>
              <a:ext cx="52092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9132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6324480" y="4419720"/>
            <a:ext cx="685800" cy="527040"/>
            <a:chOff x="6324480" y="4419720"/>
            <a:chExt cx="685800" cy="527040"/>
          </a:xfrm>
        </p:grpSpPr>
        <p:sp>
          <p:nvSpPr>
            <p:cNvPr id="835" name=""/>
            <p:cNvSpPr/>
            <p:nvPr/>
          </p:nvSpPr>
          <p:spPr>
            <a:xfrm>
              <a:off x="6330960" y="4425840"/>
              <a:ext cx="520560" cy="52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419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324480" y="4952880"/>
            <a:ext cx="685800" cy="527040"/>
            <a:chOff x="6324480" y="4952880"/>
            <a:chExt cx="685800" cy="527040"/>
          </a:xfrm>
        </p:grpSpPr>
        <p:sp>
          <p:nvSpPr>
            <p:cNvPr id="838" name=""/>
            <p:cNvSpPr/>
            <p:nvPr/>
          </p:nvSpPr>
          <p:spPr>
            <a:xfrm>
              <a:off x="6330960" y="4959360"/>
              <a:ext cx="520560" cy="520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44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6095880"/>
            <a:ext cx="78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9:53Z</dcterms:modified>
  <cp:revision>184</cp:revision>
  <dc:subject/>
  <dc:title>Data Representation Methods</dc:title>
</cp:coreProperties>
</file>