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E5E8-2941-445D-89AC-A3E6BD3C15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, b2, b3, …, bn is a better solution that a1, a2, …, an. But a1, …, an is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, b2, b3, …, bn is a better solution that a1, a2, …, an. But a1, …, an is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 recurrence equation on some function of the proble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f(i,y)s computed more than once. Use a dictionary that stores already computed f(i,y)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ights (and hence c) are integer, the number of different y’s on 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t most c+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67A-8721-440F-AB5F-CC72F016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320-2302-4381-A9B1-E321743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503-7B9C-46C2-AA79-5A6273A9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21A-1DF9-4F70-A573-9044185A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28A-3DE2-4AAF-9F5D-E2BA3D13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B44-90B8-4F9D-8229-1AF9737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A58-1660-4B15-A8FE-5B5E481D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DB7-12FE-42BF-95E5-DB953B6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341-6CB2-40EE-9110-5A0CD220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E52-C04D-43C0-82CE-1E0C83D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615-6399-4B90-96B0-94D83B1F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E3B-E526-40CA-8FC7-D5DEBCA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719-4FC9-426B-8134-68C8132ED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le of optim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 Recurrenc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of recurrenc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391520" y="7621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this instance has a better solu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68760" y="167652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90512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1430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447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6002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2440" y="29718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20040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43828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74320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8954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380988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447920" y="5410080"/>
            <a:ext cx="4267080" cy="1446840"/>
            <a:chOff x="1447920" y="5410080"/>
            <a:chExt cx="4267080" cy="1446840"/>
          </a:xfrm>
        </p:grpSpPr>
        <p:sp>
          <p:nvSpPr>
            <p:cNvPr id="100" name=""/>
            <p:cNvSpPr/>
            <p:nvPr/>
          </p:nvSpPr>
          <p:spPr>
            <a:xfrm>
              <a:off x="1447920" y="627696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35040" y="604836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51484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5819760"/>
              <a:ext cx="1523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b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   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3680" y="59436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61722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2520" y="54100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5715000"/>
              <a:ext cx="914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a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etter solution to the original instance tha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an optimal solution … a contradiction with the assumption that it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, consider the c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decision the stat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, c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n optimal solution to the knapsack instance given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c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this instance has a better solu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8760" y="167652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190512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14300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447920"/>
            <a:ext cx="91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6002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92440" y="29718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320040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43828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74320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-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8954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80988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47920" y="5410080"/>
            <a:ext cx="4267080" cy="1446840"/>
            <a:chOff x="1447920" y="5410080"/>
            <a:chExt cx="4267080" cy="1446840"/>
          </a:xfrm>
        </p:grpSpPr>
        <p:sp>
          <p:nvSpPr>
            <p:cNvPr id="129" name=""/>
            <p:cNvSpPr/>
            <p:nvPr/>
          </p:nvSpPr>
          <p:spPr>
            <a:xfrm>
              <a:off x="1447920" y="627696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604836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51484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5819760"/>
              <a:ext cx="1523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b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   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73680" y="59436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61722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54100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5715000"/>
              <a:ext cx="914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a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=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etter solution to the original instance tha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 an optimal solution … a contradiction with the assumption that it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no matter what the first decision, the remaining decisions are optimal with respect to the state that results from this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nciple of optim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and dynamic programming may be app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profit value of the optimal solution to the knapsack instance defined by the stat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time being assume that we wish to determine only the value of the best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we will worry about determining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hat yield this maximum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is assumption, our task is to deter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1,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alue of the optimal solution to the knapsack instance defined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n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alue of the optimal solution to the knapsack instance defined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capac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in the optimal solution for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first decision is to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inciple of optimality (we have shown that this principle holds for the knapsack problem), it follow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f(i+1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 Recurr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other possibility for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 decis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rise only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y &gt;=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inciple of optimality, it follow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f(i+1,y-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, 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f(i+1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lt; 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 = max{f(i+1,y), f(i+1,y-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+ 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y &gt;= w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quence Of Dec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n the greedy method, the solution to a problem is viewed as the result of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the greedy method, decisions are not made in a greedy and binding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C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** @return f(i,y)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vate static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 == n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&lt; w[n]) ? 0 : p[n]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 &lt; w[i]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i + 1, y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h.max(f(i + 1, 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i + 1, y - w[i]) + p[i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2133720"/>
            <a:ext cx="9144000" cy="4470840"/>
            <a:chOff x="0" y="2133720"/>
            <a:chExt cx="9144000" cy="4470840"/>
          </a:xfrm>
        </p:grpSpPr>
        <p:sp>
          <p:nvSpPr>
            <p:cNvPr id="157" name=""/>
            <p:cNvSpPr/>
            <p:nvPr/>
          </p:nvSpPr>
          <p:spPr>
            <a:xfrm>
              <a:off x="4038480" y="213372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1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304812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52120" y="2590920"/>
              <a:ext cx="2590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3048120"/>
              <a:ext cx="1830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8320" y="2590920"/>
              <a:ext cx="25905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294920" y="3505320"/>
              <a:ext cx="6858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3962520"/>
              <a:ext cx="1828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0" y="3505320"/>
              <a:ext cx="9144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212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441972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80520" y="525780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334120"/>
              <a:ext cx="22860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5235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71800" y="4419720"/>
              <a:ext cx="38088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1280" y="4419720"/>
              <a:ext cx="3812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9520" y="5257800"/>
              <a:ext cx="304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62360" y="3505320"/>
              <a:ext cx="9903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7400" y="3962520"/>
              <a:ext cx="1755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3505320"/>
              <a:ext cx="9907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95288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4495680"/>
              <a:ext cx="3049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315200" y="4419720"/>
              <a:ext cx="5335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01000" y="4495680"/>
              <a:ext cx="4572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7813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5334120"/>
              <a:ext cx="38124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38862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668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2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1680" y="396252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800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0720" y="4800600"/>
              <a:ext cx="1830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09680" y="4800600"/>
              <a:ext cx="1295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5638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638320" y="51814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257800"/>
              <a:ext cx="30492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77320" y="5181480"/>
              <a:ext cx="38088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34520" y="5257800"/>
              <a:ext cx="38088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809520" y="533412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1480" y="480060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609588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when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are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&lt;= 2t(n-1) +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CLOCK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304920" y="5486400"/>
            <a:ext cx="8839080" cy="1068840"/>
            <a:chOff x="304920" y="5486400"/>
            <a:chExt cx="8839080" cy="1068840"/>
          </a:xfrm>
        </p:grpSpPr>
        <p:sp>
          <p:nvSpPr>
            <p:cNvPr id="206" name=""/>
            <p:cNvSpPr/>
            <p:nvPr/>
          </p:nvSpPr>
          <p:spPr>
            <a:xfrm>
              <a:off x="304920" y="5486400"/>
              <a:ext cx="883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ving dynamic programming recurrences recursively can be hazardous to run tim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ANIWARN" descr=""/>
            <p:cNvPicPr/>
            <p:nvPr/>
          </p:nvPicPr>
          <p:blipFill>
            <a:blip r:embed="rId2"/>
            <a:stretch/>
          </p:blipFill>
          <p:spPr>
            <a:xfrm>
              <a:off x="8153280" y="5638680"/>
              <a:ext cx="73188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ucing Run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unner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582480" cy="5828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0" y="2133720"/>
            <a:ext cx="9144000" cy="4470840"/>
            <a:chOff x="0" y="2133720"/>
            <a:chExt cx="9144000" cy="4470840"/>
          </a:xfrm>
        </p:grpSpPr>
        <p:sp>
          <p:nvSpPr>
            <p:cNvPr id="212" name=""/>
            <p:cNvSpPr/>
            <p:nvPr/>
          </p:nvSpPr>
          <p:spPr>
            <a:xfrm>
              <a:off x="4038480" y="213372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1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304812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752120" y="2590920"/>
              <a:ext cx="2590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9920" y="3048120"/>
              <a:ext cx="1830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2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2590920"/>
              <a:ext cx="25905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294920" y="3505320"/>
              <a:ext cx="6858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600" y="3962520"/>
              <a:ext cx="1828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0" y="3505320"/>
              <a:ext cx="91440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6212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441972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0520" y="525780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20" y="5334120"/>
              <a:ext cx="22860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5235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971800" y="4419720"/>
              <a:ext cx="38088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1280" y="4419720"/>
              <a:ext cx="3812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19520" y="5257800"/>
              <a:ext cx="30456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40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562360" y="3505320"/>
              <a:ext cx="99036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07400" y="3962520"/>
              <a:ext cx="1755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3505320"/>
              <a:ext cx="9907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952880" y="441972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4495680"/>
              <a:ext cx="30492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5334120"/>
              <a:ext cx="3049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315200" y="4419720"/>
              <a:ext cx="5335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01000" y="4495680"/>
              <a:ext cx="45720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81320" y="5257800"/>
              <a:ext cx="38124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8880" y="5334120"/>
              <a:ext cx="38124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38862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24280" y="3962520"/>
              <a:ext cx="1830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1680" y="396252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3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600" y="480060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90720" y="4800600"/>
              <a:ext cx="1830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4800600"/>
              <a:ext cx="1295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5638680"/>
              <a:ext cx="91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638320" y="51814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5880" y="5257800"/>
              <a:ext cx="30492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077320" y="5181480"/>
              <a:ext cx="38088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34520" y="5257800"/>
              <a:ext cx="38088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809520" y="5334120"/>
              <a:ext cx="30492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480060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4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6095880"/>
              <a:ext cx="2362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(5,c-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–w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recursion tree has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uch node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pu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nodes may compute the sa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save time by not recomputing already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compu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a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mputed recursively only whe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(i,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in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the dictionary value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CLOCK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ger We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each weight is an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napsack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be assumed to be an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y 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ough 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recursion tree has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,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diffe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ger Weights Dictiona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][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1:n][0:c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Array[i][y] = 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i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 yet comp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itialization is done before the recursive method is invo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ization 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c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 Recomputation C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ivate static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Array[i][y] &gt;= 0)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 == n)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 =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&lt; w[n]) ? 0 : p[n]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rray[i][y];}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 &lt; w[i]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(i + 1, y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h.max(f(i + 1, 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i + 1, y - w[i]) + p[i]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ay[i][y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CANDLE09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549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c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done in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v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0010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0003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32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[10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n = 30303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CLOCK43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760" y="320040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429000"/>
            <a:ext cx="1219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666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97180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12408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2440" y="4495680"/>
            <a:ext cx="523800" cy="306360"/>
          </a:xfrm>
          <a:custGeom>
            <a:avLst/>
            <a:gdLst/>
            <a:ahLst/>
            <a:rect l="l" t="t" r="r" b="b"/>
            <a:pathLst>
              <a:path w="330" h="193">
                <a:moveTo>
                  <a:pt x="245" y="0"/>
                </a:moveTo>
                <a:lnTo>
                  <a:pt x="188" y="0"/>
                </a:lnTo>
                <a:lnTo>
                  <a:pt x="158" y="0"/>
                </a:lnTo>
                <a:lnTo>
                  <a:pt x="118" y="0"/>
                </a:lnTo>
                <a:lnTo>
                  <a:pt x="69" y="0"/>
                </a:lnTo>
                <a:lnTo>
                  <a:pt x="29" y="0"/>
                </a:lnTo>
                <a:lnTo>
                  <a:pt x="0" y="0"/>
                </a:lnTo>
                <a:lnTo>
                  <a:pt x="20" y="11"/>
                </a:lnTo>
                <a:lnTo>
                  <a:pt x="49" y="26"/>
                </a:lnTo>
                <a:lnTo>
                  <a:pt x="69" y="41"/>
                </a:lnTo>
                <a:lnTo>
                  <a:pt x="89" y="56"/>
                </a:lnTo>
                <a:lnTo>
                  <a:pt x="118" y="67"/>
                </a:lnTo>
                <a:lnTo>
                  <a:pt x="138" y="82"/>
                </a:lnTo>
                <a:lnTo>
                  <a:pt x="158" y="97"/>
                </a:lnTo>
                <a:lnTo>
                  <a:pt x="148" y="112"/>
                </a:lnTo>
                <a:lnTo>
                  <a:pt x="129" y="127"/>
                </a:lnTo>
                <a:lnTo>
                  <a:pt x="109" y="142"/>
                </a:lnTo>
                <a:lnTo>
                  <a:pt x="99" y="156"/>
                </a:lnTo>
                <a:lnTo>
                  <a:pt x="69" y="176"/>
                </a:lnTo>
                <a:lnTo>
                  <a:pt x="59" y="192"/>
                </a:lnTo>
                <a:lnTo>
                  <a:pt x="99" y="192"/>
                </a:lnTo>
                <a:lnTo>
                  <a:pt x="129" y="192"/>
                </a:lnTo>
                <a:lnTo>
                  <a:pt x="158" y="192"/>
                </a:lnTo>
                <a:lnTo>
                  <a:pt x="188" y="192"/>
                </a:lnTo>
                <a:lnTo>
                  <a:pt x="218" y="192"/>
                </a:lnTo>
                <a:lnTo>
                  <a:pt x="247" y="192"/>
                </a:lnTo>
                <a:lnTo>
                  <a:pt x="276" y="192"/>
                </a:lnTo>
                <a:lnTo>
                  <a:pt x="316" y="192"/>
                </a:lnTo>
                <a:lnTo>
                  <a:pt x="329" y="19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72428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9625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267080"/>
            <a:ext cx="2438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4197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19920"/>
            <a:ext cx="678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ll profits and weights ar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iker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quence Of Dec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any othe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ECISION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e of the 0/1 knapsack problem is given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s and profits of the availabl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of the knaps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ecision on one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s made, the problem stat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 longer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knapsack capacity may be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state of the problem is described by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1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(the weights, profits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mplic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knapsack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first decision the state becomes one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2,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2, c-w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lem Sta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state of the problem is described by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n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 (the weights, profits and first item index are implic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ailable knapsack capacity i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first decision the state becomes one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n-1,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n-1, c-w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when the decision is to 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nciple Of Optima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olution satisfies the following proper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the first decision, the remaining decisions are optimal with respect to the state that results from this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962520"/>
            <a:ext cx="8763120" cy="1911960"/>
            <a:chOff x="380880" y="3962520"/>
            <a:chExt cx="8763120" cy="1911960"/>
          </a:xfrm>
        </p:grpSpPr>
        <p:pic>
          <p:nvPicPr>
            <p:cNvPr id="81" name="RED-BLIN" descr=""/>
            <p:cNvPicPr/>
            <p:nvPr/>
          </p:nvPicPr>
          <p:blipFill>
            <a:blip r:embed="rId1"/>
            <a:stretch/>
          </p:blipFill>
          <p:spPr>
            <a:xfrm>
              <a:off x="6248520" y="4724280"/>
              <a:ext cx="32040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0880" y="3962520"/>
              <a:ext cx="8763120" cy="19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ynamic programming may be used only w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e principle of optimality hold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decisions are m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optimal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follow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first decision the stat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, 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n optimal solution to the knapsack instance given by the st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iker" descr=""/>
          <p:cNvPicPr/>
          <p:nvPr/>
        </p:nvPicPr>
        <p:blipFill>
          <a:blip r:embed="rId1"/>
          <a:stretch/>
        </p:blipFill>
        <p:spPr>
          <a:xfrm>
            <a:off x="7848720" y="228600"/>
            <a:ext cx="628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7:11Z</dcterms:modified>
  <cp:revision>176</cp:revision>
  <dc:subject/>
  <dc:title>Data Representation Methods</dc:title>
</cp:coreProperties>
</file>