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-144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9360" y="701280"/>
            <a:ext cx="4626000" cy="346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AC5DF-9157-4239-AF2A-9DAC913DD2D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ertion sort divides a large instance into two smaller instances. These smaller instances are of a very different size: n-1 vs 1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2336-E79C-4117-B0B4-0F4D0F62B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2E0A-B23E-4E9A-8B3E-8A7619086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F041-9CA6-4308-B65B-0077DD3D2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9FE8-5050-4AD2-85C5-56DB5623B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D2FF-60B5-4244-A5BD-099356EC6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D777-5121-4841-B371-370024981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FB72-3C11-4047-93F7-3FBE92B2A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D2DA-A7E5-4CC6-87EF-697D3B5B1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B826-2B9A-4B01-9A03-25E712B15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4ADC-8F8A-4DEB-B54D-178ADCCD8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2BF1-24CE-4B90-83E0-655C6B4A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9260-3B07-427E-8654-B76F776A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EBB58-32EC-4513-A884-95014086F0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ivide-And-Conquer Sort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4560" y="15238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 in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 &lt;= 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 &lt;= 1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’ll us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 &lt;= 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n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 in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 into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k &gt;= 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er insta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k =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does each smaller instance look lik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rt smaller instances recursiv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 you combine the sorted smaller instanc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erge Two Sorted Lis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 = (5, 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 = (3, 8, 9, 1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 = (1, 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A = (5, 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B = (8, 9, 1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 = (1, 2, 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 = (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 = (8, 9, 1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 = (1, 2, 3, 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erge Two Sorted Lis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 = (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 = (8, 9, 1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 = (1, 2, 3, 5, 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one of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B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omes empty, append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ther list to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1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 needed to move an element int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time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 + m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, respectively, the number of elements initially in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erge Sor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00200" y="2133720"/>
            <a:ext cx="6400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8, 3, 13, 6, 2, 14, 5, 9, 10, 1, 7, 12, 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3048120"/>
            <a:ext cx="3657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8, 3, 13, 6, 2, 14, 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752120" y="2590920"/>
            <a:ext cx="2590920" cy="5331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03720" y="3048120"/>
            <a:ext cx="3354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9, 10, 1, 7, 12, 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48320" y="2590920"/>
            <a:ext cx="2590560" cy="5331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3962520"/>
            <a:ext cx="2133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8, 3, 13, 6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294920" y="3505320"/>
            <a:ext cx="685800" cy="5331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3962520"/>
            <a:ext cx="1828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2, 14, 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0" y="3505320"/>
            <a:ext cx="914400" cy="5331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2280" y="4800600"/>
            <a:ext cx="1067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8, 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762120" y="4419720"/>
            <a:ext cx="457200" cy="457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43000" y="4800600"/>
            <a:ext cx="1371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13, 6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523880" y="4419720"/>
            <a:ext cx="304920" cy="457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5562720"/>
            <a:ext cx="68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8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80520" y="5257800"/>
            <a:ext cx="30492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5562720"/>
            <a:ext cx="762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5334120"/>
            <a:ext cx="228600" cy="304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43000" y="5562720"/>
            <a:ext cx="9144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1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1523520" y="52578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5562720"/>
            <a:ext cx="761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6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81080" y="5334120"/>
            <a:ext cx="304920" cy="304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438280" y="4800600"/>
            <a:ext cx="1295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2, 1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2971800" y="4419720"/>
            <a:ext cx="380880" cy="5331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657600" y="4800600"/>
            <a:ext cx="68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581280" y="4419720"/>
            <a:ext cx="381240" cy="457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14600" y="5562720"/>
            <a:ext cx="762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2819520" y="5257800"/>
            <a:ext cx="30456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124080" y="5562720"/>
            <a:ext cx="990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1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276720" y="5334120"/>
            <a:ext cx="304560" cy="304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70560" y="3962520"/>
            <a:ext cx="1677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9, 10, 1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5562360" y="3505320"/>
            <a:ext cx="990360" cy="5331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007400" y="3962520"/>
            <a:ext cx="1755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7, 12, 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781680" y="3505320"/>
            <a:ext cx="990720" cy="5331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417920" y="4800600"/>
            <a:ext cx="12970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9, 10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952880" y="4419720"/>
            <a:ext cx="457200" cy="457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13560" y="4800600"/>
            <a:ext cx="763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1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638680" y="4495680"/>
            <a:ext cx="304920" cy="3812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89320" y="5562720"/>
            <a:ext cx="763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9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4572000" y="5257800"/>
            <a:ext cx="45720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75120" y="5562720"/>
            <a:ext cx="916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10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81480" y="5334120"/>
            <a:ext cx="304920" cy="304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626160" y="4800600"/>
            <a:ext cx="1451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7, 1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7315200" y="4419720"/>
            <a:ext cx="533520" cy="457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074080" y="4800600"/>
            <a:ext cx="841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001000" y="4495680"/>
            <a:ext cx="457200" cy="3812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397560" y="5562720"/>
            <a:ext cx="6890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7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6781320" y="52578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236000" y="5562720"/>
            <a:ext cx="917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1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238880" y="5334120"/>
            <a:ext cx="381240" cy="304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erge Sor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212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1752120" y="2590920"/>
            <a:ext cx="2590920" cy="5331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648320" y="2590920"/>
            <a:ext cx="2590560" cy="5331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1294920" y="3505320"/>
            <a:ext cx="685800" cy="5331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0" y="3505320"/>
            <a:ext cx="914400" cy="5331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2280" y="4800600"/>
            <a:ext cx="1067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3, 8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762120" y="4419720"/>
            <a:ext cx="457200" cy="457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43000" y="4800600"/>
            <a:ext cx="1371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6, 1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3962520"/>
            <a:ext cx="2133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3, 6, 8, 1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23880" y="4419720"/>
            <a:ext cx="304920" cy="457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5562720"/>
            <a:ext cx="68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8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380520" y="5257800"/>
            <a:ext cx="30492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5562720"/>
            <a:ext cx="762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62120" y="5334120"/>
            <a:ext cx="228600" cy="304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43000" y="5562720"/>
            <a:ext cx="9144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1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523520" y="52578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05120" y="5562720"/>
            <a:ext cx="761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6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81080" y="5334120"/>
            <a:ext cx="304920" cy="304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438280" y="4800600"/>
            <a:ext cx="1295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2, 1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14600" y="3962520"/>
            <a:ext cx="1828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2, 5, 1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04920" y="3048120"/>
            <a:ext cx="3657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2, 3, 5, 6, 8, 13, 1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971800" y="4419720"/>
            <a:ext cx="380880" cy="5331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657600" y="4800600"/>
            <a:ext cx="68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581280" y="4419720"/>
            <a:ext cx="381240" cy="457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514600" y="5562720"/>
            <a:ext cx="762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2819520" y="5257800"/>
            <a:ext cx="30456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24080" y="5562720"/>
            <a:ext cx="990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1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76720" y="5334120"/>
            <a:ext cx="304560" cy="304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562360" y="3505320"/>
            <a:ext cx="990360" cy="5331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781680" y="3505320"/>
            <a:ext cx="990720" cy="5331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17920" y="4800600"/>
            <a:ext cx="12970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9, 10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70560" y="3962520"/>
            <a:ext cx="1677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1, 9, 10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4952880" y="4419720"/>
            <a:ext cx="457200" cy="457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713560" y="4800600"/>
            <a:ext cx="763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1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638680" y="4495680"/>
            <a:ext cx="304920" cy="3812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189320" y="5562720"/>
            <a:ext cx="763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9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572000" y="5257800"/>
            <a:ext cx="45720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875120" y="5562720"/>
            <a:ext cx="916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10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181480" y="5334120"/>
            <a:ext cx="304920" cy="304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626160" y="4800600"/>
            <a:ext cx="1451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7, 1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07400" y="3962520"/>
            <a:ext cx="1755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4, 7, 1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103720" y="3048120"/>
            <a:ext cx="3354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1, 4, 7, 9, 10,1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133720"/>
            <a:ext cx="6400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1, 2, 3, 4, 5, 6, 7, 8, 9, 10, 12, 13,1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7315200" y="4419720"/>
            <a:ext cx="533520" cy="457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074080" y="4800600"/>
            <a:ext cx="841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001000" y="4495680"/>
            <a:ext cx="457200" cy="3812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397560" y="5562720"/>
            <a:ext cx="6890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7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6781320" y="52578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236000" y="5562720"/>
            <a:ext cx="917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1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238880" y="5334120"/>
            <a:ext cx="381240" cy="304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ime Complexit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(n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the time required to sor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(0) = t(1) = 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consta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&gt;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(n) = t(ceil(n/2)) + t(floor(n/2)) + d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consta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solve the recurrence, assum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power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eated substit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(n) = O(n log 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erge Sor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ward pass over the recursion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 large instances into small 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ward pass over the recursion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rge pairs of sorted li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of leaf nodes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of nonleaf nodes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ime Complexit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ward p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1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 at each no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n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tal time at all no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ward p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n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 merging at each level that has a nonleaf no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levels i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log n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time i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n log n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Nonrecursive Vers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iminate downward p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with sorted lists of siz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do pairwise merging of these sorted lists as in the upward p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Nonrecursive Merge Sor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6212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77760" y="1676520"/>
            <a:ext cx="9064800" cy="579960"/>
            <a:chOff x="77760" y="1676520"/>
            <a:chExt cx="9064800" cy="579960"/>
          </a:xfrm>
        </p:grpSpPr>
        <p:sp>
          <p:nvSpPr>
            <p:cNvPr id="217" name=""/>
            <p:cNvSpPr/>
            <p:nvPr/>
          </p:nvSpPr>
          <p:spPr>
            <a:xfrm>
              <a:off x="77760" y="1676520"/>
              <a:ext cx="7603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[8]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63560" y="1676520"/>
              <a:ext cx="6843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[3]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449360" y="1676520"/>
              <a:ext cx="9129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[13]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287440" y="1676520"/>
              <a:ext cx="6843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[6]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973240" y="1676520"/>
              <a:ext cx="6843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[2]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506760" y="1676520"/>
              <a:ext cx="9889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[14]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268880" y="1676520"/>
              <a:ext cx="7603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[5]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878360" y="1676520"/>
              <a:ext cx="6843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[9]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564160" y="1676520"/>
              <a:ext cx="9129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[10]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326280" y="1676520"/>
              <a:ext cx="6840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[1]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935760" y="1676520"/>
              <a:ext cx="6843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[7]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21560" y="1676520"/>
              <a:ext cx="9129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[12]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383680" y="1676520"/>
              <a:ext cx="7588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[4]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228600" y="2209680"/>
            <a:ext cx="1066680" cy="1448640"/>
            <a:chOff x="228600" y="2209680"/>
            <a:chExt cx="1066680" cy="1448640"/>
          </a:xfrm>
        </p:grpSpPr>
        <p:sp>
          <p:nvSpPr>
            <p:cNvPr id="231" name=""/>
            <p:cNvSpPr/>
            <p:nvPr/>
          </p:nvSpPr>
          <p:spPr>
            <a:xfrm>
              <a:off x="228600" y="2590920"/>
              <a:ext cx="10666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[3, 8]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80880" y="2209680"/>
              <a:ext cx="304920" cy="45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837720" y="2209680"/>
              <a:ext cx="228600" cy="45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1600200" y="2209680"/>
            <a:ext cx="1447920" cy="961200"/>
            <a:chOff x="1600200" y="2209680"/>
            <a:chExt cx="1447920" cy="961200"/>
          </a:xfrm>
        </p:grpSpPr>
        <p:sp>
          <p:nvSpPr>
            <p:cNvPr id="235" name=""/>
            <p:cNvSpPr/>
            <p:nvPr/>
          </p:nvSpPr>
          <p:spPr>
            <a:xfrm>
              <a:off x="1600200" y="2590920"/>
              <a:ext cx="14479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[6, 13]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05120" y="2209680"/>
              <a:ext cx="304560" cy="45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2361960" y="2209680"/>
              <a:ext cx="228600" cy="45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2971800" y="2209680"/>
            <a:ext cx="1371600" cy="961200"/>
            <a:chOff x="2971800" y="2209680"/>
            <a:chExt cx="1371600" cy="961200"/>
          </a:xfrm>
        </p:grpSpPr>
        <p:sp>
          <p:nvSpPr>
            <p:cNvPr id="239" name=""/>
            <p:cNvSpPr/>
            <p:nvPr/>
          </p:nvSpPr>
          <p:spPr>
            <a:xfrm>
              <a:off x="2971800" y="2590920"/>
              <a:ext cx="1371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[2, 14]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276720" y="2209680"/>
              <a:ext cx="304560" cy="45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3733560" y="2209680"/>
              <a:ext cx="228600" cy="45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4343400" y="2286000"/>
            <a:ext cx="1066680" cy="1372320"/>
            <a:chOff x="4343400" y="2286000"/>
            <a:chExt cx="1066680" cy="1372320"/>
          </a:xfrm>
        </p:grpSpPr>
        <p:sp>
          <p:nvSpPr>
            <p:cNvPr id="243" name=""/>
            <p:cNvSpPr/>
            <p:nvPr/>
          </p:nvSpPr>
          <p:spPr>
            <a:xfrm>
              <a:off x="4343400" y="2590920"/>
              <a:ext cx="10666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[5, 9]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572000" y="2286000"/>
              <a:ext cx="304920" cy="45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4952520" y="2286000"/>
              <a:ext cx="228600" cy="45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5715000" y="2209680"/>
            <a:ext cx="1295280" cy="961200"/>
            <a:chOff x="5715000" y="2209680"/>
            <a:chExt cx="1295280" cy="961200"/>
          </a:xfrm>
        </p:grpSpPr>
        <p:sp>
          <p:nvSpPr>
            <p:cNvPr id="247" name=""/>
            <p:cNvSpPr/>
            <p:nvPr/>
          </p:nvSpPr>
          <p:spPr>
            <a:xfrm>
              <a:off x="5715000" y="2590920"/>
              <a:ext cx="12952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[1, 10]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943600" y="2209680"/>
              <a:ext cx="304920" cy="45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6324120" y="2209680"/>
              <a:ext cx="228600" cy="45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7086600" y="2209680"/>
            <a:ext cx="1295280" cy="961200"/>
            <a:chOff x="7086600" y="2209680"/>
            <a:chExt cx="1295280" cy="961200"/>
          </a:xfrm>
        </p:grpSpPr>
        <p:sp>
          <p:nvSpPr>
            <p:cNvPr id="251" name=""/>
            <p:cNvSpPr/>
            <p:nvPr/>
          </p:nvSpPr>
          <p:spPr>
            <a:xfrm>
              <a:off x="7086600" y="2590920"/>
              <a:ext cx="12952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[7, 12]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238880" y="2209680"/>
              <a:ext cx="304920" cy="45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7848360" y="2209680"/>
              <a:ext cx="228600" cy="45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461440" y="2133720"/>
            <a:ext cx="758880" cy="1037160"/>
            <a:chOff x="8461440" y="2133720"/>
            <a:chExt cx="758880" cy="1037160"/>
          </a:xfrm>
        </p:grpSpPr>
        <p:sp>
          <p:nvSpPr>
            <p:cNvPr id="255" name=""/>
            <p:cNvSpPr/>
            <p:nvPr/>
          </p:nvSpPr>
          <p:spPr>
            <a:xfrm>
              <a:off x="8461440" y="2590920"/>
              <a:ext cx="7588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[4]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686800" y="2133720"/>
              <a:ext cx="0" cy="533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457200" y="3124080"/>
            <a:ext cx="2286000" cy="1113480"/>
            <a:chOff x="457200" y="3124080"/>
            <a:chExt cx="2286000" cy="1113480"/>
          </a:xfrm>
        </p:grpSpPr>
        <p:sp>
          <p:nvSpPr>
            <p:cNvPr id="258" name=""/>
            <p:cNvSpPr/>
            <p:nvPr/>
          </p:nvSpPr>
          <p:spPr>
            <a:xfrm>
              <a:off x="457200" y="3657600"/>
              <a:ext cx="22860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[3, 6, 8, 13]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62120" y="3124080"/>
              <a:ext cx="609480" cy="609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1599840" y="3124080"/>
              <a:ext cx="685800" cy="609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3048120" y="3124080"/>
            <a:ext cx="2286000" cy="1113480"/>
            <a:chOff x="3048120" y="3124080"/>
            <a:chExt cx="2286000" cy="1113480"/>
          </a:xfrm>
        </p:grpSpPr>
        <p:sp>
          <p:nvSpPr>
            <p:cNvPr id="262" name=""/>
            <p:cNvSpPr/>
            <p:nvPr/>
          </p:nvSpPr>
          <p:spPr>
            <a:xfrm>
              <a:off x="3048120" y="3657600"/>
              <a:ext cx="22860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[2, 5, 9, 14]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352680" y="3124080"/>
              <a:ext cx="609840" cy="609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4190760" y="3124080"/>
              <a:ext cx="685800" cy="609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5867280" y="3124080"/>
            <a:ext cx="2286000" cy="1600920"/>
            <a:chOff x="5867280" y="3124080"/>
            <a:chExt cx="2286000" cy="1600920"/>
          </a:xfrm>
        </p:grpSpPr>
        <p:sp>
          <p:nvSpPr>
            <p:cNvPr id="266" name=""/>
            <p:cNvSpPr/>
            <p:nvPr/>
          </p:nvSpPr>
          <p:spPr>
            <a:xfrm>
              <a:off x="5867280" y="3657600"/>
              <a:ext cx="22860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[1, 7, 10, 12]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172200" y="3124080"/>
              <a:ext cx="609480" cy="609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7009920" y="3124080"/>
              <a:ext cx="685800" cy="609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8462880" y="3124080"/>
            <a:ext cx="758880" cy="1037160"/>
            <a:chOff x="8462880" y="3124080"/>
            <a:chExt cx="758880" cy="1037160"/>
          </a:xfrm>
        </p:grpSpPr>
        <p:sp>
          <p:nvSpPr>
            <p:cNvPr id="270" name=""/>
            <p:cNvSpPr/>
            <p:nvPr/>
          </p:nvSpPr>
          <p:spPr>
            <a:xfrm>
              <a:off x="8462880" y="3581280"/>
              <a:ext cx="7588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[4]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688240" y="3124080"/>
              <a:ext cx="0" cy="533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1143000" y="4191120"/>
            <a:ext cx="4191120" cy="1341720"/>
            <a:chOff x="1143000" y="4191120"/>
            <a:chExt cx="4191120" cy="1341720"/>
          </a:xfrm>
        </p:grpSpPr>
        <p:sp>
          <p:nvSpPr>
            <p:cNvPr id="273" name=""/>
            <p:cNvSpPr/>
            <p:nvPr/>
          </p:nvSpPr>
          <p:spPr>
            <a:xfrm>
              <a:off x="1143000" y="4952880"/>
              <a:ext cx="4191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[2, 3, 5, 6, 8, 9, 13, 14]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666800" y="4191120"/>
              <a:ext cx="1135080" cy="838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3325680" y="4267080"/>
              <a:ext cx="789120" cy="68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6095880" y="4114800"/>
            <a:ext cx="2895840" cy="1342080"/>
            <a:chOff x="6095880" y="4114800"/>
            <a:chExt cx="2895840" cy="1342080"/>
          </a:xfrm>
        </p:grpSpPr>
        <p:sp>
          <p:nvSpPr>
            <p:cNvPr id="277" name=""/>
            <p:cNvSpPr/>
            <p:nvPr/>
          </p:nvSpPr>
          <p:spPr>
            <a:xfrm>
              <a:off x="6095880" y="4876920"/>
              <a:ext cx="2895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[1, 4, 7, 10, 12]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58040" y="4114800"/>
              <a:ext cx="782640" cy="838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7603920" y="4114800"/>
              <a:ext cx="965160" cy="762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2360520" y="5334120"/>
            <a:ext cx="6782040" cy="1113120"/>
            <a:chOff x="2360520" y="5334120"/>
            <a:chExt cx="6782040" cy="1113120"/>
          </a:xfrm>
        </p:grpSpPr>
        <p:sp>
          <p:nvSpPr>
            <p:cNvPr id="281" name=""/>
            <p:cNvSpPr/>
            <p:nvPr/>
          </p:nvSpPr>
          <p:spPr>
            <a:xfrm>
              <a:off x="2360520" y="5867280"/>
              <a:ext cx="67820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[1, 2, 3, 4, 5, 6, 7, 8, 9, 10, 12, 13, 14]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2" name=""/>
            <p:cNvGrpSpPr/>
            <p:nvPr/>
          </p:nvGrpSpPr>
          <p:grpSpPr>
            <a:xfrm>
              <a:off x="3505320" y="5334120"/>
              <a:ext cx="4190400" cy="533160"/>
              <a:chOff x="3505320" y="5334120"/>
              <a:chExt cx="4190400" cy="533160"/>
            </a:xfrm>
          </p:grpSpPr>
          <p:sp>
            <p:nvSpPr>
              <p:cNvPr id="283" name=""/>
              <p:cNvSpPr/>
              <p:nvPr/>
            </p:nvSpPr>
            <p:spPr>
              <a:xfrm>
                <a:off x="3505320" y="5410080"/>
                <a:ext cx="1828800" cy="4572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6095520" y="5334120"/>
                <a:ext cx="1600200" cy="5331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lexit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ed segment size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of merge passes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eil(log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merge pass take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time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 log 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itional space for the mer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rge sort is slower than insertion sort whe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&lt;= 15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pproximately). So define a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mall instanc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be an instance wit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&lt;= 1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 small instances using insertion so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with segment siz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1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sertion Sor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 =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- 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s 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[0:n-2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define one of the smaller instances; last element 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[n-1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defines the second smaller in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[0:n-2]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sorted recursive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[n-1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ma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04920" y="1523880"/>
            <a:ext cx="8533800" cy="1143000"/>
            <a:chOff x="304920" y="1523880"/>
            <a:chExt cx="8533800" cy="1143000"/>
          </a:xfrm>
        </p:grpSpPr>
        <p:sp>
          <p:nvSpPr>
            <p:cNvPr id="53" name=""/>
            <p:cNvSpPr/>
            <p:nvPr/>
          </p:nvSpPr>
          <p:spPr>
            <a:xfrm>
              <a:off x="609480" y="2133360"/>
              <a:ext cx="7391160" cy="5335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920" y="152388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a[0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848360" y="167616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a[n-1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609480" y="1600200"/>
            <a:ext cx="7162920" cy="1066680"/>
            <a:chOff x="609480" y="1600200"/>
            <a:chExt cx="7162920" cy="1066680"/>
          </a:xfrm>
        </p:grpSpPr>
        <p:sp>
          <p:nvSpPr>
            <p:cNvPr id="57" name=""/>
            <p:cNvSpPr/>
            <p:nvPr/>
          </p:nvSpPr>
          <p:spPr>
            <a:xfrm>
              <a:off x="609480" y="2133720"/>
              <a:ext cx="7010280" cy="533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781680" y="160020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a[n-2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7620120" y="2133720"/>
            <a:ext cx="380880" cy="5331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Natural Merge Sor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 sorted segments are the naturally ocurring sorted segments in the inp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pu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[8, 9, 10, 2, 5, 7, 9, 11, 13, 15, 6, 12, 14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 segments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8, 9, 10] [2, 5, 7, 9, 11, 13, 15] [6, 12, 1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instead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erge passes suff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gment boundaries hav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[i] &gt; a[i+1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Quick Sor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763120" cy="586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instance ha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 &lt;=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Every small instance is a sorted inst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sort a large instance, select a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pivo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 from out of th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th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s into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up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lef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midd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igh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midd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roup contains only th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piv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l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elements in th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lef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roup ar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&lt;= piv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elements in th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ight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up ar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&gt;= piv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rt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lef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igh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roups recursiv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swer is sorted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lef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roup, followed by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midd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roup followed by sorted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igh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rou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914400" y="1676520"/>
            <a:ext cx="5943600" cy="579240"/>
            <a:chOff x="914400" y="1676520"/>
            <a:chExt cx="5943600" cy="579240"/>
          </a:xfrm>
        </p:grpSpPr>
        <p:grpSp>
          <p:nvGrpSpPr>
            <p:cNvPr id="293" name=""/>
            <p:cNvGrpSpPr/>
            <p:nvPr/>
          </p:nvGrpSpPr>
          <p:grpSpPr>
            <a:xfrm>
              <a:off x="1758960" y="1676520"/>
              <a:ext cx="5099040" cy="519120"/>
              <a:chOff x="1758960" y="1676520"/>
              <a:chExt cx="5099040" cy="519120"/>
            </a:xfrm>
          </p:grpSpPr>
          <p:sp>
            <p:nvSpPr>
              <p:cNvPr id="294" name=""/>
              <p:cNvSpPr/>
              <p:nvPr/>
            </p:nvSpPr>
            <p:spPr>
              <a:xfrm>
                <a:off x="1758960" y="17589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812960" y="167652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ff"/>
                    </a:solidFill>
                    <a:latin typeface="Times New Roman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216160" y="17589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270160" y="167652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673360" y="17589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727360" y="167652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130560" y="17589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184560" y="167652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587760" y="17589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565440" y="1676520"/>
                <a:ext cx="62568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044960" y="17589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022640" y="1676520"/>
                <a:ext cx="7016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502160" y="17589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556160" y="167652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959360" y="17589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013360" y="167652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416560" y="17589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470560" y="167652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873760" y="17589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927760" y="167652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330960" y="17589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384960" y="167652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6" name=""/>
            <p:cNvSpPr/>
            <p:nvPr/>
          </p:nvSpPr>
          <p:spPr>
            <a:xfrm>
              <a:off x="914400" y="1676520"/>
              <a:ext cx="4572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990720" y="2971800"/>
            <a:ext cx="7162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6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the piv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990720" y="4572000"/>
            <a:ext cx="5708520" cy="579600"/>
            <a:chOff x="990720" y="4572000"/>
            <a:chExt cx="5708520" cy="579600"/>
          </a:xfrm>
        </p:grpSpPr>
        <p:grpSp>
          <p:nvGrpSpPr>
            <p:cNvPr id="319" name=""/>
            <p:cNvGrpSpPr/>
            <p:nvPr/>
          </p:nvGrpSpPr>
          <p:grpSpPr>
            <a:xfrm>
              <a:off x="990720" y="4572000"/>
              <a:ext cx="5708520" cy="579600"/>
              <a:chOff x="990720" y="4572000"/>
              <a:chExt cx="5708520" cy="579600"/>
            </a:xfrm>
          </p:grpSpPr>
          <p:sp>
            <p:nvSpPr>
              <p:cNvPr id="320" name=""/>
              <p:cNvSpPr/>
              <p:nvPr/>
            </p:nvSpPr>
            <p:spPr>
              <a:xfrm>
                <a:off x="1682640" y="46544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139840" y="46544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597040" y="46544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054240" y="46544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511440" y="46544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968640" y="46544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425840" y="46544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883040" y="46544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340240" y="46544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797440" y="46544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254640" y="46544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990720" y="4572000"/>
                <a:ext cx="4572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1682640" y="4572000"/>
              <a:ext cx="444600" cy="519120"/>
              <a:chOff x="1682640" y="4572000"/>
              <a:chExt cx="444600" cy="519120"/>
            </a:xfrm>
          </p:grpSpPr>
          <p:sp>
            <p:nvSpPr>
              <p:cNvPr id="333" name=""/>
              <p:cNvSpPr/>
              <p:nvPr/>
            </p:nvSpPr>
            <p:spPr>
              <a:xfrm>
                <a:off x="1682640" y="4654440"/>
                <a:ext cx="444600" cy="3682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736640" y="4572000"/>
                <a:ext cx="1843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6254640" y="4572000"/>
              <a:ext cx="444600" cy="519120"/>
              <a:chOff x="6254640" y="4572000"/>
              <a:chExt cx="444600" cy="519120"/>
            </a:xfrm>
          </p:grpSpPr>
          <p:sp>
            <p:nvSpPr>
              <p:cNvPr id="336" name=""/>
              <p:cNvSpPr/>
              <p:nvPr/>
            </p:nvSpPr>
            <p:spPr>
              <a:xfrm>
                <a:off x="6254640" y="4654440"/>
                <a:ext cx="444600" cy="3682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308640" y="4572000"/>
                <a:ext cx="1843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2139840" y="4572000"/>
              <a:ext cx="444600" cy="519120"/>
              <a:chOff x="2139840" y="4572000"/>
              <a:chExt cx="444600" cy="519120"/>
            </a:xfrm>
          </p:grpSpPr>
          <p:sp>
            <p:nvSpPr>
              <p:cNvPr id="339" name=""/>
              <p:cNvSpPr/>
              <p:nvPr/>
            </p:nvSpPr>
            <p:spPr>
              <a:xfrm>
                <a:off x="2139840" y="4654440"/>
                <a:ext cx="444600" cy="3682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193840" y="4572000"/>
                <a:ext cx="1843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5775480" y="4572000"/>
              <a:ext cx="701640" cy="519120"/>
              <a:chOff x="5775480" y="4572000"/>
              <a:chExt cx="701640" cy="519120"/>
            </a:xfrm>
          </p:grpSpPr>
          <p:sp>
            <p:nvSpPr>
              <p:cNvPr id="342" name=""/>
              <p:cNvSpPr/>
              <p:nvPr/>
            </p:nvSpPr>
            <p:spPr>
              <a:xfrm>
                <a:off x="5797440" y="4654440"/>
                <a:ext cx="444600" cy="3682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775480" y="4572000"/>
                <a:ext cx="7016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5318280" y="4572000"/>
              <a:ext cx="701640" cy="519120"/>
              <a:chOff x="5318280" y="4572000"/>
              <a:chExt cx="701640" cy="519120"/>
            </a:xfrm>
          </p:grpSpPr>
          <p:sp>
            <p:nvSpPr>
              <p:cNvPr id="345" name=""/>
              <p:cNvSpPr/>
              <p:nvPr/>
            </p:nvSpPr>
            <p:spPr>
              <a:xfrm>
                <a:off x="5340240" y="4654440"/>
                <a:ext cx="444600" cy="3682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318280" y="4572000"/>
                <a:ext cx="7016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2597040" y="4572000"/>
              <a:ext cx="444600" cy="519120"/>
              <a:chOff x="2597040" y="4572000"/>
              <a:chExt cx="444600" cy="519120"/>
            </a:xfrm>
          </p:grpSpPr>
          <p:sp>
            <p:nvSpPr>
              <p:cNvPr id="348" name=""/>
              <p:cNvSpPr/>
              <p:nvPr/>
            </p:nvSpPr>
            <p:spPr>
              <a:xfrm>
                <a:off x="2597040" y="4654440"/>
                <a:ext cx="444600" cy="3682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651040" y="4572000"/>
                <a:ext cx="1843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3054240" y="4572000"/>
              <a:ext cx="444600" cy="519120"/>
              <a:chOff x="3054240" y="4572000"/>
              <a:chExt cx="444600" cy="519120"/>
            </a:xfrm>
          </p:grpSpPr>
          <p:sp>
            <p:nvSpPr>
              <p:cNvPr id="351" name=""/>
              <p:cNvSpPr/>
              <p:nvPr/>
            </p:nvSpPr>
            <p:spPr>
              <a:xfrm>
                <a:off x="3054240" y="4654440"/>
                <a:ext cx="444600" cy="3682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108240" y="4572000"/>
                <a:ext cx="1843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4883040" y="4572000"/>
              <a:ext cx="444600" cy="519120"/>
              <a:chOff x="4883040" y="4572000"/>
              <a:chExt cx="444600" cy="519120"/>
            </a:xfrm>
          </p:grpSpPr>
          <p:sp>
            <p:nvSpPr>
              <p:cNvPr id="354" name=""/>
              <p:cNvSpPr/>
              <p:nvPr/>
            </p:nvSpPr>
            <p:spPr>
              <a:xfrm>
                <a:off x="4883040" y="4654440"/>
                <a:ext cx="444600" cy="3682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937040" y="4572000"/>
                <a:ext cx="1843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4425840" y="4572000"/>
              <a:ext cx="444600" cy="519120"/>
              <a:chOff x="4425840" y="4572000"/>
              <a:chExt cx="444600" cy="519120"/>
            </a:xfrm>
          </p:grpSpPr>
          <p:sp>
            <p:nvSpPr>
              <p:cNvPr id="357" name=""/>
              <p:cNvSpPr/>
              <p:nvPr/>
            </p:nvSpPr>
            <p:spPr>
              <a:xfrm>
                <a:off x="4425840" y="4654440"/>
                <a:ext cx="444600" cy="3682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479840" y="4572000"/>
                <a:ext cx="1843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3511440" y="4572000"/>
              <a:ext cx="444600" cy="519120"/>
              <a:chOff x="3511440" y="4572000"/>
              <a:chExt cx="444600" cy="519120"/>
            </a:xfrm>
          </p:grpSpPr>
          <p:sp>
            <p:nvSpPr>
              <p:cNvPr id="360" name=""/>
              <p:cNvSpPr/>
              <p:nvPr/>
            </p:nvSpPr>
            <p:spPr>
              <a:xfrm>
                <a:off x="3511440" y="4654440"/>
                <a:ext cx="444600" cy="3682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565440" y="4572000"/>
                <a:ext cx="1843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3968640" y="4572000"/>
              <a:ext cx="444600" cy="519120"/>
              <a:chOff x="3968640" y="4572000"/>
              <a:chExt cx="444600" cy="519120"/>
            </a:xfrm>
          </p:grpSpPr>
          <p:sp>
            <p:nvSpPr>
              <p:cNvPr id="363" name=""/>
              <p:cNvSpPr/>
              <p:nvPr/>
            </p:nvSpPr>
            <p:spPr>
              <a:xfrm>
                <a:off x="3968640" y="4654440"/>
                <a:ext cx="444600" cy="36828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022640" y="4572000"/>
                <a:ext cx="1843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5" name=""/>
          <p:cNvSpPr/>
          <p:nvPr/>
        </p:nvSpPr>
        <p:spPr>
          <a:xfrm>
            <a:off x="990720" y="5867280"/>
            <a:ext cx="7162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 left and right groups recursive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hoice Of Pivo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vot is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leftmo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lement in list that is to be sor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sorting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[6:20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us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[6]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the pivot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 implementation does th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Randoml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 one of the elements to be sorted as the piv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sorting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[6:20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generate a random number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 rang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[6, 20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Us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[r]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the piv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hoice Of Pivo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51920" y="1219320"/>
            <a:ext cx="8915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Median-of-Three ru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From the leftmost, middle, and rightmost elements of the list to be sorted, select the one with median key as the piv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sorting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[6:20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examin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[6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a[13] ((6+20)/2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a[20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the element with median (i.e., middle) k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[6].key = 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a[13].key =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a[20].key = 1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[20]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omes the piv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[6].key = 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a[13].key =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a[20].key = 1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[6]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omes the piv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hoice Of Pivo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89154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[6].key = 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a[13].key = 2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a[20].key = 1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[13]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omes the piv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 pivot is picked at random or when the median-of-three rule is used, we can use the quick sort code of the text provided we first swap the leftmost element and the chosen piv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996840" y="5546880"/>
            <a:ext cx="6845400" cy="549000"/>
            <a:chOff x="996840" y="5546880"/>
            <a:chExt cx="6845400" cy="549000"/>
          </a:xfrm>
        </p:grpSpPr>
        <p:sp>
          <p:nvSpPr>
            <p:cNvPr id="373" name=""/>
            <p:cNvSpPr/>
            <p:nvPr/>
          </p:nvSpPr>
          <p:spPr>
            <a:xfrm>
              <a:off x="996840" y="5568840"/>
              <a:ext cx="6845400" cy="520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447920" y="55627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905120" y="55627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362320" y="55627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819520" y="55627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276720" y="55627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733920" y="55627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191120" y="55627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648320" y="55627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105520" y="55627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562720" y="55627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019920" y="55627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477120" y="55627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934320" y="55627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391520" y="55627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127160" y="554688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4492800" y="5568840"/>
            <a:ext cx="992160" cy="1122480"/>
            <a:chOff x="4492800" y="5568840"/>
            <a:chExt cx="992160" cy="1122480"/>
          </a:xfrm>
        </p:grpSpPr>
        <p:sp>
          <p:nvSpPr>
            <p:cNvPr id="390" name=""/>
            <p:cNvSpPr/>
            <p:nvPr/>
          </p:nvSpPr>
          <p:spPr>
            <a:xfrm>
              <a:off x="4654440" y="5568840"/>
              <a:ext cx="444600" cy="52092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492800" y="6172200"/>
              <a:ext cx="9921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piv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996840" y="5568840"/>
            <a:ext cx="444600" cy="52092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219320" y="4724280"/>
            <a:ext cx="3733560" cy="945720"/>
            <a:chOff x="1219320" y="4724280"/>
            <a:chExt cx="3733560" cy="945720"/>
          </a:xfrm>
        </p:grpSpPr>
        <p:sp>
          <p:nvSpPr>
            <p:cNvPr id="394" name=""/>
            <p:cNvSpPr/>
            <p:nvPr/>
          </p:nvSpPr>
          <p:spPr>
            <a:xfrm>
              <a:off x="2590920" y="4724280"/>
              <a:ext cx="91440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swa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5" name=""/>
            <p:cNvGrpSpPr/>
            <p:nvPr/>
          </p:nvGrpSpPr>
          <p:grpSpPr>
            <a:xfrm>
              <a:off x="1219320" y="5029200"/>
              <a:ext cx="3733560" cy="533520"/>
              <a:chOff x="1219320" y="5029200"/>
              <a:chExt cx="3733560" cy="533520"/>
            </a:xfrm>
          </p:grpSpPr>
          <p:sp>
            <p:nvSpPr>
              <p:cNvPr id="396" name=""/>
              <p:cNvSpPr/>
              <p:nvPr/>
            </p:nvSpPr>
            <p:spPr>
              <a:xfrm flipH="1">
                <a:off x="1219320" y="5029200"/>
                <a:ext cx="1218960" cy="53352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581280" y="5105520"/>
                <a:ext cx="1371600" cy="45720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artitioning Into Three Group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53416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 = [6, 2, 8, 5, 11, 10, 4, 1, 9, 7, 3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ftmost element 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th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iv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nother arra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vailab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a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left to right (omit the pivot in this scan), placing element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&lt;= piv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t the left end of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the remaining elements at the right end of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ivot is placed at the remaining position of th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artitioning Example Using Additional Arra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914400" y="1676520"/>
            <a:ext cx="5943600" cy="579960"/>
            <a:chOff x="914400" y="1676520"/>
            <a:chExt cx="5943600" cy="579960"/>
          </a:xfrm>
        </p:grpSpPr>
        <p:grpSp>
          <p:nvGrpSpPr>
            <p:cNvPr id="402" name=""/>
            <p:cNvGrpSpPr/>
            <p:nvPr/>
          </p:nvGrpSpPr>
          <p:grpSpPr>
            <a:xfrm>
              <a:off x="1758960" y="1676520"/>
              <a:ext cx="5099040" cy="519120"/>
              <a:chOff x="1758960" y="1676520"/>
              <a:chExt cx="5099040" cy="519120"/>
            </a:xfrm>
          </p:grpSpPr>
          <p:sp>
            <p:nvSpPr>
              <p:cNvPr id="403" name=""/>
              <p:cNvSpPr/>
              <p:nvPr/>
            </p:nvSpPr>
            <p:spPr>
              <a:xfrm>
                <a:off x="1758960" y="17589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812960" y="167652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ff"/>
                    </a:solidFill>
                    <a:latin typeface="Times New Roman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2216160" y="17589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70160" y="167652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673360" y="17589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727360" y="167652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130560" y="17589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184560" y="167652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587760" y="17589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565440" y="1676520"/>
                <a:ext cx="62568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044960" y="17589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022640" y="1676520"/>
                <a:ext cx="7016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502160" y="17589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556160" y="167652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959360" y="17589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013360" y="167652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416560" y="17589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5470560" y="167652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5873760" y="17589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5927760" y="167652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330960" y="17589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384960" y="167652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5" name=""/>
            <p:cNvSpPr/>
            <p:nvPr/>
          </p:nvSpPr>
          <p:spPr>
            <a:xfrm>
              <a:off x="914400" y="1676520"/>
              <a:ext cx="4572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990720" y="3276720"/>
            <a:ext cx="5708520" cy="579960"/>
            <a:chOff x="990720" y="3276720"/>
            <a:chExt cx="5708520" cy="579960"/>
          </a:xfrm>
        </p:grpSpPr>
        <p:sp>
          <p:nvSpPr>
            <p:cNvPr id="427" name=""/>
            <p:cNvSpPr/>
            <p:nvPr/>
          </p:nvSpPr>
          <p:spPr>
            <a:xfrm>
              <a:off x="1682640" y="3359160"/>
              <a:ext cx="44460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139840" y="3359160"/>
              <a:ext cx="44460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597040" y="3359160"/>
              <a:ext cx="44460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054240" y="3359160"/>
              <a:ext cx="44460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511440" y="3359160"/>
              <a:ext cx="44460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968640" y="3359160"/>
              <a:ext cx="44460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425840" y="3359160"/>
              <a:ext cx="44460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883040" y="3359160"/>
              <a:ext cx="44460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340240" y="3359160"/>
              <a:ext cx="44460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797440" y="3359160"/>
              <a:ext cx="44460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254640" y="3359160"/>
              <a:ext cx="44460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990720" y="3276720"/>
              <a:ext cx="4572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1682640" y="3276720"/>
            <a:ext cx="444600" cy="519120"/>
            <a:chOff x="1682640" y="3276720"/>
            <a:chExt cx="444600" cy="519120"/>
          </a:xfrm>
        </p:grpSpPr>
        <p:sp>
          <p:nvSpPr>
            <p:cNvPr id="440" name=""/>
            <p:cNvSpPr/>
            <p:nvPr/>
          </p:nvSpPr>
          <p:spPr>
            <a:xfrm>
              <a:off x="1682640" y="3359160"/>
              <a:ext cx="44460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736640" y="3276720"/>
              <a:ext cx="184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6254640" y="3276720"/>
            <a:ext cx="444600" cy="519120"/>
            <a:chOff x="6254640" y="3276720"/>
            <a:chExt cx="444600" cy="519120"/>
          </a:xfrm>
        </p:grpSpPr>
        <p:sp>
          <p:nvSpPr>
            <p:cNvPr id="443" name=""/>
            <p:cNvSpPr/>
            <p:nvPr/>
          </p:nvSpPr>
          <p:spPr>
            <a:xfrm>
              <a:off x="6254640" y="3359160"/>
              <a:ext cx="44460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308640" y="3276720"/>
              <a:ext cx="184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2139840" y="3276720"/>
            <a:ext cx="444600" cy="519120"/>
            <a:chOff x="2139840" y="3276720"/>
            <a:chExt cx="444600" cy="519120"/>
          </a:xfrm>
        </p:grpSpPr>
        <p:sp>
          <p:nvSpPr>
            <p:cNvPr id="446" name=""/>
            <p:cNvSpPr/>
            <p:nvPr/>
          </p:nvSpPr>
          <p:spPr>
            <a:xfrm>
              <a:off x="2139840" y="3359160"/>
              <a:ext cx="44460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193840" y="3276720"/>
              <a:ext cx="184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5775480" y="3276720"/>
            <a:ext cx="701640" cy="519120"/>
            <a:chOff x="5775480" y="3276720"/>
            <a:chExt cx="701640" cy="519120"/>
          </a:xfrm>
        </p:grpSpPr>
        <p:sp>
          <p:nvSpPr>
            <p:cNvPr id="449" name=""/>
            <p:cNvSpPr/>
            <p:nvPr/>
          </p:nvSpPr>
          <p:spPr>
            <a:xfrm>
              <a:off x="5797440" y="3359160"/>
              <a:ext cx="44460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775480" y="327672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5318280" y="3276720"/>
            <a:ext cx="701640" cy="519120"/>
            <a:chOff x="5318280" y="3276720"/>
            <a:chExt cx="701640" cy="519120"/>
          </a:xfrm>
        </p:grpSpPr>
        <p:sp>
          <p:nvSpPr>
            <p:cNvPr id="452" name=""/>
            <p:cNvSpPr/>
            <p:nvPr/>
          </p:nvSpPr>
          <p:spPr>
            <a:xfrm>
              <a:off x="5340240" y="3359160"/>
              <a:ext cx="44460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318280" y="327672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2597040" y="3276720"/>
            <a:ext cx="444600" cy="519120"/>
            <a:chOff x="2597040" y="3276720"/>
            <a:chExt cx="444600" cy="519120"/>
          </a:xfrm>
        </p:grpSpPr>
        <p:sp>
          <p:nvSpPr>
            <p:cNvPr id="455" name=""/>
            <p:cNvSpPr/>
            <p:nvPr/>
          </p:nvSpPr>
          <p:spPr>
            <a:xfrm>
              <a:off x="2597040" y="3359160"/>
              <a:ext cx="44460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651040" y="3276720"/>
              <a:ext cx="184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3054240" y="3276720"/>
            <a:ext cx="444600" cy="519120"/>
            <a:chOff x="3054240" y="3276720"/>
            <a:chExt cx="444600" cy="519120"/>
          </a:xfrm>
        </p:grpSpPr>
        <p:sp>
          <p:nvSpPr>
            <p:cNvPr id="458" name=""/>
            <p:cNvSpPr/>
            <p:nvPr/>
          </p:nvSpPr>
          <p:spPr>
            <a:xfrm>
              <a:off x="3054240" y="3359160"/>
              <a:ext cx="44460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108240" y="3276720"/>
              <a:ext cx="184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4883040" y="3276720"/>
            <a:ext cx="444600" cy="519120"/>
            <a:chOff x="4883040" y="3276720"/>
            <a:chExt cx="444600" cy="519120"/>
          </a:xfrm>
        </p:grpSpPr>
        <p:sp>
          <p:nvSpPr>
            <p:cNvPr id="461" name=""/>
            <p:cNvSpPr/>
            <p:nvPr/>
          </p:nvSpPr>
          <p:spPr>
            <a:xfrm>
              <a:off x="4883040" y="3359160"/>
              <a:ext cx="44460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937040" y="3276720"/>
              <a:ext cx="184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4425840" y="3276720"/>
            <a:ext cx="444600" cy="519120"/>
            <a:chOff x="4425840" y="3276720"/>
            <a:chExt cx="444600" cy="519120"/>
          </a:xfrm>
        </p:grpSpPr>
        <p:sp>
          <p:nvSpPr>
            <p:cNvPr id="464" name=""/>
            <p:cNvSpPr/>
            <p:nvPr/>
          </p:nvSpPr>
          <p:spPr>
            <a:xfrm>
              <a:off x="4425840" y="3359160"/>
              <a:ext cx="44460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479840" y="3276720"/>
              <a:ext cx="184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3511440" y="3276720"/>
            <a:ext cx="444600" cy="519120"/>
            <a:chOff x="3511440" y="3276720"/>
            <a:chExt cx="444600" cy="519120"/>
          </a:xfrm>
        </p:grpSpPr>
        <p:sp>
          <p:nvSpPr>
            <p:cNvPr id="467" name=""/>
            <p:cNvSpPr/>
            <p:nvPr/>
          </p:nvSpPr>
          <p:spPr>
            <a:xfrm>
              <a:off x="3511440" y="3359160"/>
              <a:ext cx="44460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565440" y="3276720"/>
              <a:ext cx="184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3968640" y="3276720"/>
            <a:ext cx="444600" cy="519120"/>
            <a:chOff x="3968640" y="3276720"/>
            <a:chExt cx="444600" cy="519120"/>
          </a:xfrm>
        </p:grpSpPr>
        <p:sp>
          <p:nvSpPr>
            <p:cNvPr id="470" name=""/>
            <p:cNvSpPr/>
            <p:nvPr/>
          </p:nvSpPr>
          <p:spPr>
            <a:xfrm>
              <a:off x="3968640" y="3359160"/>
              <a:ext cx="44460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022640" y="3276720"/>
              <a:ext cx="184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2" name=""/>
          <p:cNvSpPr/>
          <p:nvPr/>
        </p:nvSpPr>
        <p:spPr>
          <a:xfrm>
            <a:off x="914400" y="4876920"/>
            <a:ext cx="71629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 left and right groups recursive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-place Partition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leftmost element (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bigEle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&gt;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piv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rightmost element (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mallEle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&lt;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piv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ap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bigElemen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mallElemen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d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bigElement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o the left of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mallEle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e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-Place Partitioning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1143000" y="1143000"/>
            <a:ext cx="5943600" cy="579960"/>
            <a:chOff x="1143000" y="1143000"/>
            <a:chExt cx="5943600" cy="579960"/>
          </a:xfrm>
        </p:grpSpPr>
        <p:grpSp>
          <p:nvGrpSpPr>
            <p:cNvPr id="477" name=""/>
            <p:cNvGrpSpPr/>
            <p:nvPr/>
          </p:nvGrpSpPr>
          <p:grpSpPr>
            <a:xfrm>
              <a:off x="1143000" y="1143000"/>
              <a:ext cx="5943600" cy="579960"/>
              <a:chOff x="1143000" y="1143000"/>
              <a:chExt cx="5943600" cy="579960"/>
            </a:xfrm>
          </p:grpSpPr>
          <p:sp>
            <p:nvSpPr>
              <p:cNvPr id="478" name=""/>
              <p:cNvSpPr/>
              <p:nvPr/>
            </p:nvSpPr>
            <p:spPr>
              <a:xfrm>
                <a:off x="1987560" y="12254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2041560" y="114300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2444760" y="12254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2498760" y="114300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2901960" y="12254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2955960" y="114300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3359160" y="12254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3413160" y="114300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3816360" y="12254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3794040" y="1143000"/>
                <a:ext cx="62568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273560" y="12254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251240" y="1143000"/>
                <a:ext cx="7016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4730760" y="12254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784760" y="114300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187960" y="12254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241960" y="114300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645160" y="12254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699160" y="114300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102360" y="12254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6156360" y="114300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6559560" y="12254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6613560" y="114300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143000" y="1143000"/>
                <a:ext cx="45720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33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1" name=""/>
            <p:cNvGrpSpPr/>
            <p:nvPr/>
          </p:nvGrpSpPr>
          <p:grpSpPr>
            <a:xfrm>
              <a:off x="1987560" y="1143000"/>
              <a:ext cx="527040" cy="519120"/>
              <a:chOff x="1987560" y="1143000"/>
              <a:chExt cx="527040" cy="519120"/>
            </a:xfrm>
          </p:grpSpPr>
          <p:sp>
            <p:nvSpPr>
              <p:cNvPr id="502" name=""/>
              <p:cNvSpPr/>
              <p:nvPr/>
            </p:nvSpPr>
            <p:spPr>
              <a:xfrm>
                <a:off x="1987560" y="1225440"/>
                <a:ext cx="444600" cy="368280"/>
              </a:xfrm>
              <a:prstGeom prst="rect">
                <a:avLst/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041560" y="114300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4" name=""/>
          <p:cNvGrpSpPr/>
          <p:nvPr/>
        </p:nvGrpSpPr>
        <p:grpSpPr>
          <a:xfrm>
            <a:off x="2901960" y="1143000"/>
            <a:ext cx="527040" cy="519120"/>
            <a:chOff x="2901960" y="1143000"/>
            <a:chExt cx="527040" cy="519120"/>
          </a:xfrm>
        </p:grpSpPr>
        <p:sp>
          <p:nvSpPr>
            <p:cNvPr id="505" name=""/>
            <p:cNvSpPr/>
            <p:nvPr/>
          </p:nvSpPr>
          <p:spPr>
            <a:xfrm>
              <a:off x="2901960" y="1225440"/>
              <a:ext cx="44460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955960" y="1143000"/>
              <a:ext cx="473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6559560" y="1143000"/>
            <a:ext cx="527040" cy="519120"/>
            <a:chOff x="6559560" y="1143000"/>
            <a:chExt cx="527040" cy="519120"/>
          </a:xfrm>
        </p:grpSpPr>
        <p:sp>
          <p:nvSpPr>
            <p:cNvPr id="508" name=""/>
            <p:cNvSpPr/>
            <p:nvPr/>
          </p:nvSpPr>
          <p:spPr>
            <a:xfrm>
              <a:off x="6559560" y="1225440"/>
              <a:ext cx="44460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613560" y="1143000"/>
              <a:ext cx="473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1143000" y="2057400"/>
            <a:ext cx="5943600" cy="579960"/>
            <a:chOff x="1143000" y="2057400"/>
            <a:chExt cx="5943600" cy="579960"/>
          </a:xfrm>
        </p:grpSpPr>
        <p:grpSp>
          <p:nvGrpSpPr>
            <p:cNvPr id="511" name=""/>
            <p:cNvGrpSpPr/>
            <p:nvPr/>
          </p:nvGrpSpPr>
          <p:grpSpPr>
            <a:xfrm>
              <a:off x="1143000" y="2057400"/>
              <a:ext cx="5943600" cy="579960"/>
              <a:chOff x="1143000" y="2057400"/>
              <a:chExt cx="5943600" cy="579960"/>
            </a:xfrm>
          </p:grpSpPr>
          <p:sp>
            <p:nvSpPr>
              <p:cNvPr id="512" name=""/>
              <p:cNvSpPr/>
              <p:nvPr/>
            </p:nvSpPr>
            <p:spPr>
              <a:xfrm>
                <a:off x="1987560" y="21398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2041560" y="205740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2444760" y="21398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2498760" y="205740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2901960" y="21398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2955960" y="205740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3359160" y="21398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3413160" y="205740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3816360" y="21398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3794040" y="2057400"/>
                <a:ext cx="62568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273560" y="21398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251240" y="2057400"/>
                <a:ext cx="7016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730760" y="21398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784760" y="205740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187960" y="21398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241960" y="205740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645160" y="21398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699160" y="205740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6102360" y="21398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6156360" y="205740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6559560" y="21398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613560" y="205740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1143000" y="2057400"/>
                <a:ext cx="45720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33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5" name=""/>
            <p:cNvGrpSpPr/>
            <p:nvPr/>
          </p:nvGrpSpPr>
          <p:grpSpPr>
            <a:xfrm>
              <a:off x="1987560" y="2057400"/>
              <a:ext cx="527040" cy="519120"/>
              <a:chOff x="1987560" y="2057400"/>
              <a:chExt cx="527040" cy="519120"/>
            </a:xfrm>
          </p:grpSpPr>
          <p:sp>
            <p:nvSpPr>
              <p:cNvPr id="536" name=""/>
              <p:cNvSpPr/>
              <p:nvPr/>
            </p:nvSpPr>
            <p:spPr>
              <a:xfrm>
                <a:off x="1987560" y="2139840"/>
                <a:ext cx="444600" cy="368280"/>
              </a:xfrm>
              <a:prstGeom prst="rect">
                <a:avLst/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2041560" y="205740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8" name=""/>
          <p:cNvGrpSpPr/>
          <p:nvPr/>
        </p:nvGrpSpPr>
        <p:grpSpPr>
          <a:xfrm>
            <a:off x="3794040" y="2057400"/>
            <a:ext cx="625680" cy="519120"/>
            <a:chOff x="3794040" y="2057400"/>
            <a:chExt cx="625680" cy="519120"/>
          </a:xfrm>
        </p:grpSpPr>
        <p:sp>
          <p:nvSpPr>
            <p:cNvPr id="539" name=""/>
            <p:cNvSpPr/>
            <p:nvPr/>
          </p:nvSpPr>
          <p:spPr>
            <a:xfrm>
              <a:off x="3816360" y="2139840"/>
              <a:ext cx="44460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794040" y="2057400"/>
              <a:ext cx="6256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"/>
          <p:cNvGrpSpPr/>
          <p:nvPr/>
        </p:nvGrpSpPr>
        <p:grpSpPr>
          <a:xfrm>
            <a:off x="5187960" y="2057400"/>
            <a:ext cx="527040" cy="519120"/>
            <a:chOff x="5187960" y="2057400"/>
            <a:chExt cx="527040" cy="519120"/>
          </a:xfrm>
        </p:grpSpPr>
        <p:sp>
          <p:nvSpPr>
            <p:cNvPr id="542" name=""/>
            <p:cNvSpPr/>
            <p:nvPr/>
          </p:nvSpPr>
          <p:spPr>
            <a:xfrm>
              <a:off x="5187960" y="2139840"/>
              <a:ext cx="44460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241960" y="2057400"/>
              <a:ext cx="473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1143000" y="2895480"/>
            <a:ext cx="5943600" cy="579960"/>
            <a:chOff x="1143000" y="2895480"/>
            <a:chExt cx="5943600" cy="579960"/>
          </a:xfrm>
        </p:grpSpPr>
        <p:grpSp>
          <p:nvGrpSpPr>
            <p:cNvPr id="545" name=""/>
            <p:cNvGrpSpPr/>
            <p:nvPr/>
          </p:nvGrpSpPr>
          <p:grpSpPr>
            <a:xfrm>
              <a:off x="1143000" y="2895480"/>
              <a:ext cx="5943600" cy="579960"/>
              <a:chOff x="1143000" y="2895480"/>
              <a:chExt cx="5943600" cy="579960"/>
            </a:xfrm>
          </p:grpSpPr>
          <p:sp>
            <p:nvSpPr>
              <p:cNvPr id="546" name=""/>
              <p:cNvSpPr/>
              <p:nvPr/>
            </p:nvSpPr>
            <p:spPr>
              <a:xfrm>
                <a:off x="1987560" y="297828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2041560" y="289548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2444760" y="297828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498760" y="289548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2901960" y="297828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2955960" y="289548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3359160" y="297828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3413160" y="289548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816360" y="297828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870360" y="2895480"/>
                <a:ext cx="6253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273560" y="297828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251240" y="2895480"/>
                <a:ext cx="7016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4730760" y="297828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4784760" y="289548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187960" y="297828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165640" y="2895480"/>
                <a:ext cx="62568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645160" y="297828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699160" y="289548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102360" y="297828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156360" y="289548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559560" y="297828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6613560" y="289548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1143000" y="2895480"/>
                <a:ext cx="45720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33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1987560" y="2895480"/>
              <a:ext cx="527040" cy="519120"/>
              <a:chOff x="1987560" y="2895480"/>
              <a:chExt cx="527040" cy="519120"/>
            </a:xfrm>
          </p:grpSpPr>
          <p:sp>
            <p:nvSpPr>
              <p:cNvPr id="570" name=""/>
              <p:cNvSpPr/>
              <p:nvPr/>
            </p:nvSpPr>
            <p:spPr>
              <a:xfrm>
                <a:off x="1987560" y="2978280"/>
                <a:ext cx="444600" cy="368280"/>
              </a:xfrm>
              <a:prstGeom prst="rect">
                <a:avLst/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2041560" y="289548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2" name=""/>
          <p:cNvGrpSpPr/>
          <p:nvPr/>
        </p:nvGrpSpPr>
        <p:grpSpPr>
          <a:xfrm>
            <a:off x="4251240" y="2895480"/>
            <a:ext cx="625680" cy="519120"/>
            <a:chOff x="4251240" y="2895480"/>
            <a:chExt cx="625680" cy="519120"/>
          </a:xfrm>
        </p:grpSpPr>
        <p:sp>
          <p:nvSpPr>
            <p:cNvPr id="573" name=""/>
            <p:cNvSpPr/>
            <p:nvPr/>
          </p:nvSpPr>
          <p:spPr>
            <a:xfrm>
              <a:off x="4273560" y="2978280"/>
              <a:ext cx="44460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251240" y="2895480"/>
              <a:ext cx="6256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4730760" y="2895480"/>
            <a:ext cx="527040" cy="519120"/>
            <a:chOff x="4730760" y="2895480"/>
            <a:chExt cx="527040" cy="519120"/>
          </a:xfrm>
        </p:grpSpPr>
        <p:sp>
          <p:nvSpPr>
            <p:cNvPr id="576" name=""/>
            <p:cNvSpPr/>
            <p:nvPr/>
          </p:nvSpPr>
          <p:spPr>
            <a:xfrm>
              <a:off x="4730760" y="2978280"/>
              <a:ext cx="44460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784760" y="2895480"/>
              <a:ext cx="473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1143000" y="3733920"/>
            <a:ext cx="5943600" cy="579960"/>
            <a:chOff x="1143000" y="3733920"/>
            <a:chExt cx="5943600" cy="579960"/>
          </a:xfrm>
        </p:grpSpPr>
        <p:grpSp>
          <p:nvGrpSpPr>
            <p:cNvPr id="579" name=""/>
            <p:cNvGrpSpPr/>
            <p:nvPr/>
          </p:nvGrpSpPr>
          <p:grpSpPr>
            <a:xfrm>
              <a:off x="1143000" y="3733920"/>
              <a:ext cx="5943600" cy="579960"/>
              <a:chOff x="1143000" y="3733920"/>
              <a:chExt cx="5943600" cy="579960"/>
            </a:xfrm>
          </p:grpSpPr>
          <p:sp>
            <p:nvSpPr>
              <p:cNvPr id="580" name=""/>
              <p:cNvSpPr/>
              <p:nvPr/>
            </p:nvSpPr>
            <p:spPr>
              <a:xfrm>
                <a:off x="1987560" y="38163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041560" y="373392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2444760" y="38163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2498760" y="373392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901960" y="38163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955960" y="373392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359160" y="38163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413160" y="373392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3816360" y="38163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3870360" y="3733920"/>
                <a:ext cx="6253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273560" y="38163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327560" y="3733920"/>
                <a:ext cx="7016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4730760" y="38163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632480" y="3733920"/>
                <a:ext cx="7016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5187960" y="38163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5165640" y="3733920"/>
                <a:ext cx="62568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5645160" y="38163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699160" y="373392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102360" y="38163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6156360" y="373392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6559560" y="38163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6613560" y="373392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1143000" y="3733920"/>
                <a:ext cx="45720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33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3" name=""/>
            <p:cNvGrpSpPr/>
            <p:nvPr/>
          </p:nvGrpSpPr>
          <p:grpSpPr>
            <a:xfrm>
              <a:off x="1987560" y="3733920"/>
              <a:ext cx="527040" cy="519120"/>
              <a:chOff x="1987560" y="3733920"/>
              <a:chExt cx="527040" cy="519120"/>
            </a:xfrm>
          </p:grpSpPr>
          <p:sp>
            <p:nvSpPr>
              <p:cNvPr id="604" name=""/>
              <p:cNvSpPr/>
              <p:nvPr/>
            </p:nvSpPr>
            <p:spPr>
              <a:xfrm>
                <a:off x="1987560" y="3816360"/>
                <a:ext cx="444600" cy="368280"/>
              </a:xfrm>
              <a:prstGeom prst="rect">
                <a:avLst/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2041560" y="373392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6" name=""/>
          <p:cNvGrpSpPr/>
          <p:nvPr/>
        </p:nvGrpSpPr>
        <p:grpSpPr>
          <a:xfrm>
            <a:off x="4708440" y="3733920"/>
            <a:ext cx="625680" cy="519120"/>
            <a:chOff x="4708440" y="3733920"/>
            <a:chExt cx="625680" cy="519120"/>
          </a:xfrm>
        </p:grpSpPr>
        <p:sp>
          <p:nvSpPr>
            <p:cNvPr id="607" name=""/>
            <p:cNvSpPr/>
            <p:nvPr/>
          </p:nvSpPr>
          <p:spPr>
            <a:xfrm>
              <a:off x="4730760" y="3816360"/>
              <a:ext cx="44460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708440" y="3733920"/>
              <a:ext cx="6256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4273560" y="3733920"/>
            <a:ext cx="527040" cy="519120"/>
            <a:chOff x="4273560" y="3733920"/>
            <a:chExt cx="527040" cy="519120"/>
          </a:xfrm>
        </p:grpSpPr>
        <p:sp>
          <p:nvSpPr>
            <p:cNvPr id="610" name=""/>
            <p:cNvSpPr/>
            <p:nvPr/>
          </p:nvSpPr>
          <p:spPr>
            <a:xfrm>
              <a:off x="4273560" y="3816360"/>
              <a:ext cx="44460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327560" y="3733920"/>
              <a:ext cx="473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2" name=""/>
          <p:cNvSpPr/>
          <p:nvPr/>
        </p:nvSpPr>
        <p:spPr>
          <a:xfrm>
            <a:off x="304920" y="4724280"/>
            <a:ext cx="8305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bigElement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not to left of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mallEle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erminate process. Swap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pivot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mallEle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1295280" y="5943600"/>
            <a:ext cx="5943600" cy="579960"/>
            <a:chOff x="1295280" y="5943600"/>
            <a:chExt cx="5943600" cy="579960"/>
          </a:xfrm>
        </p:grpSpPr>
        <p:grpSp>
          <p:nvGrpSpPr>
            <p:cNvPr id="614" name=""/>
            <p:cNvGrpSpPr/>
            <p:nvPr/>
          </p:nvGrpSpPr>
          <p:grpSpPr>
            <a:xfrm>
              <a:off x="1295280" y="5943600"/>
              <a:ext cx="5943600" cy="579960"/>
              <a:chOff x="1295280" y="5943600"/>
              <a:chExt cx="5943600" cy="579960"/>
            </a:xfrm>
          </p:grpSpPr>
          <p:sp>
            <p:nvSpPr>
              <p:cNvPr id="615" name=""/>
              <p:cNvSpPr/>
              <p:nvPr/>
            </p:nvSpPr>
            <p:spPr>
              <a:xfrm>
                <a:off x="6254640" y="6026040"/>
                <a:ext cx="444600" cy="3682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2139840" y="6026040"/>
                <a:ext cx="444600" cy="36828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193840" y="594360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2597040" y="6026040"/>
                <a:ext cx="444600" cy="36828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651040" y="594360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3054240" y="6026040"/>
                <a:ext cx="444600" cy="36828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3108240" y="594360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3511440" y="6026040"/>
                <a:ext cx="444600" cy="36828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3565440" y="594360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3968640" y="6026040"/>
                <a:ext cx="444600" cy="36828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4022640" y="5943600"/>
                <a:ext cx="62568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4425840" y="60260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479840" y="5943600"/>
                <a:ext cx="7016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340240" y="6026040"/>
                <a:ext cx="444600" cy="3682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5318280" y="5943600"/>
                <a:ext cx="6253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5797440" y="6026040"/>
                <a:ext cx="444600" cy="3682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5851440" y="594360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6308640" y="594360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711840" y="6026040"/>
                <a:ext cx="444600" cy="3682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765840" y="594360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295280" y="5943600"/>
                <a:ext cx="45720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33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425840" y="6026040"/>
                <a:ext cx="444600" cy="3682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4479840" y="594360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4883040" y="6026040"/>
                <a:ext cx="444600" cy="3682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784760" y="5943600"/>
                <a:ext cx="7016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0" name=""/>
            <p:cNvGrpSpPr/>
            <p:nvPr/>
          </p:nvGrpSpPr>
          <p:grpSpPr>
            <a:xfrm>
              <a:off x="4425840" y="5943600"/>
              <a:ext cx="527040" cy="519120"/>
              <a:chOff x="4425840" y="5943600"/>
              <a:chExt cx="527040" cy="519120"/>
            </a:xfrm>
          </p:grpSpPr>
          <p:sp>
            <p:nvSpPr>
              <p:cNvPr id="641" name=""/>
              <p:cNvSpPr/>
              <p:nvPr/>
            </p:nvSpPr>
            <p:spPr>
              <a:xfrm>
                <a:off x="4425840" y="6026040"/>
                <a:ext cx="444600" cy="368280"/>
              </a:xfrm>
              <a:prstGeom prst="rect">
                <a:avLst/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4479840" y="594360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sertion Sor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434340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is done by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serting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[n-1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to the sorte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[0:n-2]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xity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ually implemented nonrecursive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04920" y="1523880"/>
            <a:ext cx="8533800" cy="1143000"/>
            <a:chOff x="304920" y="1523880"/>
            <a:chExt cx="8533800" cy="1143000"/>
          </a:xfrm>
        </p:grpSpPr>
        <p:grpSp>
          <p:nvGrpSpPr>
            <p:cNvPr id="63" name=""/>
            <p:cNvGrpSpPr/>
            <p:nvPr/>
          </p:nvGrpSpPr>
          <p:grpSpPr>
            <a:xfrm>
              <a:off x="304920" y="1523880"/>
              <a:ext cx="8533800" cy="1143000"/>
              <a:chOff x="304920" y="1523880"/>
              <a:chExt cx="8533800" cy="1143000"/>
            </a:xfrm>
          </p:grpSpPr>
          <p:sp>
            <p:nvSpPr>
              <p:cNvPr id="64" name=""/>
              <p:cNvSpPr/>
              <p:nvPr/>
            </p:nvSpPr>
            <p:spPr>
              <a:xfrm>
                <a:off x="609480" y="2133360"/>
                <a:ext cx="7391160" cy="53352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04920" y="1523880"/>
                <a:ext cx="99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99"/>
                    </a:solidFill>
                    <a:latin typeface="Times New Roman"/>
                  </a:rPr>
                  <a:t>a[0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848360" y="1676160"/>
                <a:ext cx="99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99"/>
                    </a:solidFill>
                    <a:latin typeface="Times New Roman"/>
                  </a:rPr>
                  <a:t>a[n-1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609480" y="1600200"/>
              <a:ext cx="7162920" cy="1066680"/>
              <a:chOff x="609480" y="1600200"/>
              <a:chExt cx="7162920" cy="1066680"/>
            </a:xfrm>
          </p:grpSpPr>
          <p:sp>
            <p:nvSpPr>
              <p:cNvPr id="68" name=""/>
              <p:cNvSpPr/>
              <p:nvPr/>
            </p:nvSpPr>
            <p:spPr>
              <a:xfrm>
                <a:off x="609480" y="2133720"/>
                <a:ext cx="7010280" cy="53316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781680" y="1600200"/>
                <a:ext cx="99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99"/>
                    </a:solidFill>
                    <a:latin typeface="Times New Roman"/>
                  </a:rPr>
                  <a:t>a[n-2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>
              <a:off x="7620120" y="2133720"/>
              <a:ext cx="380880" cy="5331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lexit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 to partition an array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(n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the time needed to sor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(0) = t(1) = 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consta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 &gt;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(n) = t(|left|) + t(|right|) + d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consta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(n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maximum when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ithe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|left| = 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|right| =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llowing each partitionin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lexit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861084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happens, for example, when the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pivo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lways the smallest el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the worst-case tim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(n) = t(n-1) + d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&gt;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repeated substitution to g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(n) = O(n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est case arises whe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|left|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|right|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equal (or differ b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llowing each partitio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the best case, the recurrence is the same as for merge so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lexity Of Quick Sor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51920" y="1219320"/>
            <a:ext cx="861084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the best-case complexity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 log 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erage complexity is als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 log 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help get partitions with almost equal size, change in-place swap rule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leftmost element (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bigEle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&gt;=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piv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rightmost element (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mallEle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&lt;=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piv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p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bigEle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mallEle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vided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bigEle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o the left of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mallEle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pace is needed for the recursion stack. May be reduced t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log n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ee Exercise 19.22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lexity Of Quick Sor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61048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improve performance, define a small instance to be one wit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&lt;= 15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ay) and sort small instances using insertion so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java.util.arrays.sor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75960" y="2133360"/>
            <a:ext cx="88390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rays of a primitive data type are sorted using quick so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 &lt; 7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=&gt;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ion s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7 &lt;= n &lt;= 4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=&gt;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an of th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 &gt; 40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=&g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seudo median of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9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ally spaced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6969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de the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9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ments into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6969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he median of each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6969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pivot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median of the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medi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java.util.arrays.sor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75960" y="2133360"/>
            <a:ext cx="88390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rays of a nonprimitive data type are sorted using merge so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 &lt; 7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=&gt;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ion s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kip merge when last element of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lef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gment i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&lt;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element of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igh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g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rge sort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st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relative order of elements with equal keys is not changed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ick sort is not s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election Sor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3505320"/>
            <a:ext cx="868680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 =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divide a large instance into two smaller instances, first find the largest el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rgest element defines one of the smaller instances; the remaining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-1 elem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fine the second smaller in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304920" y="1523880"/>
            <a:ext cx="8533800" cy="1143000"/>
            <a:chOff x="304920" y="1523880"/>
            <a:chExt cx="8533800" cy="1143000"/>
          </a:xfrm>
        </p:grpSpPr>
        <p:sp>
          <p:nvSpPr>
            <p:cNvPr id="74" name=""/>
            <p:cNvSpPr/>
            <p:nvPr/>
          </p:nvSpPr>
          <p:spPr>
            <a:xfrm>
              <a:off x="609480" y="2133360"/>
              <a:ext cx="7391160" cy="5335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04920" y="152388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a[0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48360" y="167616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a[n-1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609480" y="1600200"/>
            <a:ext cx="7162920" cy="1066680"/>
            <a:chOff x="609480" y="1600200"/>
            <a:chExt cx="7162920" cy="1066680"/>
          </a:xfrm>
        </p:grpSpPr>
        <p:sp>
          <p:nvSpPr>
            <p:cNvPr id="78" name=""/>
            <p:cNvSpPr/>
            <p:nvPr/>
          </p:nvSpPr>
          <p:spPr>
            <a:xfrm>
              <a:off x="609480" y="2133720"/>
              <a:ext cx="7010280" cy="533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781680" y="160020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a[n-2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7620120" y="2133720"/>
            <a:ext cx="380880" cy="5331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election Sor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3123720"/>
            <a:ext cx="86868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econd smaller instance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sorted recursive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end the first smaller instance (largest element) to the right end of the sorted smaller in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xity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ually implemented nonrecursive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04920" y="1523880"/>
            <a:ext cx="8533800" cy="1143000"/>
            <a:chOff x="304920" y="1523880"/>
            <a:chExt cx="8533800" cy="1143000"/>
          </a:xfrm>
        </p:grpSpPr>
        <p:grpSp>
          <p:nvGrpSpPr>
            <p:cNvPr id="84" name=""/>
            <p:cNvGrpSpPr/>
            <p:nvPr/>
          </p:nvGrpSpPr>
          <p:grpSpPr>
            <a:xfrm>
              <a:off x="304920" y="1523880"/>
              <a:ext cx="8533800" cy="1143000"/>
              <a:chOff x="304920" y="1523880"/>
              <a:chExt cx="8533800" cy="1143000"/>
            </a:xfrm>
          </p:grpSpPr>
          <p:sp>
            <p:nvSpPr>
              <p:cNvPr id="85" name=""/>
              <p:cNvSpPr/>
              <p:nvPr/>
            </p:nvSpPr>
            <p:spPr>
              <a:xfrm>
                <a:off x="609480" y="2133360"/>
                <a:ext cx="7391160" cy="53352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304920" y="1523880"/>
                <a:ext cx="99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99"/>
                    </a:solidFill>
                    <a:latin typeface="Times New Roman"/>
                  </a:rPr>
                  <a:t>a[0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848360" y="1676160"/>
                <a:ext cx="99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99"/>
                    </a:solidFill>
                    <a:latin typeface="Times New Roman"/>
                  </a:rPr>
                  <a:t>a[n-1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" name=""/>
            <p:cNvGrpSpPr/>
            <p:nvPr/>
          </p:nvGrpSpPr>
          <p:grpSpPr>
            <a:xfrm>
              <a:off x="609480" y="1600200"/>
              <a:ext cx="7162920" cy="1066680"/>
              <a:chOff x="609480" y="1600200"/>
              <a:chExt cx="7162920" cy="1066680"/>
            </a:xfrm>
          </p:grpSpPr>
          <p:sp>
            <p:nvSpPr>
              <p:cNvPr id="89" name=""/>
              <p:cNvSpPr/>
              <p:nvPr/>
            </p:nvSpPr>
            <p:spPr>
              <a:xfrm>
                <a:off x="609480" y="2133720"/>
                <a:ext cx="7010280" cy="53316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781680" y="1600200"/>
                <a:ext cx="99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99"/>
                    </a:solidFill>
                    <a:latin typeface="Times New Roman"/>
                  </a:rPr>
                  <a:t>a[n-2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>
              <a:off x="7620120" y="2133720"/>
              <a:ext cx="380880" cy="5331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ubble Sor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bble sort may also be viewed as a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 = 2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divide-and-conque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ing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ertion sort, selection sort and bubble sort divide a large instance into one smaller instance of siz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- 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another one of siz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ree sort methods tak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ivide And Conqu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ide-and-conquer algorithms generally have best complexity when a large instance is divided into smaller instances of approximately the same siz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 = 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= 2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divide into two smaller instances of siz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 = 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= 2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divide into two smaller instances of siz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3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1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respective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erge Sor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 =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eil(n/2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s define one of the smaller instances; remaining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loor(n/2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s define the second smaller in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of the two smaller instances is sorted recursive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orted smaller instances are combined using a process called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mer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xity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log 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ually implemented nonrecursive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erge Two Sorted Lis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 = (2, 5, 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 = (1, 3, 8, 9, 1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 = (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smallest elements of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B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rge smaller into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 = (2, 5, 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 = (3, 8, 9, 1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 =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sahni</cp:lastModifiedBy>
  <cp:lastPrinted>2000-03-23T17:00:48Z</cp:lastPrinted>
  <dcterms:modified xsi:type="dcterms:W3CDTF">2004-08-05T17:30:30Z</dcterms:modified>
  <cp:revision>141</cp:revision>
  <dc:subject/>
  <dc:title>Data Representation Methods</dc:title>
</cp:coreProperties>
</file>