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6.gif" ContentType="image/gif"/>
  <Override PartName="/ppt/media/image7.gif" ContentType="image/gi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768C-ABAE-4892-9AC1-4801B3EB7A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tiling to be possible,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(n</a:t>
            </a:r>
            <a:r>
              <a:rPr b="0" lang="en-US" sz="1200" spc="-1" strike="noStrike" baseline="30000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 - 1) must be divisible by 3 whenever n is a power of 2. So, the tiling algorithm that follows actually provides a proof the this is 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ready have used this method in this class. For example, nearly all the binary tree algorithms studied use this technique. To traverse a binary tree tree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mall instance == NULL; large instance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non empty binary tree; traversal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NULL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o nothing; non NULL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raverse left, traverse right, visit (s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EBE-6A66-4F55-A9C4-F67B239C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CAB-6CD0-4861-A5B5-28A18A44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20D-8DA9-4B69-A556-AEF0E88E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B36-3C7A-47F1-BEF4-A1A793A2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1BB-00E0-4D02-855A-3D7FA996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8C6-F864-4D20-874C-CDB10BB5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E90-7F05-481F-BBDA-1F478F02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30D-0C8A-44C2-B1B0-935D4C72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32C-FA55-4A41-B015-D99D6CCA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4FF7-600E-42BF-826C-B432AE48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B29-C264-4C4A-84BA-A9441B3D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3998-4836-4EBF-92F2-DF4559A6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B280-D4AA-4046-B048-747390247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e And Conqu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365724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guish between small and large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instances solved differently from large 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LIGH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LEFTSPOT" descr=""/>
          <p:cNvPicPr/>
          <p:nvPr/>
        </p:nvPicPr>
        <p:blipFill>
          <a:blip r:embed="rId2"/>
          <a:stretch/>
        </p:blipFill>
        <p:spPr>
          <a:xfrm>
            <a:off x="7010280" y="9907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r Definition Of A Chessboar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essboar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x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ower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914400" y="5568840"/>
            <a:ext cx="762120" cy="833040"/>
            <a:chOff x="914400" y="5568840"/>
            <a:chExt cx="762120" cy="833040"/>
          </a:xfrm>
        </p:grpSpPr>
        <p:sp>
          <p:nvSpPr>
            <p:cNvPr id="75" name=""/>
            <p:cNvSpPr/>
            <p:nvPr/>
          </p:nvSpPr>
          <p:spPr>
            <a:xfrm>
              <a:off x="107316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144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x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216160" y="5187960"/>
            <a:ext cx="831960" cy="1213920"/>
            <a:chOff x="2216160" y="5187960"/>
            <a:chExt cx="831960" cy="1213920"/>
          </a:xfrm>
        </p:grpSpPr>
        <p:grpSp>
          <p:nvGrpSpPr>
            <p:cNvPr id="78" name=""/>
            <p:cNvGrpSpPr/>
            <p:nvPr/>
          </p:nvGrpSpPr>
          <p:grpSpPr>
            <a:xfrm>
              <a:off x="2216160" y="5187960"/>
              <a:ext cx="749160" cy="749160"/>
              <a:chOff x="2216160" y="5187960"/>
              <a:chExt cx="749160" cy="749160"/>
            </a:xfrm>
          </p:grpSpPr>
          <p:sp>
            <p:nvSpPr>
              <p:cNvPr id="79" name=""/>
              <p:cNvSpPr/>
              <p:nvPr/>
            </p:nvSpPr>
            <p:spPr>
              <a:xfrm>
                <a:off x="2216160" y="5568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597040" y="5568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16160" y="5187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97040" y="5187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22860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x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511440" y="4425840"/>
            <a:ext cx="1511280" cy="1976040"/>
            <a:chOff x="3511440" y="4425840"/>
            <a:chExt cx="1511280" cy="1976040"/>
          </a:xfrm>
        </p:grpSpPr>
        <p:grpSp>
          <p:nvGrpSpPr>
            <p:cNvPr id="85" name=""/>
            <p:cNvGrpSpPr/>
            <p:nvPr/>
          </p:nvGrpSpPr>
          <p:grpSpPr>
            <a:xfrm>
              <a:off x="3511440" y="4425840"/>
              <a:ext cx="1511280" cy="1511280"/>
              <a:chOff x="3511440" y="4425840"/>
              <a:chExt cx="1511280" cy="151128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3511440" y="5187960"/>
                <a:ext cx="1511280" cy="749160"/>
                <a:chOff x="3511440" y="5187960"/>
                <a:chExt cx="1511280" cy="749160"/>
              </a:xfrm>
            </p:grpSpPr>
            <p:grpSp>
              <p:nvGrpSpPr>
                <p:cNvPr id="87" name=""/>
                <p:cNvGrpSpPr/>
                <p:nvPr/>
              </p:nvGrpSpPr>
              <p:grpSpPr>
                <a:xfrm>
                  <a:off x="3511440" y="5187960"/>
                  <a:ext cx="749520" cy="749160"/>
                  <a:chOff x="3511440" y="5187960"/>
                  <a:chExt cx="749520" cy="74916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>
                    <a:off x="3511440" y="5568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3892680" y="5568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511440" y="5187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3892680" y="5187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4273560" y="5187960"/>
                  <a:ext cx="749160" cy="749160"/>
                  <a:chOff x="4273560" y="5187960"/>
                  <a:chExt cx="749160" cy="7491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4273560" y="5568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4654440" y="5568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4273560" y="5187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4654440" y="5187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7" name=""/>
              <p:cNvGrpSpPr/>
              <p:nvPr/>
            </p:nvGrpSpPr>
            <p:grpSpPr>
              <a:xfrm>
                <a:off x="3511440" y="4425840"/>
                <a:ext cx="1511280" cy="749520"/>
                <a:chOff x="3511440" y="4425840"/>
                <a:chExt cx="1511280" cy="749520"/>
              </a:xfrm>
            </p:grpSpPr>
            <p:grpSp>
              <p:nvGrpSpPr>
                <p:cNvPr id="98" name=""/>
                <p:cNvGrpSpPr/>
                <p:nvPr/>
              </p:nvGrpSpPr>
              <p:grpSpPr>
                <a:xfrm>
                  <a:off x="3511440" y="4425840"/>
                  <a:ext cx="749520" cy="749520"/>
                  <a:chOff x="3511440" y="4425840"/>
                  <a:chExt cx="749520" cy="74952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3511440" y="4807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892680" y="4807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511440" y="4425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3892680" y="4425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4273560" y="4425840"/>
                  <a:ext cx="749160" cy="749520"/>
                  <a:chOff x="4273560" y="4425840"/>
                  <a:chExt cx="749160" cy="7495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4273560" y="4807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4654440" y="4807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4273560" y="4425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4654440" y="4425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8" name=""/>
            <p:cNvSpPr/>
            <p:nvPr/>
          </p:nvSpPr>
          <p:spPr>
            <a:xfrm>
              <a:off x="3962520" y="5943600"/>
              <a:ext cx="76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x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16560" y="2901960"/>
            <a:ext cx="3035160" cy="3499920"/>
            <a:chOff x="5416560" y="2901960"/>
            <a:chExt cx="3035160" cy="3499920"/>
          </a:xfrm>
        </p:grpSpPr>
        <p:grpSp>
          <p:nvGrpSpPr>
            <p:cNvPr id="110" name=""/>
            <p:cNvGrpSpPr/>
            <p:nvPr/>
          </p:nvGrpSpPr>
          <p:grpSpPr>
            <a:xfrm>
              <a:off x="5416560" y="4425840"/>
              <a:ext cx="3035160" cy="1511280"/>
              <a:chOff x="5416560" y="4425840"/>
              <a:chExt cx="3035160" cy="15112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5416560" y="4425840"/>
                <a:ext cx="1511280" cy="1511280"/>
                <a:chOff x="5416560" y="4425840"/>
                <a:chExt cx="1511280" cy="151128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5416560" y="5187960"/>
                  <a:ext cx="1511280" cy="749160"/>
                  <a:chOff x="5416560" y="5187960"/>
                  <a:chExt cx="1511280" cy="749160"/>
                </a:xfrm>
              </p:grpSpPr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5416560" y="5187960"/>
                    <a:ext cx="749160" cy="749160"/>
                    <a:chOff x="5416560" y="5187960"/>
                    <a:chExt cx="749160" cy="749160"/>
                  </a:xfrm>
                </p:grpSpPr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5416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5797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5416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5797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6178680" y="5187960"/>
                    <a:ext cx="749160" cy="749160"/>
                    <a:chOff x="6178680" y="5187960"/>
                    <a:chExt cx="749160" cy="74916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17868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6559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617868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559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5416560" y="4425840"/>
                  <a:ext cx="1511280" cy="749520"/>
                  <a:chOff x="5416560" y="4425840"/>
                  <a:chExt cx="1511280" cy="749520"/>
                </a:xfrm>
              </p:grpSpPr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5416560" y="4425840"/>
                    <a:ext cx="749160" cy="749520"/>
                    <a:chOff x="5416560" y="4425840"/>
                    <a:chExt cx="749160" cy="74952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5416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5797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5416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5797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6178680" y="4425840"/>
                    <a:ext cx="749160" cy="749520"/>
                    <a:chOff x="6178680" y="4425840"/>
                    <a:chExt cx="749160" cy="74952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17868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559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17868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559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4" name=""/>
              <p:cNvGrpSpPr/>
              <p:nvPr/>
            </p:nvGrpSpPr>
            <p:grpSpPr>
              <a:xfrm>
                <a:off x="6940440" y="4425840"/>
                <a:ext cx="1511280" cy="1511280"/>
                <a:chOff x="6940440" y="4425840"/>
                <a:chExt cx="1511280" cy="151128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6940440" y="5187960"/>
                  <a:ext cx="1511280" cy="749160"/>
                  <a:chOff x="6940440" y="5187960"/>
                  <a:chExt cx="1511280" cy="749160"/>
                </a:xfrm>
              </p:grpSpPr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6940440" y="5187960"/>
                    <a:ext cx="749520" cy="749160"/>
                    <a:chOff x="6940440" y="5187960"/>
                    <a:chExt cx="749520" cy="74916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940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32168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940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732168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" name=""/>
                  <p:cNvGrpSpPr/>
                  <p:nvPr/>
                </p:nvGrpSpPr>
                <p:grpSpPr>
                  <a:xfrm>
                    <a:off x="7702560" y="5187960"/>
                    <a:ext cx="749160" cy="749160"/>
                    <a:chOff x="7702560" y="5187960"/>
                    <a:chExt cx="749160" cy="749160"/>
                  </a:xfrm>
                </p:grpSpPr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7702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8083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7702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083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6940440" y="4425840"/>
                  <a:ext cx="1511280" cy="749520"/>
                  <a:chOff x="6940440" y="4425840"/>
                  <a:chExt cx="1511280" cy="7495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6940440" y="4425840"/>
                    <a:ext cx="749520" cy="749520"/>
                    <a:chOff x="6940440" y="4425840"/>
                    <a:chExt cx="749520" cy="74952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940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732168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940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732168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7702560" y="4425840"/>
                    <a:ext cx="749160" cy="749520"/>
                    <a:chOff x="7702560" y="4425840"/>
                    <a:chExt cx="749160" cy="74952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7702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8083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7702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8083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57" name=""/>
            <p:cNvGrpSpPr/>
            <p:nvPr/>
          </p:nvGrpSpPr>
          <p:grpSpPr>
            <a:xfrm>
              <a:off x="5416560" y="2901960"/>
              <a:ext cx="3035160" cy="1511280"/>
              <a:chOff x="5416560" y="2901960"/>
              <a:chExt cx="3035160" cy="15112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5416560" y="2901960"/>
                <a:ext cx="1511280" cy="1511280"/>
                <a:chOff x="5416560" y="2901960"/>
                <a:chExt cx="1511280" cy="151128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5416560" y="3664080"/>
                  <a:ext cx="1511280" cy="749160"/>
                  <a:chOff x="5416560" y="3664080"/>
                  <a:chExt cx="1511280" cy="74916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5416560" y="3664080"/>
                    <a:ext cx="749160" cy="749160"/>
                    <a:chOff x="5416560" y="3664080"/>
                    <a:chExt cx="749160" cy="7491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541656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579744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541656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579744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6178680" y="3664080"/>
                    <a:ext cx="749160" cy="749160"/>
                    <a:chOff x="6178680" y="3664080"/>
                    <a:chExt cx="749160" cy="7491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617868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655956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617868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655956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5416560" y="2901960"/>
                  <a:ext cx="1511280" cy="749160"/>
                  <a:chOff x="5416560" y="2901960"/>
                  <a:chExt cx="1511280" cy="74916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416560" y="2901960"/>
                    <a:ext cx="749160" cy="749160"/>
                    <a:chOff x="5416560" y="2901960"/>
                    <a:chExt cx="749160" cy="74916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541656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579744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541656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579744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6178680" y="2901960"/>
                    <a:ext cx="749160" cy="749160"/>
                    <a:chOff x="6178680" y="2901960"/>
                    <a:chExt cx="749160" cy="74916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617868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655956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617868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655956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81" name=""/>
              <p:cNvGrpSpPr/>
              <p:nvPr/>
            </p:nvGrpSpPr>
            <p:grpSpPr>
              <a:xfrm>
                <a:off x="6940440" y="2901960"/>
                <a:ext cx="1511280" cy="1511280"/>
                <a:chOff x="6940440" y="2901960"/>
                <a:chExt cx="1511280" cy="15112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6940440" y="3664080"/>
                  <a:ext cx="1511280" cy="749160"/>
                  <a:chOff x="6940440" y="3664080"/>
                  <a:chExt cx="1511280" cy="749160"/>
                </a:xfrm>
              </p:grpSpPr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6940440" y="3664080"/>
                    <a:ext cx="749520" cy="749160"/>
                    <a:chOff x="6940440" y="3664080"/>
                    <a:chExt cx="749520" cy="74916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694044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32168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694044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32168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7702560" y="3664080"/>
                    <a:ext cx="749160" cy="749160"/>
                    <a:chOff x="7702560" y="3664080"/>
                    <a:chExt cx="749160" cy="74916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70256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8083440" y="4044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770256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8083440" y="3664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6940440" y="2901960"/>
                  <a:ext cx="1511280" cy="749160"/>
                  <a:chOff x="6940440" y="2901960"/>
                  <a:chExt cx="1511280" cy="749160"/>
                </a:xfrm>
              </p:grpSpPr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6940440" y="2901960"/>
                    <a:ext cx="749520" cy="749160"/>
                    <a:chOff x="6940440" y="2901960"/>
                    <a:chExt cx="749520" cy="74916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694044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732168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694044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732168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7702560" y="2901960"/>
                    <a:ext cx="749160" cy="749160"/>
                    <a:chOff x="7702560" y="2901960"/>
                    <a:chExt cx="749160" cy="74916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770256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8083440" y="3282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770256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8083440" y="2901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204" name=""/>
            <p:cNvSpPr/>
            <p:nvPr/>
          </p:nvSpPr>
          <p:spPr>
            <a:xfrm>
              <a:off x="66294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x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" name="GAME01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6" name="GAME016" descr=""/>
          <p:cNvPicPr/>
          <p:nvPr/>
        </p:nvPicPr>
        <p:blipFill>
          <a:blip r:embed="rId2"/>
          <a:stretch/>
        </p:blipFill>
        <p:spPr>
          <a:xfrm>
            <a:off x="8458200" y="53352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6212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fective chessbo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hessboard that has one unavailable (defective) posi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5568840"/>
            <a:ext cx="762120" cy="833040"/>
            <a:chOff x="914400" y="5568840"/>
            <a:chExt cx="762120" cy="833040"/>
          </a:xfrm>
        </p:grpSpPr>
        <p:sp>
          <p:nvSpPr>
            <p:cNvPr id="209" name=""/>
            <p:cNvSpPr/>
            <p:nvPr/>
          </p:nvSpPr>
          <p:spPr>
            <a:xfrm>
              <a:off x="1073160" y="55688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144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x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216160" y="5187960"/>
            <a:ext cx="831960" cy="1213920"/>
            <a:chOff x="2216160" y="5187960"/>
            <a:chExt cx="831960" cy="1213920"/>
          </a:xfrm>
        </p:grpSpPr>
        <p:sp>
          <p:nvSpPr>
            <p:cNvPr id="212" name=""/>
            <p:cNvSpPr/>
            <p:nvPr/>
          </p:nvSpPr>
          <p:spPr>
            <a:xfrm>
              <a:off x="221616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9704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161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97040" y="5187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860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x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511440" y="4425840"/>
            <a:ext cx="1511280" cy="1976040"/>
            <a:chOff x="3511440" y="4425840"/>
            <a:chExt cx="1511280" cy="1976040"/>
          </a:xfrm>
        </p:grpSpPr>
        <p:grpSp>
          <p:nvGrpSpPr>
            <p:cNvPr id="218" name=""/>
            <p:cNvGrpSpPr/>
            <p:nvPr/>
          </p:nvGrpSpPr>
          <p:grpSpPr>
            <a:xfrm>
              <a:off x="3511440" y="5187960"/>
              <a:ext cx="749520" cy="749160"/>
              <a:chOff x="3511440" y="5187960"/>
              <a:chExt cx="749520" cy="749160"/>
            </a:xfrm>
          </p:grpSpPr>
          <p:sp>
            <p:nvSpPr>
              <p:cNvPr id="219" name=""/>
              <p:cNvSpPr/>
              <p:nvPr/>
            </p:nvSpPr>
            <p:spPr>
              <a:xfrm>
                <a:off x="3511440" y="5568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92680" y="5568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11440" y="5187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92680" y="5187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27356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5444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735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54440" y="5187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511440" y="4425840"/>
              <a:ext cx="1511280" cy="749520"/>
              <a:chOff x="3511440" y="4425840"/>
              <a:chExt cx="1511280" cy="74952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3511440" y="4425840"/>
                <a:ext cx="749520" cy="749520"/>
                <a:chOff x="3511440" y="4425840"/>
                <a:chExt cx="749520" cy="7495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51144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9268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51144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89268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4273560" y="4425840"/>
                <a:ext cx="749160" cy="749520"/>
                <a:chOff x="4273560" y="4425840"/>
                <a:chExt cx="749160" cy="7495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27356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65444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7356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65444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8" name=""/>
            <p:cNvSpPr/>
            <p:nvPr/>
          </p:nvSpPr>
          <p:spPr>
            <a:xfrm>
              <a:off x="3962520" y="5943600"/>
              <a:ext cx="76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x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16560" y="2901960"/>
            <a:ext cx="3035160" cy="3499920"/>
            <a:chOff x="5416560" y="2901960"/>
            <a:chExt cx="3035160" cy="3499920"/>
          </a:xfrm>
        </p:grpSpPr>
        <p:grpSp>
          <p:nvGrpSpPr>
            <p:cNvPr id="240" name=""/>
            <p:cNvGrpSpPr/>
            <p:nvPr/>
          </p:nvGrpSpPr>
          <p:grpSpPr>
            <a:xfrm>
              <a:off x="5416560" y="4425840"/>
              <a:ext cx="3035160" cy="1511280"/>
              <a:chOff x="5416560" y="4425840"/>
              <a:chExt cx="3035160" cy="151128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416560" y="4425840"/>
                <a:ext cx="1511280" cy="1511280"/>
                <a:chOff x="5416560" y="4425840"/>
                <a:chExt cx="1511280" cy="151128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5416560" y="5187960"/>
                  <a:ext cx="1511280" cy="749160"/>
                  <a:chOff x="5416560" y="5187960"/>
                  <a:chExt cx="1511280" cy="749160"/>
                </a:xfrm>
              </p:grpSpPr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416560" y="5187960"/>
                    <a:ext cx="749160" cy="749160"/>
                    <a:chOff x="5416560" y="5187960"/>
                    <a:chExt cx="749160" cy="74916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416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5797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5416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797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6178680" y="5187960"/>
                    <a:ext cx="749160" cy="749160"/>
                    <a:chOff x="6178680" y="5187960"/>
                    <a:chExt cx="749160" cy="7491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617868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559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17868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6559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5416560" y="4425840"/>
                  <a:ext cx="1511280" cy="749520"/>
                  <a:chOff x="5416560" y="4425840"/>
                  <a:chExt cx="1511280" cy="749520"/>
                </a:xfrm>
              </p:grpSpPr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416560" y="4425840"/>
                    <a:ext cx="749160" cy="749520"/>
                    <a:chOff x="5416560" y="4425840"/>
                    <a:chExt cx="749160" cy="74952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5416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797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5416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5797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6178680" y="4425840"/>
                    <a:ext cx="749160" cy="749520"/>
                    <a:chOff x="6178680" y="4425840"/>
                    <a:chExt cx="749160" cy="749520"/>
                  </a:xfrm>
                </p:grpSpPr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617868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6559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617868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6559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64" name=""/>
              <p:cNvGrpSpPr/>
              <p:nvPr/>
            </p:nvGrpSpPr>
            <p:grpSpPr>
              <a:xfrm>
                <a:off x="6940440" y="4425840"/>
                <a:ext cx="1511280" cy="1511280"/>
                <a:chOff x="6940440" y="4425840"/>
                <a:chExt cx="1511280" cy="151128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6940440" y="5187960"/>
                  <a:ext cx="1511280" cy="749160"/>
                  <a:chOff x="6940440" y="5187960"/>
                  <a:chExt cx="1511280" cy="749160"/>
                </a:xfrm>
              </p:grpSpPr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6940440" y="5187960"/>
                    <a:ext cx="749520" cy="749160"/>
                    <a:chOff x="6940440" y="5187960"/>
                    <a:chExt cx="749520" cy="74916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6940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32168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6940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732168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7702560" y="5187960"/>
                    <a:ext cx="749160" cy="749160"/>
                    <a:chOff x="7702560" y="5187960"/>
                    <a:chExt cx="749160" cy="74916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702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083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7702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8083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6940440" y="4425840"/>
                  <a:ext cx="1511280" cy="749520"/>
                  <a:chOff x="6940440" y="4425840"/>
                  <a:chExt cx="1511280" cy="74952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6940440" y="4425840"/>
                    <a:ext cx="749520" cy="749520"/>
                    <a:chOff x="6940440" y="4425840"/>
                    <a:chExt cx="749520" cy="74952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6940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732168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6940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32168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7702560" y="4425840"/>
                    <a:ext cx="749160" cy="749520"/>
                    <a:chOff x="7702560" y="4425840"/>
                    <a:chExt cx="749160" cy="74952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7702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083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7702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8083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87" name=""/>
            <p:cNvGrpSpPr/>
            <p:nvPr/>
          </p:nvGrpSpPr>
          <p:grpSpPr>
            <a:xfrm>
              <a:off x="5416560" y="2901960"/>
              <a:ext cx="1511280" cy="1511280"/>
              <a:chOff x="5416560" y="2901960"/>
              <a:chExt cx="1511280" cy="151128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5416560" y="3664080"/>
                <a:ext cx="1511280" cy="749160"/>
                <a:chOff x="5416560" y="3664080"/>
                <a:chExt cx="1511280" cy="749160"/>
              </a:xfrm>
            </p:grpSpPr>
            <p:grpSp>
              <p:nvGrpSpPr>
                <p:cNvPr id="289" name=""/>
                <p:cNvGrpSpPr/>
                <p:nvPr/>
              </p:nvGrpSpPr>
              <p:grpSpPr>
                <a:xfrm>
                  <a:off x="5416560" y="3664080"/>
                  <a:ext cx="749160" cy="749160"/>
                  <a:chOff x="5416560" y="3664080"/>
                  <a:chExt cx="749160" cy="74916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541656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79744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41656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79744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6178680" y="3664080"/>
                  <a:ext cx="749160" cy="749160"/>
                  <a:chOff x="6178680" y="3664080"/>
                  <a:chExt cx="749160" cy="7491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617868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655956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17868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55956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9" name=""/>
              <p:cNvGrpSpPr/>
              <p:nvPr/>
            </p:nvGrpSpPr>
            <p:grpSpPr>
              <a:xfrm>
                <a:off x="5416560" y="2901960"/>
                <a:ext cx="1511280" cy="749160"/>
                <a:chOff x="5416560" y="2901960"/>
                <a:chExt cx="1511280" cy="74916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5416560" y="2901960"/>
                  <a:ext cx="749160" cy="749160"/>
                  <a:chOff x="5416560" y="2901960"/>
                  <a:chExt cx="749160" cy="7491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541656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579744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541656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79744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6178680" y="2901960"/>
                  <a:ext cx="749160" cy="749160"/>
                  <a:chOff x="6178680" y="2901960"/>
                  <a:chExt cx="749160" cy="7491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617868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655956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617868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655956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10" name=""/>
            <p:cNvGrpSpPr/>
            <p:nvPr/>
          </p:nvGrpSpPr>
          <p:grpSpPr>
            <a:xfrm>
              <a:off x="6940440" y="3664080"/>
              <a:ext cx="1511280" cy="749160"/>
              <a:chOff x="6940440" y="3664080"/>
              <a:chExt cx="1511280" cy="74916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6940440" y="3664080"/>
                <a:ext cx="749520" cy="749160"/>
                <a:chOff x="6940440" y="3664080"/>
                <a:chExt cx="749520" cy="7491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94044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32168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94044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32168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7702560" y="3664080"/>
                <a:ext cx="749160" cy="749160"/>
                <a:chOff x="7702560" y="3664080"/>
                <a:chExt cx="749160" cy="7491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770256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08344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70256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08344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6940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21680" y="32828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40440" y="2901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21680" y="2901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7702560" y="2901960"/>
              <a:ext cx="749160" cy="749160"/>
              <a:chOff x="7702560" y="2901960"/>
              <a:chExt cx="749160" cy="749160"/>
            </a:xfrm>
          </p:grpSpPr>
          <p:sp>
            <p:nvSpPr>
              <p:cNvPr id="326" name=""/>
              <p:cNvSpPr/>
              <p:nvPr/>
            </p:nvSpPr>
            <p:spPr>
              <a:xfrm>
                <a:off x="7702560" y="3282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083440" y="3282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702560" y="2901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083440" y="2901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66294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x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1" name="GAME01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332" name="GAME016" descr=""/>
          <p:cNvPicPr/>
          <p:nvPr/>
        </p:nvPicPr>
        <p:blipFill>
          <a:blip r:embed="rId2"/>
          <a:stretch/>
        </p:blipFill>
        <p:spPr>
          <a:xfrm>
            <a:off x="8229600" y="53352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2362320" y="304920"/>
            <a:ext cx="4465440" cy="77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33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A Defective Chessboard</a:t>
            </a:r>
            <a:endParaRPr b="0" lang="en-US" sz="2400" spc="1" strike="noStrike">
              <a:ln w="9360">
                <a:solidFill>
                  <a:srgbClr val="ff0033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Triomin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riomin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d object tha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over three squares of a chessboar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iomino has four orien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914400" y="5187960"/>
            <a:ext cx="907920" cy="1212840"/>
            <a:chOff x="914400" y="5187960"/>
            <a:chExt cx="907920" cy="1212840"/>
          </a:xfrm>
        </p:grpSpPr>
        <p:sp>
          <p:nvSpPr>
            <p:cNvPr id="337" name=""/>
            <p:cNvSpPr/>
            <p:nvPr/>
          </p:nvSpPr>
          <p:spPr>
            <a:xfrm>
              <a:off x="914400" y="594360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7316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5404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73160" y="51879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206880" y="5187960"/>
            <a:ext cx="749160" cy="749160"/>
            <a:chOff x="3206880" y="5187960"/>
            <a:chExt cx="749160" cy="749160"/>
          </a:xfrm>
        </p:grpSpPr>
        <p:sp>
          <p:nvSpPr>
            <p:cNvPr id="342" name=""/>
            <p:cNvSpPr/>
            <p:nvPr/>
          </p:nvSpPr>
          <p:spPr>
            <a:xfrm>
              <a:off x="320688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6880" y="51879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7760" y="51879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187960" y="5111640"/>
            <a:ext cx="749160" cy="749520"/>
            <a:chOff x="5187960" y="5111640"/>
            <a:chExt cx="749160" cy="749520"/>
          </a:xfrm>
        </p:grpSpPr>
        <p:sp>
          <p:nvSpPr>
            <p:cNvPr id="346" name=""/>
            <p:cNvSpPr/>
            <p:nvPr/>
          </p:nvSpPr>
          <p:spPr>
            <a:xfrm>
              <a:off x="5187960" y="51116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68840" y="51116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68840" y="549288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321680" y="5035680"/>
            <a:ext cx="749160" cy="749160"/>
            <a:chOff x="7321680" y="5035680"/>
            <a:chExt cx="749160" cy="749160"/>
          </a:xfrm>
        </p:grpSpPr>
        <p:sp>
          <p:nvSpPr>
            <p:cNvPr id="350" name=""/>
            <p:cNvSpPr/>
            <p:nvPr/>
          </p:nvSpPr>
          <p:spPr>
            <a:xfrm>
              <a:off x="7321680" y="54165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02560" y="54165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02560" y="503568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3" name="TETRIS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354" name="TETRIS" descr=""/>
          <p:cNvPicPr/>
          <p:nvPr/>
        </p:nvPicPr>
        <p:blipFill>
          <a:blip r:embed="rId2"/>
          <a:stretch/>
        </p:blipFill>
        <p:spPr>
          <a:xfrm>
            <a:off x="8381880" y="60948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ling A Defective Chessboar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- 1)/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ominoes on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x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ctive chessboard so that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- 1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defective positions are cov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914400" y="5568840"/>
            <a:ext cx="762120" cy="833040"/>
            <a:chOff x="914400" y="5568840"/>
            <a:chExt cx="762120" cy="833040"/>
          </a:xfrm>
        </p:grpSpPr>
        <p:sp>
          <p:nvSpPr>
            <p:cNvPr id="358" name=""/>
            <p:cNvSpPr/>
            <p:nvPr/>
          </p:nvSpPr>
          <p:spPr>
            <a:xfrm>
              <a:off x="1073160" y="55688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144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x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216160" y="5187960"/>
            <a:ext cx="831960" cy="1213920"/>
            <a:chOff x="2216160" y="5187960"/>
            <a:chExt cx="831960" cy="1213920"/>
          </a:xfrm>
        </p:grpSpPr>
        <p:sp>
          <p:nvSpPr>
            <p:cNvPr id="361" name=""/>
            <p:cNvSpPr/>
            <p:nvPr/>
          </p:nvSpPr>
          <p:spPr>
            <a:xfrm>
              <a:off x="221616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9704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161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97040" y="5187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x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16160" y="5187960"/>
            <a:ext cx="749160" cy="749160"/>
            <a:chOff x="2216160" y="5187960"/>
            <a:chExt cx="749160" cy="749160"/>
          </a:xfrm>
        </p:grpSpPr>
        <p:sp>
          <p:nvSpPr>
            <p:cNvPr id="367" name=""/>
            <p:cNvSpPr/>
            <p:nvPr/>
          </p:nvSpPr>
          <p:spPr>
            <a:xfrm>
              <a:off x="221616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9704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161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97040" y="51879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511440" y="4425840"/>
            <a:ext cx="1511280" cy="1976040"/>
            <a:chOff x="3511440" y="4425840"/>
            <a:chExt cx="1511280" cy="1976040"/>
          </a:xfrm>
        </p:grpSpPr>
        <p:grpSp>
          <p:nvGrpSpPr>
            <p:cNvPr id="372" name=""/>
            <p:cNvGrpSpPr/>
            <p:nvPr/>
          </p:nvGrpSpPr>
          <p:grpSpPr>
            <a:xfrm>
              <a:off x="3511440" y="5187960"/>
              <a:ext cx="749520" cy="749160"/>
              <a:chOff x="3511440" y="5187960"/>
              <a:chExt cx="749520" cy="749160"/>
            </a:xfrm>
          </p:grpSpPr>
          <p:sp>
            <p:nvSpPr>
              <p:cNvPr id="373" name=""/>
              <p:cNvSpPr/>
              <p:nvPr/>
            </p:nvSpPr>
            <p:spPr>
              <a:xfrm>
                <a:off x="3511440" y="5568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892680" y="5568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511440" y="5187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892680" y="5187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427356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54440" y="5568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735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54440" y="5187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3511440" y="4425840"/>
              <a:ext cx="1511280" cy="749520"/>
              <a:chOff x="3511440" y="4425840"/>
              <a:chExt cx="1511280" cy="74952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3511440" y="4425840"/>
                <a:ext cx="749520" cy="749520"/>
                <a:chOff x="3511440" y="4425840"/>
                <a:chExt cx="749520" cy="7495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51144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89268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51144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89268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273560" y="4425840"/>
                <a:ext cx="749160" cy="749520"/>
                <a:chOff x="4273560" y="4425840"/>
                <a:chExt cx="749160" cy="7495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27356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654440" y="4807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27356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654440" y="442584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2" name=""/>
            <p:cNvSpPr/>
            <p:nvPr/>
          </p:nvSpPr>
          <p:spPr>
            <a:xfrm>
              <a:off x="3962520" y="5943600"/>
              <a:ext cx="76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x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273560" y="5187960"/>
            <a:ext cx="749160" cy="749160"/>
            <a:chOff x="4273560" y="5187960"/>
            <a:chExt cx="749160" cy="749160"/>
          </a:xfrm>
        </p:grpSpPr>
        <p:sp>
          <p:nvSpPr>
            <p:cNvPr id="394" name=""/>
            <p:cNvSpPr/>
            <p:nvPr/>
          </p:nvSpPr>
          <p:spPr>
            <a:xfrm>
              <a:off x="427356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54440" y="556884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735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54440" y="5187960"/>
              <a:ext cx="36828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511440" y="5187960"/>
            <a:ext cx="749520" cy="749160"/>
            <a:chOff x="3511440" y="5187960"/>
            <a:chExt cx="749520" cy="749160"/>
          </a:xfrm>
        </p:grpSpPr>
        <p:sp>
          <p:nvSpPr>
            <p:cNvPr id="399" name=""/>
            <p:cNvSpPr/>
            <p:nvPr/>
          </p:nvSpPr>
          <p:spPr>
            <a:xfrm>
              <a:off x="3511440" y="5568840"/>
              <a:ext cx="368280" cy="3682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92680" y="5568840"/>
              <a:ext cx="368280" cy="3682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11440" y="5187960"/>
              <a:ext cx="368280" cy="3682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92680" y="5187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511440" y="4425840"/>
            <a:ext cx="749520" cy="749520"/>
            <a:chOff x="3511440" y="4425840"/>
            <a:chExt cx="749520" cy="749520"/>
          </a:xfrm>
        </p:grpSpPr>
        <p:sp>
          <p:nvSpPr>
            <p:cNvPr id="404" name=""/>
            <p:cNvSpPr/>
            <p:nvPr/>
          </p:nvSpPr>
          <p:spPr>
            <a:xfrm>
              <a:off x="3511440" y="4807080"/>
              <a:ext cx="368280" cy="36828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92680" y="4807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11440" y="4425840"/>
              <a:ext cx="368280" cy="36828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2680" y="4425840"/>
              <a:ext cx="368280" cy="36828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892680" y="4807080"/>
            <a:ext cx="749160" cy="749160"/>
            <a:chOff x="3892680" y="4807080"/>
            <a:chExt cx="749160" cy="749160"/>
          </a:xfrm>
        </p:grpSpPr>
        <p:sp>
          <p:nvSpPr>
            <p:cNvPr id="409" name=""/>
            <p:cNvSpPr/>
            <p:nvPr/>
          </p:nvSpPr>
          <p:spPr>
            <a:xfrm>
              <a:off x="3892680" y="518796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73560" y="518796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92680" y="480708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73560" y="480708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273560" y="4425840"/>
            <a:ext cx="749160" cy="749520"/>
            <a:chOff x="4273560" y="4425840"/>
            <a:chExt cx="749160" cy="749520"/>
          </a:xfrm>
        </p:grpSpPr>
        <p:sp>
          <p:nvSpPr>
            <p:cNvPr id="414" name=""/>
            <p:cNvSpPr/>
            <p:nvPr/>
          </p:nvSpPr>
          <p:spPr>
            <a:xfrm>
              <a:off x="4273560" y="480708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54440" y="4807080"/>
              <a:ext cx="368280" cy="3682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73560" y="4425840"/>
              <a:ext cx="368280" cy="3682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54440" y="4425840"/>
              <a:ext cx="368280" cy="3682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416560" y="2901960"/>
            <a:ext cx="3035160" cy="3499920"/>
            <a:chOff x="5416560" y="2901960"/>
            <a:chExt cx="3035160" cy="3499920"/>
          </a:xfrm>
        </p:grpSpPr>
        <p:grpSp>
          <p:nvGrpSpPr>
            <p:cNvPr id="419" name=""/>
            <p:cNvGrpSpPr/>
            <p:nvPr/>
          </p:nvGrpSpPr>
          <p:grpSpPr>
            <a:xfrm>
              <a:off x="5416560" y="4425840"/>
              <a:ext cx="3035160" cy="1511280"/>
              <a:chOff x="5416560" y="4425840"/>
              <a:chExt cx="3035160" cy="151128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5416560" y="4425840"/>
                <a:ext cx="1511280" cy="1511280"/>
                <a:chOff x="5416560" y="4425840"/>
                <a:chExt cx="1511280" cy="151128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5416560" y="5187960"/>
                  <a:ext cx="1511280" cy="749160"/>
                  <a:chOff x="5416560" y="5187960"/>
                  <a:chExt cx="1511280" cy="749160"/>
                </a:xfrm>
              </p:grpSpPr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5416560" y="5187960"/>
                    <a:ext cx="749160" cy="749160"/>
                    <a:chOff x="5416560" y="5187960"/>
                    <a:chExt cx="749160" cy="74916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5416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5797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5416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5797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6178680" y="5187960"/>
                    <a:ext cx="749160" cy="749160"/>
                    <a:chOff x="6178680" y="5187960"/>
                    <a:chExt cx="749160" cy="74916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617868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6559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617868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6559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5416560" y="4425840"/>
                  <a:ext cx="1511280" cy="749520"/>
                  <a:chOff x="5416560" y="4425840"/>
                  <a:chExt cx="1511280" cy="749520"/>
                </a:xfrm>
              </p:grpSpPr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5416560" y="4425840"/>
                    <a:ext cx="749160" cy="749520"/>
                    <a:chOff x="5416560" y="4425840"/>
                    <a:chExt cx="749160" cy="74952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5416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5797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5416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5797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6178680" y="4425840"/>
                    <a:ext cx="749160" cy="749520"/>
                    <a:chOff x="6178680" y="4425840"/>
                    <a:chExt cx="749160" cy="74952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617868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6559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617868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6559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43" name=""/>
              <p:cNvGrpSpPr/>
              <p:nvPr/>
            </p:nvGrpSpPr>
            <p:grpSpPr>
              <a:xfrm>
                <a:off x="6940440" y="4425840"/>
                <a:ext cx="1511280" cy="1511280"/>
                <a:chOff x="6940440" y="4425840"/>
                <a:chExt cx="1511280" cy="1511280"/>
              </a:xfrm>
            </p:grpSpPr>
            <p:grpSp>
              <p:nvGrpSpPr>
                <p:cNvPr id="444" name=""/>
                <p:cNvGrpSpPr/>
                <p:nvPr/>
              </p:nvGrpSpPr>
              <p:grpSpPr>
                <a:xfrm>
                  <a:off x="6940440" y="5187960"/>
                  <a:ext cx="1511280" cy="749160"/>
                  <a:chOff x="6940440" y="5187960"/>
                  <a:chExt cx="1511280" cy="749160"/>
                </a:xfrm>
              </p:grpSpPr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6940440" y="5187960"/>
                    <a:ext cx="749520" cy="749160"/>
                    <a:chOff x="6940440" y="5187960"/>
                    <a:chExt cx="749520" cy="74916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6940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732168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6940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732168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7702560" y="5187960"/>
                    <a:ext cx="749160" cy="749160"/>
                    <a:chOff x="7702560" y="5187960"/>
                    <a:chExt cx="749160" cy="74916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70256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8083440" y="5568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770256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8083440" y="51879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6940440" y="4425840"/>
                  <a:ext cx="1511280" cy="749520"/>
                  <a:chOff x="6940440" y="4425840"/>
                  <a:chExt cx="1511280" cy="749520"/>
                </a:xfrm>
              </p:grpSpPr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6940440" y="4425840"/>
                    <a:ext cx="749520" cy="749520"/>
                    <a:chOff x="6940440" y="4425840"/>
                    <a:chExt cx="749520" cy="74952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6940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732168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940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732168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7702560" y="4425840"/>
                    <a:ext cx="749160" cy="749520"/>
                    <a:chOff x="7702560" y="4425840"/>
                    <a:chExt cx="749160" cy="74952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>
                      <a:off x="770256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8083440" y="48070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770256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8083440" y="44258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66" name=""/>
            <p:cNvGrpSpPr/>
            <p:nvPr/>
          </p:nvGrpSpPr>
          <p:grpSpPr>
            <a:xfrm>
              <a:off x="5416560" y="2901960"/>
              <a:ext cx="1511280" cy="1511280"/>
              <a:chOff x="5416560" y="2901960"/>
              <a:chExt cx="1511280" cy="151128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5416560" y="3664080"/>
                <a:ext cx="1511280" cy="749160"/>
                <a:chOff x="5416560" y="3664080"/>
                <a:chExt cx="1511280" cy="749160"/>
              </a:xfrm>
            </p:grpSpPr>
            <p:grpSp>
              <p:nvGrpSpPr>
                <p:cNvPr id="468" name=""/>
                <p:cNvGrpSpPr/>
                <p:nvPr/>
              </p:nvGrpSpPr>
              <p:grpSpPr>
                <a:xfrm>
                  <a:off x="5416560" y="3664080"/>
                  <a:ext cx="749160" cy="749160"/>
                  <a:chOff x="5416560" y="3664080"/>
                  <a:chExt cx="749160" cy="74916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41656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79744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541656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579744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6178680" y="3664080"/>
                  <a:ext cx="749160" cy="749160"/>
                  <a:chOff x="6178680" y="3664080"/>
                  <a:chExt cx="749160" cy="74916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617868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6559560" y="4044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17868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6559560" y="36640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8" name=""/>
              <p:cNvGrpSpPr/>
              <p:nvPr/>
            </p:nvGrpSpPr>
            <p:grpSpPr>
              <a:xfrm>
                <a:off x="5416560" y="2901960"/>
                <a:ext cx="1511280" cy="749160"/>
                <a:chOff x="5416560" y="2901960"/>
                <a:chExt cx="1511280" cy="749160"/>
              </a:xfrm>
            </p:grpSpPr>
            <p:grpSp>
              <p:nvGrpSpPr>
                <p:cNvPr id="479" name=""/>
                <p:cNvGrpSpPr/>
                <p:nvPr/>
              </p:nvGrpSpPr>
              <p:grpSpPr>
                <a:xfrm>
                  <a:off x="5416560" y="2901960"/>
                  <a:ext cx="749160" cy="749160"/>
                  <a:chOff x="5416560" y="2901960"/>
                  <a:chExt cx="749160" cy="7491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541656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579744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541656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579744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6178680" y="2901960"/>
                  <a:ext cx="749160" cy="749160"/>
                  <a:chOff x="6178680" y="2901960"/>
                  <a:chExt cx="749160" cy="74916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617868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6559560" y="32828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617868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559560" y="29019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89" name=""/>
            <p:cNvGrpSpPr/>
            <p:nvPr/>
          </p:nvGrpSpPr>
          <p:grpSpPr>
            <a:xfrm>
              <a:off x="6940440" y="3664080"/>
              <a:ext cx="1511280" cy="749160"/>
              <a:chOff x="6940440" y="3664080"/>
              <a:chExt cx="1511280" cy="74916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6940440" y="3664080"/>
                <a:ext cx="749520" cy="749160"/>
                <a:chOff x="6940440" y="3664080"/>
                <a:chExt cx="749520" cy="74916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694044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32168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94044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32168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7702560" y="3664080"/>
                <a:ext cx="749160" cy="749160"/>
                <a:chOff x="7702560" y="3664080"/>
                <a:chExt cx="749160" cy="7491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770256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083440" y="40449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70256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083440" y="36640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0" name=""/>
            <p:cNvSpPr/>
            <p:nvPr/>
          </p:nvSpPr>
          <p:spPr>
            <a:xfrm>
              <a:off x="6940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21680" y="32828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40440" y="2901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21680" y="29019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7702560" y="2901960"/>
              <a:ext cx="749160" cy="749160"/>
              <a:chOff x="7702560" y="2901960"/>
              <a:chExt cx="749160" cy="749160"/>
            </a:xfrm>
          </p:grpSpPr>
          <p:sp>
            <p:nvSpPr>
              <p:cNvPr id="505" name=""/>
              <p:cNvSpPr/>
              <p:nvPr/>
            </p:nvSpPr>
            <p:spPr>
              <a:xfrm>
                <a:off x="7702560" y="3282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083440" y="32828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702560" y="2901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083440" y="29019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6629400" y="5943600"/>
              <a:ext cx="76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x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0" name="TETRIS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511" name="TETRIS" descr=""/>
          <p:cNvPicPr/>
          <p:nvPr/>
        </p:nvPicPr>
        <p:blipFill>
          <a:blip r:embed="rId2"/>
          <a:stretch/>
        </p:blipFill>
        <p:spPr>
          <a:xfrm>
            <a:off x="8381880" y="53352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ling A Defective Chessboar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749680" y="1073160"/>
            <a:ext cx="3035160" cy="3498840"/>
            <a:chOff x="2749680" y="1073160"/>
            <a:chExt cx="3035160" cy="3498840"/>
          </a:xfrm>
        </p:grpSpPr>
        <p:grpSp>
          <p:nvGrpSpPr>
            <p:cNvPr id="514" name=""/>
            <p:cNvGrpSpPr/>
            <p:nvPr/>
          </p:nvGrpSpPr>
          <p:grpSpPr>
            <a:xfrm>
              <a:off x="2749680" y="2597040"/>
              <a:ext cx="3035160" cy="1511280"/>
              <a:chOff x="2749680" y="2597040"/>
              <a:chExt cx="3035160" cy="151128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2749680" y="2597040"/>
                <a:ext cx="1511280" cy="1511280"/>
                <a:chOff x="2749680" y="2597040"/>
                <a:chExt cx="1511280" cy="1511280"/>
              </a:xfrm>
            </p:grpSpPr>
            <p:grpSp>
              <p:nvGrpSpPr>
                <p:cNvPr id="516" name=""/>
                <p:cNvGrpSpPr/>
                <p:nvPr/>
              </p:nvGrpSpPr>
              <p:grpSpPr>
                <a:xfrm>
                  <a:off x="2749680" y="3359160"/>
                  <a:ext cx="1511280" cy="749160"/>
                  <a:chOff x="2749680" y="3359160"/>
                  <a:chExt cx="1511280" cy="749160"/>
                </a:xfrm>
              </p:grpSpPr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2749680" y="3359160"/>
                    <a:ext cx="749160" cy="749160"/>
                    <a:chOff x="2749680" y="3359160"/>
                    <a:chExt cx="749160" cy="74916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274968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313056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274968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313056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3511440" y="3359160"/>
                    <a:ext cx="749520" cy="749160"/>
                    <a:chOff x="3511440" y="3359160"/>
                    <a:chExt cx="749520" cy="74916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351144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389268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51144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389268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2749680" y="2597040"/>
                  <a:ext cx="1511280" cy="749520"/>
                  <a:chOff x="2749680" y="2597040"/>
                  <a:chExt cx="1511280" cy="749520"/>
                </a:xfrm>
              </p:grpSpPr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2749680" y="2597040"/>
                    <a:ext cx="749160" cy="749520"/>
                    <a:chOff x="2749680" y="2597040"/>
                    <a:chExt cx="749160" cy="74952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274968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313056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274968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313056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3511440" y="2597040"/>
                    <a:ext cx="749520" cy="749520"/>
                    <a:chOff x="3511440" y="2597040"/>
                    <a:chExt cx="749520" cy="74952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351144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389268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351144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389268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38" name=""/>
              <p:cNvGrpSpPr/>
              <p:nvPr/>
            </p:nvGrpSpPr>
            <p:grpSpPr>
              <a:xfrm>
                <a:off x="4273560" y="2597040"/>
                <a:ext cx="1511280" cy="1511280"/>
                <a:chOff x="4273560" y="2597040"/>
                <a:chExt cx="1511280" cy="1511280"/>
              </a:xfrm>
            </p:grpSpPr>
            <p:grpSp>
              <p:nvGrpSpPr>
                <p:cNvPr id="539" name=""/>
                <p:cNvGrpSpPr/>
                <p:nvPr/>
              </p:nvGrpSpPr>
              <p:grpSpPr>
                <a:xfrm>
                  <a:off x="4273560" y="3359160"/>
                  <a:ext cx="1511280" cy="749160"/>
                  <a:chOff x="4273560" y="3359160"/>
                  <a:chExt cx="1511280" cy="749160"/>
                </a:xfrm>
              </p:grpSpPr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4273560" y="3359160"/>
                    <a:ext cx="749160" cy="749160"/>
                    <a:chOff x="4273560" y="3359160"/>
                    <a:chExt cx="749160" cy="74916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427356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465444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427356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465444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5035680" y="3359160"/>
                    <a:ext cx="749160" cy="749160"/>
                    <a:chOff x="5035680" y="3359160"/>
                    <a:chExt cx="749160" cy="74916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503568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541656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503568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541656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50" name=""/>
                <p:cNvGrpSpPr/>
                <p:nvPr/>
              </p:nvGrpSpPr>
              <p:grpSpPr>
                <a:xfrm>
                  <a:off x="4273560" y="2597040"/>
                  <a:ext cx="1511280" cy="749520"/>
                  <a:chOff x="4273560" y="2597040"/>
                  <a:chExt cx="1511280" cy="749520"/>
                </a:xfrm>
              </p:grpSpPr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4273560" y="2597040"/>
                    <a:ext cx="749160" cy="749520"/>
                    <a:chOff x="4273560" y="2597040"/>
                    <a:chExt cx="749160" cy="74952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427356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465444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427356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465444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5035680" y="2597040"/>
                    <a:ext cx="749160" cy="749520"/>
                    <a:chOff x="5035680" y="2597040"/>
                    <a:chExt cx="749160" cy="74952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503568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541656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503568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541656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561" name=""/>
            <p:cNvGrpSpPr/>
            <p:nvPr/>
          </p:nvGrpSpPr>
          <p:grpSpPr>
            <a:xfrm>
              <a:off x="2749680" y="1073160"/>
              <a:ext cx="1511280" cy="1511280"/>
              <a:chOff x="2749680" y="1073160"/>
              <a:chExt cx="1511280" cy="151128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2749680" y="1835280"/>
                <a:ext cx="1511280" cy="749160"/>
                <a:chOff x="2749680" y="1835280"/>
                <a:chExt cx="1511280" cy="749160"/>
              </a:xfrm>
            </p:grpSpPr>
            <p:grpSp>
              <p:nvGrpSpPr>
                <p:cNvPr id="563" name=""/>
                <p:cNvGrpSpPr/>
                <p:nvPr/>
              </p:nvGrpSpPr>
              <p:grpSpPr>
                <a:xfrm>
                  <a:off x="2749680" y="1835280"/>
                  <a:ext cx="749160" cy="749160"/>
                  <a:chOff x="2749680" y="1835280"/>
                  <a:chExt cx="749160" cy="74916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274968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313056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274968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313056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3511440" y="1835280"/>
                  <a:ext cx="749520" cy="749160"/>
                  <a:chOff x="3511440" y="1835280"/>
                  <a:chExt cx="749520" cy="74916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351144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389268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351144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389268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3" name=""/>
              <p:cNvGrpSpPr/>
              <p:nvPr/>
            </p:nvGrpSpPr>
            <p:grpSpPr>
              <a:xfrm>
                <a:off x="2749680" y="1073160"/>
                <a:ext cx="1511280" cy="749160"/>
                <a:chOff x="2749680" y="1073160"/>
                <a:chExt cx="1511280" cy="749160"/>
              </a:xfrm>
            </p:grpSpPr>
            <p:grpSp>
              <p:nvGrpSpPr>
                <p:cNvPr id="574" name=""/>
                <p:cNvGrpSpPr/>
                <p:nvPr/>
              </p:nvGrpSpPr>
              <p:grpSpPr>
                <a:xfrm>
                  <a:off x="2749680" y="1073160"/>
                  <a:ext cx="749160" cy="749160"/>
                  <a:chOff x="2749680" y="1073160"/>
                  <a:chExt cx="749160" cy="74916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274968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313056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274968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313056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3511440" y="1073160"/>
                  <a:ext cx="749520" cy="749160"/>
                  <a:chOff x="3511440" y="1073160"/>
                  <a:chExt cx="749520" cy="74916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351144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389268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351144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389268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84" name=""/>
            <p:cNvGrpSpPr/>
            <p:nvPr/>
          </p:nvGrpSpPr>
          <p:grpSpPr>
            <a:xfrm>
              <a:off x="4273560" y="1835280"/>
              <a:ext cx="1511280" cy="749160"/>
              <a:chOff x="4273560" y="1835280"/>
              <a:chExt cx="1511280" cy="74916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4273560" y="1835280"/>
                <a:ext cx="749160" cy="749160"/>
                <a:chOff x="4273560" y="1835280"/>
                <a:chExt cx="749160" cy="74916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27356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65444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27356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65444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35680" y="1835280"/>
                <a:ext cx="749160" cy="749160"/>
                <a:chOff x="5035680" y="1835280"/>
                <a:chExt cx="749160" cy="749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03568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41656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03568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41656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5" name=""/>
            <p:cNvSpPr/>
            <p:nvPr/>
          </p:nvSpPr>
          <p:spPr>
            <a:xfrm>
              <a:off x="4273560" y="14540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54440" y="14540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73560" y="10731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54440" y="10731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5035680" y="1073160"/>
              <a:ext cx="749160" cy="749160"/>
              <a:chOff x="5035680" y="1073160"/>
              <a:chExt cx="749160" cy="749160"/>
            </a:xfrm>
          </p:grpSpPr>
          <p:sp>
            <p:nvSpPr>
              <p:cNvPr id="600" name=""/>
              <p:cNvSpPr/>
              <p:nvPr/>
            </p:nvSpPr>
            <p:spPr>
              <a:xfrm>
                <a:off x="5035680" y="14540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16560" y="14540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35680" y="10731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416560" y="10731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3962520" y="41148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685800" y="4724280"/>
            <a:ext cx="8153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into four smaller chessboards.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x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267080" y="83808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38280" y="2590920"/>
            <a:ext cx="38102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5715000"/>
            <a:ext cx="8153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se is a defecti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x 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ss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273560" y="1073160"/>
            <a:ext cx="1511280" cy="1511280"/>
            <a:chOff x="4273560" y="1073160"/>
            <a:chExt cx="1511280" cy="1511280"/>
          </a:xfrm>
        </p:grpSpPr>
        <p:sp>
          <p:nvSpPr>
            <p:cNvPr id="610" name=""/>
            <p:cNvSpPr/>
            <p:nvPr/>
          </p:nvSpPr>
          <p:spPr>
            <a:xfrm>
              <a:off x="427356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5444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7356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5444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03568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41656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3568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1656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73560" y="14540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654440" y="14540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7356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5444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35680" y="14540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6560" y="14540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03568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1656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6" name="TETRIS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627" name="TETRIS" descr=""/>
          <p:cNvPicPr/>
          <p:nvPr/>
        </p:nvPicPr>
        <p:blipFill>
          <a:blip r:embed="rId2"/>
          <a:stretch/>
        </p:blipFill>
        <p:spPr>
          <a:xfrm>
            <a:off x="8381880" y="53352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ling A Defective Chessboar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2749680" y="1073160"/>
            <a:ext cx="3035160" cy="3498840"/>
            <a:chOff x="2749680" y="1073160"/>
            <a:chExt cx="3035160" cy="3498840"/>
          </a:xfrm>
        </p:grpSpPr>
        <p:grpSp>
          <p:nvGrpSpPr>
            <p:cNvPr id="630" name=""/>
            <p:cNvGrpSpPr/>
            <p:nvPr/>
          </p:nvGrpSpPr>
          <p:grpSpPr>
            <a:xfrm>
              <a:off x="2749680" y="2597040"/>
              <a:ext cx="3035160" cy="1511280"/>
              <a:chOff x="2749680" y="2597040"/>
              <a:chExt cx="3035160" cy="151128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2749680" y="2597040"/>
                <a:ext cx="1511280" cy="1511280"/>
                <a:chOff x="2749680" y="2597040"/>
                <a:chExt cx="1511280" cy="1511280"/>
              </a:xfrm>
            </p:grpSpPr>
            <p:grpSp>
              <p:nvGrpSpPr>
                <p:cNvPr id="632" name=""/>
                <p:cNvGrpSpPr/>
                <p:nvPr/>
              </p:nvGrpSpPr>
              <p:grpSpPr>
                <a:xfrm>
                  <a:off x="2749680" y="3359160"/>
                  <a:ext cx="1511280" cy="749160"/>
                  <a:chOff x="2749680" y="3359160"/>
                  <a:chExt cx="1511280" cy="749160"/>
                </a:xfrm>
              </p:grpSpPr>
              <p:grpSp>
                <p:nvGrpSpPr>
                  <p:cNvPr id="633" name=""/>
                  <p:cNvGrpSpPr/>
                  <p:nvPr/>
                </p:nvGrpSpPr>
                <p:grpSpPr>
                  <a:xfrm>
                    <a:off x="2749680" y="3359160"/>
                    <a:ext cx="749160" cy="749160"/>
                    <a:chOff x="2749680" y="3359160"/>
                    <a:chExt cx="749160" cy="749160"/>
                  </a:xfrm>
                </p:grpSpPr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274968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>
                      <a:off x="313056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>
                      <a:off x="274968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313056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3511440" y="3359160"/>
                    <a:ext cx="749520" cy="749160"/>
                    <a:chOff x="3511440" y="3359160"/>
                    <a:chExt cx="749520" cy="74916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>
                      <a:off x="351144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389268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351144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389268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2749680" y="2597040"/>
                  <a:ext cx="1511280" cy="749520"/>
                  <a:chOff x="2749680" y="2597040"/>
                  <a:chExt cx="1511280" cy="749520"/>
                </a:xfrm>
              </p:grpSpPr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2749680" y="2597040"/>
                    <a:ext cx="749160" cy="749520"/>
                    <a:chOff x="2749680" y="2597040"/>
                    <a:chExt cx="749160" cy="74952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274968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313056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>
                      <a:off x="274968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313056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3511440" y="2597040"/>
                    <a:ext cx="749520" cy="749520"/>
                    <a:chOff x="3511440" y="2597040"/>
                    <a:chExt cx="749520" cy="74952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351144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389268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351144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389268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54" name=""/>
              <p:cNvGrpSpPr/>
              <p:nvPr/>
            </p:nvGrpSpPr>
            <p:grpSpPr>
              <a:xfrm>
                <a:off x="4273560" y="2597040"/>
                <a:ext cx="1511280" cy="1511280"/>
                <a:chOff x="4273560" y="2597040"/>
                <a:chExt cx="1511280" cy="1511280"/>
              </a:xfrm>
            </p:grpSpPr>
            <p:grpSp>
              <p:nvGrpSpPr>
                <p:cNvPr id="655" name=""/>
                <p:cNvGrpSpPr/>
                <p:nvPr/>
              </p:nvGrpSpPr>
              <p:grpSpPr>
                <a:xfrm>
                  <a:off x="4273560" y="3359160"/>
                  <a:ext cx="1511280" cy="749160"/>
                  <a:chOff x="4273560" y="3359160"/>
                  <a:chExt cx="1511280" cy="749160"/>
                </a:xfrm>
              </p:grpSpPr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4273560" y="3359160"/>
                    <a:ext cx="749160" cy="749160"/>
                    <a:chOff x="4273560" y="3359160"/>
                    <a:chExt cx="749160" cy="74916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427356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465444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427356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465444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035680" y="3359160"/>
                    <a:ext cx="749160" cy="749160"/>
                    <a:chOff x="5035680" y="3359160"/>
                    <a:chExt cx="749160" cy="74916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503568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5416560" y="3740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503568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>
                      <a:off x="5416560" y="335916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66" name=""/>
                <p:cNvGrpSpPr/>
                <p:nvPr/>
              </p:nvGrpSpPr>
              <p:grpSpPr>
                <a:xfrm>
                  <a:off x="4273560" y="2597040"/>
                  <a:ext cx="1511280" cy="749520"/>
                  <a:chOff x="4273560" y="2597040"/>
                  <a:chExt cx="1511280" cy="749520"/>
                </a:xfrm>
              </p:grpSpPr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4273560" y="2597040"/>
                    <a:ext cx="749160" cy="749520"/>
                    <a:chOff x="4273560" y="2597040"/>
                    <a:chExt cx="749160" cy="74952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427356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465444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427356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465444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5035680" y="2597040"/>
                    <a:ext cx="749160" cy="749520"/>
                    <a:chOff x="5035680" y="2597040"/>
                    <a:chExt cx="749160" cy="74952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503568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5416560" y="297828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503568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5416560" y="2597040"/>
                      <a:ext cx="368280" cy="36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77" name=""/>
            <p:cNvGrpSpPr/>
            <p:nvPr/>
          </p:nvGrpSpPr>
          <p:grpSpPr>
            <a:xfrm>
              <a:off x="2749680" y="1073160"/>
              <a:ext cx="1511280" cy="1511280"/>
              <a:chOff x="2749680" y="1073160"/>
              <a:chExt cx="1511280" cy="1511280"/>
            </a:xfrm>
          </p:grpSpPr>
          <p:grpSp>
            <p:nvGrpSpPr>
              <p:cNvPr id="678" name=""/>
              <p:cNvGrpSpPr/>
              <p:nvPr/>
            </p:nvGrpSpPr>
            <p:grpSpPr>
              <a:xfrm>
                <a:off x="2749680" y="1835280"/>
                <a:ext cx="1511280" cy="749160"/>
                <a:chOff x="2749680" y="1835280"/>
                <a:chExt cx="1511280" cy="749160"/>
              </a:xfrm>
            </p:grpSpPr>
            <p:grpSp>
              <p:nvGrpSpPr>
                <p:cNvPr id="679" name=""/>
                <p:cNvGrpSpPr/>
                <p:nvPr/>
              </p:nvGrpSpPr>
              <p:grpSpPr>
                <a:xfrm>
                  <a:off x="2749680" y="1835280"/>
                  <a:ext cx="749160" cy="749160"/>
                  <a:chOff x="2749680" y="1835280"/>
                  <a:chExt cx="749160" cy="74916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274968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313056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274968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313056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4" name=""/>
                <p:cNvGrpSpPr/>
                <p:nvPr/>
              </p:nvGrpSpPr>
              <p:grpSpPr>
                <a:xfrm>
                  <a:off x="3511440" y="1835280"/>
                  <a:ext cx="749520" cy="749160"/>
                  <a:chOff x="3511440" y="1835280"/>
                  <a:chExt cx="749520" cy="74916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>
                    <a:off x="351144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3892680" y="2216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351144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3892680" y="183528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9" name=""/>
              <p:cNvGrpSpPr/>
              <p:nvPr/>
            </p:nvGrpSpPr>
            <p:grpSpPr>
              <a:xfrm>
                <a:off x="2749680" y="1073160"/>
                <a:ext cx="1511280" cy="749160"/>
                <a:chOff x="2749680" y="1073160"/>
                <a:chExt cx="1511280" cy="749160"/>
              </a:xfrm>
            </p:grpSpPr>
            <p:grpSp>
              <p:nvGrpSpPr>
                <p:cNvPr id="690" name=""/>
                <p:cNvGrpSpPr/>
                <p:nvPr/>
              </p:nvGrpSpPr>
              <p:grpSpPr>
                <a:xfrm>
                  <a:off x="2749680" y="1073160"/>
                  <a:ext cx="749160" cy="749160"/>
                  <a:chOff x="2749680" y="1073160"/>
                  <a:chExt cx="749160" cy="74916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>
                    <a:off x="274968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313056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274968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313056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5" name=""/>
                <p:cNvGrpSpPr/>
                <p:nvPr/>
              </p:nvGrpSpPr>
              <p:grpSpPr>
                <a:xfrm>
                  <a:off x="3511440" y="1073160"/>
                  <a:ext cx="749520" cy="749160"/>
                  <a:chOff x="3511440" y="1073160"/>
                  <a:chExt cx="749520" cy="74916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>
                    <a:off x="351144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3892680" y="145404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351144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3892680" y="1073160"/>
                    <a:ext cx="368280" cy="36828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00" name=""/>
            <p:cNvGrpSpPr/>
            <p:nvPr/>
          </p:nvGrpSpPr>
          <p:grpSpPr>
            <a:xfrm>
              <a:off x="4273560" y="1835280"/>
              <a:ext cx="1511280" cy="749160"/>
              <a:chOff x="4273560" y="1835280"/>
              <a:chExt cx="1511280" cy="74916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4273560" y="1835280"/>
                <a:ext cx="749160" cy="749160"/>
                <a:chOff x="4273560" y="1835280"/>
                <a:chExt cx="749160" cy="74916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427356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65444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27356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65444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5035680" y="1835280"/>
                <a:ext cx="749160" cy="749160"/>
                <a:chOff x="5035680" y="1835280"/>
                <a:chExt cx="749160" cy="74916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503568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416560" y="221616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03568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416560" y="1835280"/>
                  <a:ext cx="368280" cy="3682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1" name=""/>
            <p:cNvSpPr/>
            <p:nvPr/>
          </p:nvSpPr>
          <p:spPr>
            <a:xfrm>
              <a:off x="4273560" y="14540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54440" y="14540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73560" y="10731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54440" y="107316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5035680" y="1073160"/>
              <a:ext cx="749160" cy="749160"/>
              <a:chOff x="5035680" y="1073160"/>
              <a:chExt cx="749160" cy="749160"/>
            </a:xfrm>
          </p:grpSpPr>
          <p:sp>
            <p:nvSpPr>
              <p:cNvPr id="716" name=""/>
              <p:cNvSpPr/>
              <p:nvPr/>
            </p:nvSpPr>
            <p:spPr>
              <a:xfrm>
                <a:off x="5035680" y="14540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16560" y="145404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035680" y="10731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16560" y="1073160"/>
                <a:ext cx="3682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3962520" y="41148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4267080" y="838080"/>
            <a:ext cx="0" cy="3505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438280" y="2590920"/>
            <a:ext cx="38102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62120" y="4575240"/>
            <a:ext cx="81532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he other thre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4 x 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ssboard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ctive by placing a triomino at their common cor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4273560" y="1073160"/>
            <a:ext cx="1511280" cy="1511280"/>
            <a:chOff x="4273560" y="1073160"/>
            <a:chExt cx="1511280" cy="1511280"/>
          </a:xfrm>
        </p:grpSpPr>
        <p:sp>
          <p:nvSpPr>
            <p:cNvPr id="725" name=""/>
            <p:cNvSpPr/>
            <p:nvPr/>
          </p:nvSpPr>
          <p:spPr>
            <a:xfrm>
              <a:off x="427356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5444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7356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5444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3568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1656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3568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6560" y="18352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73560" y="14540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54440" y="14540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27356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65444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035680" y="14540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16560" y="14540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3568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416560" y="1073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3892680" y="2216160"/>
            <a:ext cx="749160" cy="749160"/>
            <a:chOff x="3892680" y="2216160"/>
            <a:chExt cx="749160" cy="749160"/>
          </a:xfrm>
        </p:grpSpPr>
        <p:sp>
          <p:nvSpPr>
            <p:cNvPr id="742" name=""/>
            <p:cNvSpPr/>
            <p:nvPr/>
          </p:nvSpPr>
          <p:spPr>
            <a:xfrm>
              <a:off x="3892680" y="2597040"/>
              <a:ext cx="368280" cy="36828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273560" y="2597040"/>
              <a:ext cx="368280" cy="36828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92680" y="2216160"/>
              <a:ext cx="368280" cy="368280"/>
            </a:xfrm>
            <a:prstGeom prst="rect">
              <a:avLst/>
            </a:prstGeom>
            <a:solidFill>
              <a:srgbClr val="33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273560" y="22161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762120" y="5641920"/>
            <a:ext cx="815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vely tile the four defectiv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4 x 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ssbo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TETRIS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748" name="TETRIS" descr=""/>
          <p:cNvPicPr/>
          <p:nvPr/>
        </p:nvPicPr>
        <p:blipFill>
          <a:blip r:embed="rId2"/>
          <a:stretch/>
        </p:blipFill>
        <p:spPr>
          <a:xfrm>
            <a:off x="8534520" y="45720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ling A Defective Chessboar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3587760" y="1987560"/>
            <a:ext cx="1511280" cy="1511280"/>
            <a:chOff x="3587760" y="1987560"/>
            <a:chExt cx="1511280" cy="1511280"/>
          </a:xfrm>
        </p:grpSpPr>
        <p:sp>
          <p:nvSpPr>
            <p:cNvPr id="751" name=""/>
            <p:cNvSpPr/>
            <p:nvPr/>
          </p:nvSpPr>
          <p:spPr>
            <a:xfrm>
              <a:off x="3587760" y="3130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968640" y="3130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587760" y="2749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968640" y="2749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349880" y="3130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30760" y="3130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349880" y="2749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730760" y="2749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87760" y="2368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68640" y="23684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87760" y="1987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968640" y="1987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49880" y="2368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730760" y="2368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49880" y="1987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730760" y="1987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4343400" y="1676520"/>
            <a:ext cx="0" cy="22096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200400" y="2743200"/>
            <a:ext cx="2286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968640" y="2368440"/>
            <a:ext cx="749520" cy="749520"/>
            <a:chOff x="3968640" y="2368440"/>
            <a:chExt cx="749520" cy="749520"/>
          </a:xfrm>
        </p:grpSpPr>
        <p:sp>
          <p:nvSpPr>
            <p:cNvPr id="770" name=""/>
            <p:cNvSpPr/>
            <p:nvPr/>
          </p:nvSpPr>
          <p:spPr>
            <a:xfrm>
              <a:off x="3968640" y="274968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349880" y="274968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68640" y="2368440"/>
              <a:ext cx="368280" cy="3682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349880" y="2368440"/>
              <a:ext cx="368280" cy="368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4" name="TETRIS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775" name="TETRIS" descr=""/>
          <p:cNvPicPr/>
          <p:nvPr/>
        </p:nvPicPr>
        <p:blipFill>
          <a:blip r:embed="rId2"/>
          <a:stretch/>
        </p:blipFill>
        <p:spPr>
          <a:xfrm>
            <a:off x="8458200" y="53352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time taken to tile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ctive chess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0) =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k) = 4t(k-1) +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rence equation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CLOCK43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bstitution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k) = 4t(k-1)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[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t(k-2) + c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(k-2) + 4c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4t(k-3) + c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 + 4c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(k-3)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4c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(0)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-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-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...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4c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-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-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... + 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+ 4c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Theta(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Theta(number of triominoes plac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And Ma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lightest and heavies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using a balance that allows you to compare the weigh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3127320" y="3200400"/>
          <a:ext cx="1638360" cy="16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7320" y="3200400"/>
                    <a:ext cx="163836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"/>
          <p:cNvSpPr/>
          <p:nvPr/>
        </p:nvSpPr>
        <p:spPr>
          <a:xfrm>
            <a:off x="457200" y="55627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the number of comparis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mall And Large Inst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a list that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inimum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a list that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inimum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33160" y="9907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element with max weight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[0:n-1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43000" y="1447920"/>
            <a:ext cx="624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4920" y="2438280"/>
            <a:ext cx="8610480" cy="28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xElement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 = 1; i &lt; n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w[maxElement] &lt; w[i]) maxElement = 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57200" y="51055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comparisons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And Ma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ax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mak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s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n of the remain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mak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s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number of comparison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n-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143000" y="1447920"/>
            <a:ext cx="624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e And Conqu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 min and max element making at most one compar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arge Instance Min And Ma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s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oup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loor(n/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eil(n/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s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in and max of each group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min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{min(A), min(B)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max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ax{max(A), max(B)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And Max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n and max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3,5,6,2,4,9,3,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{3,5,6,2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{4,9,3,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(A)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(B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x(A) = 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max(B) = 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{min(A),min(B)}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x{max(A), max(B)} = 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viding Into Smaller Instan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648320" y="1219320"/>
            <a:ext cx="396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,6,3,9,1,7,5,4,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38080" y="19051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,6,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246720" y="1981080"/>
            <a:ext cx="213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,7,5,4,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04920" y="28954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971800" y="28195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6,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92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3591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33720" y="396252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429000" y="39625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65640" y="2819520"/>
            <a:ext cx="114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,7,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694640" y="2819520"/>
            <a:ext cx="12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4,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5444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6451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4952520" y="365760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486400" y="373392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265640" y="4038480"/>
            <a:ext cx="114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37240" y="3886200"/>
            <a:ext cx="91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7,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016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8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7314840" y="365760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924680" y="36576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629400" y="388620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28160" y="380988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lve Small Instances And Combin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04920" y="28954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92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3591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133720" y="396252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29000" y="39625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65444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6451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4952520" y="365760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486400" y="373392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265640" y="4038480"/>
            <a:ext cx="114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637240" y="3886200"/>
            <a:ext cx="91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7,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016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388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7314840" y="365760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924680" y="36576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29400" y="388620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228160" y="380988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66160" y="380988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085480" y="495288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6,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04440" y="495288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971800" y="28195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447920" y="19051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038480" y="49528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105520" y="49528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5,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494240" y="2895480"/>
            <a:ext cx="114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477120" y="49528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4,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770960" y="48769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694640" y="2819520"/>
            <a:ext cx="12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246720" y="1981080"/>
            <a:ext cx="213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648320" y="1219320"/>
            <a:ext cx="396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number of comparisons made when finding the min and max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0) = c(1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2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n) = c(floor(n/2)) + c(ceil(n/2)) +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lve the recurrence, assu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ower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 substit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n) = ceil(3n/2) -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CLOCK43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terpretation Of Recursive Vers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king of a recursive divide-and-conquer algorithm can be described by a tree—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cursion 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gorithm moves down the recursion tree dividing large instances into smaller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s represen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m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cursive algorithm moves back up the tree combining the results from the sub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bining finds the min of the mins computed at leaves and the max of the leaf max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ownward Pass Divides Into Smaller Instan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44960" y="2673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495680" y="2438280"/>
            <a:ext cx="396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,6,3,9,1,7,5,4,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911240" y="3664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254640" y="3664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2362320" y="2971800"/>
            <a:ext cx="1676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95680" y="297180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85800" y="31240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,6,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094440" y="3200400"/>
            <a:ext cx="213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,7,5,4,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920880" y="4502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673360" y="4502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1219320" y="4038480"/>
            <a:ext cx="7617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86000" y="40384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52280" y="411480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819520" y="40384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6,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39840" y="5645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68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2437920" y="4952880"/>
            <a:ext cx="3812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048120" y="4876920"/>
            <a:ext cx="3045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18148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76720" y="518148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035680" y="4502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397640" y="4502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5410080" y="41148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29400" y="403848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113360" y="4038480"/>
            <a:ext cx="114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,7,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542360" y="4038480"/>
            <a:ext cx="12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4,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502160" y="5568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928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4800240" y="487692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334120" y="4952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113360" y="5257800"/>
            <a:ext cx="114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484960" y="5105520"/>
            <a:ext cx="91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7,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644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8236080" y="5492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7162920" y="487692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772400" y="4876920"/>
            <a:ext cx="6094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477120" y="510552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075520" y="502920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lving A Small Inst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 instance is solved using some direct/simple strate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a list that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ount, insertion, bubble, or selection s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inimum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no minimum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single element is the minim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mpare the two elements and determine which is smal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pward Pass Combines Results From Sub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21280" y="2368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987560" y="3359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330960" y="3359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437920" y="2666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572000" y="2666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9968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749680" y="4197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1294920" y="3733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362320" y="37339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28600" y="38098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8,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16160" y="5340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282840" y="5264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2514600" y="46483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124080" y="45720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057400" y="48769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352680" y="48769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1116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47396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5486400" y="3809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05720" y="3733920"/>
            <a:ext cx="8380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78480" y="5264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568840" y="5264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4876920" y="457200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410080" y="464832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189320" y="4952880"/>
            <a:ext cx="114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560920" y="4800600"/>
            <a:ext cx="91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7,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940440" y="5264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31204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7238520" y="457200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848720" y="4572000"/>
            <a:ext cx="6094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53080" y="480060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8151840" y="472428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89840" y="472428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009160" y="586728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6,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228480" y="586728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895480" y="37339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3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371600" y="28195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962520" y="58672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029200" y="58672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5,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417920" y="3809880"/>
            <a:ext cx="114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400800" y="58672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4,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694640" y="57913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618320" y="3733920"/>
            <a:ext cx="12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2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170760" y="2895480"/>
            <a:ext cx="213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572000" y="2133720"/>
            <a:ext cx="396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{1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erative Vers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/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each and possib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that has ju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n and max in each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n of the m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ax of the max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erative Vers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2,8,3,6,9,1,7,5,4,2,8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2,8}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3,6}, {9,1}, {7,5}, {4,2}, {8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s = {2,3,1,5,2,8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xs = {8,6,9,7,4,8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OfMins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xOfMaxs =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/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each and possib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that has ju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mp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n and max in each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loor(n/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n of the m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eil(n/2) -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ax of the max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eil(n/2) -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eil(3n/2) -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e A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left subtree and right subtree recursive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do a trickle down operation at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(n) =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(n) = 2t(n/2) + d * he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onst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o g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(n) = 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iteratively in Chapter 1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e A Loser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left sub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right subtre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winners from left and right subtre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er is saved in root and winner is return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lt;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2t(n/2) +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const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o g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ed iteratively in Chapter 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lving A Large Inst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240" y="152352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rge instance is solv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the large instance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 &gt;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maller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 smaller instances someh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the results of the smaller instances to obtain the result for the original large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A Large Lis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8394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a list that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by dividing them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er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list ha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and the other ha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these two lists using the method for small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the two sorted lists into a single sorted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nd The Min Of A Large Lis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243792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 minimum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into two groups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inimum element in each group someh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the minimums of each group to determine the overall minim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sion In Divide And Conqu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-360" y="1219320"/>
            <a:ext cx="88390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the smaller instances that result from the divide step are instances of the original problem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true for our sort and min problem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n this ca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new instance is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m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, it is solved using the method for small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new instance is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ance, it is solved using the divide-and-conquer method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, performance is best when the smaller instances that result from the divide step are of approximately the same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sive Find M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67616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 minimum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into two groups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minimum element in each group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cursively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. The recursion terminates when 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number of elements 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t this time the minimum is found using the method for small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the minimums of the two groups to determine the overall minim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ling A Defective Chessboar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7" name="GAME01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68" name="GAME016" descr=""/>
          <p:cNvPicPr/>
          <p:nvPr/>
        </p:nvPicPr>
        <p:blipFill>
          <a:blip r:embed="rId2"/>
          <a:stretch/>
        </p:blipFill>
        <p:spPr>
          <a:xfrm>
            <a:off x="8229600" y="533520"/>
            <a:ext cx="365040" cy="36504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1066680" y="1676520"/>
            <a:ext cx="7642440" cy="3654360"/>
            <a:chOff x="1066680" y="1676520"/>
            <a:chExt cx="7642440" cy="3654360"/>
          </a:xfrm>
        </p:grpSpPr>
        <p:pic>
          <p:nvPicPr>
            <p:cNvPr id="70" name="schach" descr=""/>
            <p:cNvPicPr/>
            <p:nvPr/>
          </p:nvPicPr>
          <p:blipFill>
            <a:blip r:embed="rId3"/>
            <a:stretch/>
          </p:blipFill>
          <p:spPr>
            <a:xfrm>
              <a:off x="1066680" y="1676520"/>
              <a:ext cx="3606840" cy="36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 txBox="1"/>
            <p:nvPr/>
          </p:nvSpPr>
          <p:spPr>
            <a:xfrm>
              <a:off x="5257800" y="2819520"/>
              <a:ext cx="3451320" cy="87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A real chessboard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22:15Z</dcterms:modified>
  <cp:revision>121</cp:revision>
  <dc:subject/>
  <dc:title>Data Representation Methods</dc:title>
</cp:coreProperties>
</file>