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2EE-DA4A-40A5-88AC-157B418C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670-D550-485F-A396-6A1532F2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214-38EA-4697-89F3-613BC7F6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EC3-0033-481A-AEC2-F7AF3671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FDE-36E3-4614-AC14-5E97215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006-65E9-4F97-9400-1B574FEB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3D8-1AFB-421C-A04C-3B034EE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47E-3BEA-4D63-9A32-907817F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401-EE62-4900-86D7-E0932E4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6C9-E72E-41FE-B53A-1861C0E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DA5-5E0F-4ADD-88DE-A2FA85E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EB2-50D9-4B36-9674-2DCFE05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E61-2E5F-4BDA-804F-7E0535F35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-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connected undirected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spanning tree is sum of ed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panning tree that has minimum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single verte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3440" y="1593720"/>
            <a:ext cx="285480" cy="397440"/>
            <a:chOff x="7453440" y="1593720"/>
            <a:chExt cx="285480" cy="397440"/>
          </a:xfrm>
        </p:grpSpPr>
        <p:sp>
          <p:nvSpPr>
            <p:cNvPr id="412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962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453440" y="1884240"/>
            <a:ext cx="341280" cy="929520"/>
            <a:chOff x="7453440" y="1884240"/>
            <a:chExt cx="341280" cy="929520"/>
          </a:xfrm>
        </p:grpSpPr>
        <p:sp>
          <p:nvSpPr>
            <p:cNvPr id="417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120" y="44956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408720" y="1371600"/>
            <a:ext cx="1038240" cy="619560"/>
            <a:chOff x="6408720" y="1371600"/>
            <a:chExt cx="1038240" cy="619560"/>
          </a:xfrm>
        </p:grpSpPr>
        <p:sp>
          <p:nvSpPr>
            <p:cNvPr id="42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6640" y="5105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the tree one edge at a time until the tre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(and hence has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275520" y="1884240"/>
            <a:ext cx="419040" cy="929520"/>
            <a:chOff x="6275520" y="1884240"/>
            <a:chExt cx="419040" cy="929520"/>
          </a:xfrm>
        </p:grpSpPr>
        <p:sp>
          <p:nvSpPr>
            <p:cNvPr id="429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364000" y="1835280"/>
            <a:ext cx="1087560" cy="978480"/>
            <a:chOff x="5364000" y="1835280"/>
            <a:chExt cx="1087560" cy="978480"/>
          </a:xfrm>
        </p:grpSpPr>
        <p:sp>
          <p:nvSpPr>
            <p:cNvPr id="434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57800" y="1593720"/>
            <a:ext cx="392040" cy="832680"/>
            <a:chOff x="5257800" y="1593720"/>
            <a:chExt cx="392040" cy="832680"/>
          </a:xfrm>
        </p:grpSpPr>
        <p:sp>
          <p:nvSpPr>
            <p:cNvPr id="439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745400" y="1371600"/>
            <a:ext cx="1038240" cy="619560"/>
            <a:chOff x="7745400" y="1371600"/>
            <a:chExt cx="1038240" cy="619560"/>
          </a:xfrm>
        </p:grpSpPr>
        <p:sp>
          <p:nvSpPr>
            <p:cNvPr id="444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497800" y="1884240"/>
            <a:ext cx="341280" cy="929520"/>
            <a:chOff x="8497800" y="1884240"/>
            <a:chExt cx="341280" cy="929520"/>
          </a:xfrm>
        </p:grpSpPr>
        <p:sp>
          <p:nvSpPr>
            <p:cNvPr id="449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358128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49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838080" y="4191120"/>
            <a:ext cx="75438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selections are elimin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s are possible when the graph has some edges that have the sam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09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12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15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18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27120" y="1447920"/>
            <a:ext cx="745920" cy="397440"/>
            <a:chOff x="627120" y="1447920"/>
            <a:chExt cx="745920" cy="397440"/>
          </a:xfrm>
        </p:grpSpPr>
        <p:sp>
          <p:nvSpPr>
            <p:cNvPr id="521" name=""/>
            <p:cNvSpPr/>
            <p:nvPr/>
          </p:nvSpPr>
          <p:spPr>
            <a:xfrm>
              <a:off x="627120" y="1814400"/>
              <a:ext cx="74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4800" y="144792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561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3657600"/>
            <a:ext cx="75438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that remains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duplicate selections and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580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83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86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8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92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59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598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reedy Minimum-Cost Spanning Tree Metho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ve that all result in a minimum-co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’s method is fas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n implementation similar to that of Dijkstra’s shortest-path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 + 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Fibonacci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uskal’s uses union-find trees to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n empty s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empty &amp;&amp; |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!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least-cost edge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= E - {(u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// delete edge from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reate a cycle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| T | == 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-cost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 has no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nd remove a least-co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in heap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and return least-cost edg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selected edg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array linear list for the edge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 right end of linear list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use an array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rrayLinear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86000" y="2355840"/>
            <a:ext cx="3581280" cy="1219680"/>
            <a:chOff x="2286000" y="2355840"/>
            <a:chExt cx="3581280" cy="1219680"/>
          </a:xfrm>
        </p:grpSpPr>
        <p:sp>
          <p:nvSpPr>
            <p:cNvPr id="613" name=""/>
            <p:cNvSpPr/>
            <p:nvPr/>
          </p:nvSpPr>
          <p:spPr>
            <a:xfrm>
              <a:off x="23922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776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3692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6248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81640" y="236232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0684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60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5156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22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776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3692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248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318456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0684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60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5156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35120" y="264636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6000" y="27907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668920" y="2646360"/>
              <a:ext cx="198360" cy="531720"/>
              <a:chOff x="5668920" y="2646360"/>
              <a:chExt cx="198360" cy="531720"/>
            </a:xfrm>
          </p:grpSpPr>
          <p:sp>
            <p:nvSpPr>
              <p:cNvPr id="632" name=""/>
              <p:cNvSpPr/>
              <p:nvPr/>
            </p:nvSpPr>
            <p:spPr>
              <a:xfrm>
                <a:off x="566892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68920" y="264636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303720" y="2646360"/>
              <a:ext cx="276120" cy="531720"/>
              <a:chOff x="3303720" y="2646360"/>
              <a:chExt cx="276120" cy="531720"/>
            </a:xfrm>
          </p:grpSpPr>
          <p:sp>
            <p:nvSpPr>
              <p:cNvPr id="635" name=""/>
              <p:cNvSpPr/>
              <p:nvPr/>
            </p:nvSpPr>
            <p:spPr>
              <a:xfrm>
                <a:off x="357984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303720" y="274320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624560" y="2646360"/>
              <a:ext cx="198360" cy="531720"/>
              <a:chOff x="4624560" y="2646360"/>
              <a:chExt cx="198360" cy="531720"/>
            </a:xfrm>
          </p:grpSpPr>
          <p:sp>
            <p:nvSpPr>
              <p:cNvPr id="638" name=""/>
              <p:cNvSpPr/>
              <p:nvPr/>
            </p:nvSpPr>
            <p:spPr>
              <a:xfrm>
                <a:off x="462456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24560" y="26938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633760" y="2596680"/>
              <a:ext cx="846000" cy="628920"/>
              <a:chOff x="2633760" y="2596680"/>
              <a:chExt cx="846000" cy="62892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2633760" y="2596680"/>
                <a:ext cx="846000" cy="628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82800" y="261792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45720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component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84520" y="250020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5330880"/>
            <a:ext cx="8077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different components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create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286000" y="1289160"/>
            <a:ext cx="3581280" cy="1219680"/>
            <a:chOff x="2286000" y="1289160"/>
            <a:chExt cx="3581280" cy="1219680"/>
          </a:xfrm>
        </p:grpSpPr>
        <p:sp>
          <p:nvSpPr>
            <p:cNvPr id="649" name=""/>
            <p:cNvSpPr/>
            <p:nvPr/>
          </p:nvSpPr>
          <p:spPr>
            <a:xfrm>
              <a:off x="23922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776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3692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6248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12952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0684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260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5156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922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1776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3692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6248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1640" y="21178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0684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260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156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35120" y="157968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0" y="17240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5668920" y="1579680"/>
              <a:ext cx="198360" cy="531720"/>
              <a:chOff x="5668920" y="1579680"/>
              <a:chExt cx="198360" cy="531720"/>
            </a:xfrm>
          </p:grpSpPr>
          <p:sp>
            <p:nvSpPr>
              <p:cNvPr id="668" name=""/>
              <p:cNvSpPr/>
              <p:nvPr/>
            </p:nvSpPr>
            <p:spPr>
              <a:xfrm>
                <a:off x="56689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68920" y="15796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303720" y="1579680"/>
              <a:ext cx="276120" cy="531720"/>
              <a:chOff x="3303720" y="1579680"/>
              <a:chExt cx="276120" cy="531720"/>
            </a:xfrm>
          </p:grpSpPr>
          <p:sp>
            <p:nvSpPr>
              <p:cNvPr id="671" name=""/>
              <p:cNvSpPr/>
              <p:nvPr/>
            </p:nvSpPr>
            <p:spPr>
              <a:xfrm>
                <a:off x="357984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03720" y="167652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24560" y="1579680"/>
              <a:ext cx="198360" cy="531720"/>
              <a:chOff x="4624560" y="1579680"/>
              <a:chExt cx="198360" cy="531720"/>
            </a:xfrm>
          </p:grpSpPr>
          <p:sp>
            <p:nvSpPr>
              <p:cNvPr id="674" name=""/>
              <p:cNvSpPr/>
              <p:nvPr/>
            </p:nvSpPr>
            <p:spPr>
              <a:xfrm>
                <a:off x="462456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24560" y="162720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633760" y="1530360"/>
              <a:ext cx="846000" cy="628560"/>
              <a:chOff x="2633760" y="1530360"/>
              <a:chExt cx="846000" cy="628560"/>
            </a:xfrm>
          </p:grpSpPr>
          <p:sp>
            <p:nvSpPr>
              <p:cNvPr id="677" name=""/>
              <p:cNvSpPr/>
              <p:nvPr/>
            </p:nvSpPr>
            <p:spPr>
              <a:xfrm flipV="1">
                <a:off x="2633760" y="1530360"/>
                <a:ext cx="846000" cy="628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82800" y="155088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by the vertices i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31840" y="1074600"/>
            <a:ext cx="1949760" cy="1695600"/>
          </a:xfrm>
          <a:custGeom>
            <a:avLst/>
            <a:gdLst/>
            <a:ahLst/>
            <a:rect l="l" t="t" r="r" b="b"/>
            <a:pathLst>
              <a:path w="1228" h="1068">
                <a:moveTo>
                  <a:pt x="160" y="43"/>
                </a:moveTo>
                <a:lnTo>
                  <a:pt x="117" y="22"/>
                </a:lnTo>
                <a:lnTo>
                  <a:pt x="107" y="54"/>
                </a:lnTo>
                <a:lnTo>
                  <a:pt x="107" y="96"/>
                </a:lnTo>
                <a:lnTo>
                  <a:pt x="96" y="160"/>
                </a:lnTo>
                <a:lnTo>
                  <a:pt x="96" y="224"/>
                </a:lnTo>
                <a:lnTo>
                  <a:pt x="85" y="288"/>
                </a:lnTo>
                <a:lnTo>
                  <a:pt x="64" y="352"/>
                </a:lnTo>
                <a:lnTo>
                  <a:pt x="53" y="374"/>
                </a:lnTo>
                <a:lnTo>
                  <a:pt x="43" y="406"/>
                </a:lnTo>
                <a:lnTo>
                  <a:pt x="21" y="416"/>
                </a:lnTo>
                <a:lnTo>
                  <a:pt x="11" y="438"/>
                </a:lnTo>
                <a:lnTo>
                  <a:pt x="11" y="502"/>
                </a:lnTo>
                <a:lnTo>
                  <a:pt x="0" y="534"/>
                </a:lnTo>
                <a:lnTo>
                  <a:pt x="0" y="619"/>
                </a:lnTo>
                <a:lnTo>
                  <a:pt x="0" y="704"/>
                </a:lnTo>
                <a:lnTo>
                  <a:pt x="0" y="768"/>
                </a:lnTo>
                <a:lnTo>
                  <a:pt x="0" y="790"/>
                </a:lnTo>
                <a:lnTo>
                  <a:pt x="11" y="822"/>
                </a:lnTo>
                <a:lnTo>
                  <a:pt x="11" y="886"/>
                </a:lnTo>
                <a:lnTo>
                  <a:pt x="43" y="960"/>
                </a:lnTo>
                <a:lnTo>
                  <a:pt x="107" y="971"/>
                </a:lnTo>
                <a:lnTo>
                  <a:pt x="192" y="1014"/>
                </a:lnTo>
                <a:lnTo>
                  <a:pt x="277" y="1024"/>
                </a:lnTo>
                <a:lnTo>
                  <a:pt x="363" y="1046"/>
                </a:lnTo>
                <a:lnTo>
                  <a:pt x="395" y="1046"/>
                </a:lnTo>
                <a:lnTo>
                  <a:pt x="480" y="1046"/>
                </a:lnTo>
                <a:lnTo>
                  <a:pt x="565" y="1046"/>
                </a:lnTo>
                <a:lnTo>
                  <a:pt x="651" y="1046"/>
                </a:lnTo>
                <a:lnTo>
                  <a:pt x="715" y="1046"/>
                </a:lnTo>
                <a:lnTo>
                  <a:pt x="800" y="1046"/>
                </a:lnTo>
                <a:lnTo>
                  <a:pt x="907" y="1056"/>
                </a:lnTo>
                <a:lnTo>
                  <a:pt x="1013" y="1067"/>
                </a:lnTo>
                <a:lnTo>
                  <a:pt x="1035" y="1067"/>
                </a:lnTo>
                <a:lnTo>
                  <a:pt x="1077" y="1067"/>
                </a:lnTo>
                <a:lnTo>
                  <a:pt x="1109" y="1067"/>
                </a:lnTo>
                <a:lnTo>
                  <a:pt x="1131" y="1056"/>
                </a:lnTo>
                <a:lnTo>
                  <a:pt x="1163" y="1024"/>
                </a:lnTo>
                <a:lnTo>
                  <a:pt x="1184" y="992"/>
                </a:lnTo>
                <a:lnTo>
                  <a:pt x="1205" y="950"/>
                </a:lnTo>
                <a:lnTo>
                  <a:pt x="1205" y="928"/>
                </a:lnTo>
                <a:lnTo>
                  <a:pt x="1216" y="864"/>
                </a:lnTo>
                <a:lnTo>
                  <a:pt x="1216" y="800"/>
                </a:lnTo>
                <a:lnTo>
                  <a:pt x="1227" y="768"/>
                </a:lnTo>
                <a:lnTo>
                  <a:pt x="1227" y="726"/>
                </a:lnTo>
                <a:lnTo>
                  <a:pt x="1227" y="704"/>
                </a:lnTo>
                <a:lnTo>
                  <a:pt x="1227" y="672"/>
                </a:lnTo>
                <a:lnTo>
                  <a:pt x="1227" y="640"/>
                </a:lnTo>
                <a:lnTo>
                  <a:pt x="1227" y="598"/>
                </a:lnTo>
                <a:lnTo>
                  <a:pt x="1227" y="576"/>
                </a:lnTo>
                <a:lnTo>
                  <a:pt x="1227" y="534"/>
                </a:lnTo>
                <a:lnTo>
                  <a:pt x="1227" y="512"/>
                </a:lnTo>
                <a:lnTo>
                  <a:pt x="1227" y="480"/>
                </a:lnTo>
                <a:lnTo>
                  <a:pt x="1227" y="438"/>
                </a:lnTo>
                <a:lnTo>
                  <a:pt x="1227" y="416"/>
                </a:lnTo>
                <a:lnTo>
                  <a:pt x="1227" y="331"/>
                </a:lnTo>
                <a:lnTo>
                  <a:pt x="1227" y="288"/>
                </a:lnTo>
                <a:lnTo>
                  <a:pt x="1227" y="246"/>
                </a:lnTo>
                <a:lnTo>
                  <a:pt x="1227" y="224"/>
                </a:lnTo>
                <a:lnTo>
                  <a:pt x="1227" y="182"/>
                </a:lnTo>
                <a:lnTo>
                  <a:pt x="1227" y="160"/>
                </a:lnTo>
                <a:lnTo>
                  <a:pt x="1205" y="118"/>
                </a:lnTo>
                <a:lnTo>
                  <a:pt x="1195" y="96"/>
                </a:lnTo>
                <a:lnTo>
                  <a:pt x="1184" y="64"/>
                </a:lnTo>
                <a:lnTo>
                  <a:pt x="1141" y="54"/>
                </a:lnTo>
                <a:lnTo>
                  <a:pt x="1109" y="43"/>
                </a:lnTo>
                <a:lnTo>
                  <a:pt x="1077" y="43"/>
                </a:lnTo>
                <a:lnTo>
                  <a:pt x="1045" y="43"/>
                </a:lnTo>
                <a:lnTo>
                  <a:pt x="981" y="32"/>
                </a:lnTo>
                <a:lnTo>
                  <a:pt x="896" y="22"/>
                </a:lnTo>
                <a:lnTo>
                  <a:pt x="853" y="11"/>
                </a:lnTo>
                <a:lnTo>
                  <a:pt x="821" y="0"/>
                </a:lnTo>
                <a:lnTo>
                  <a:pt x="736" y="0"/>
                </a:lnTo>
                <a:lnTo>
                  <a:pt x="672" y="0"/>
                </a:lnTo>
                <a:lnTo>
                  <a:pt x="587" y="0"/>
                </a:lnTo>
                <a:lnTo>
                  <a:pt x="565" y="0"/>
                </a:lnTo>
                <a:lnTo>
                  <a:pt x="523" y="0"/>
                </a:lnTo>
                <a:lnTo>
                  <a:pt x="501" y="0"/>
                </a:lnTo>
                <a:lnTo>
                  <a:pt x="459" y="0"/>
                </a:lnTo>
                <a:lnTo>
                  <a:pt x="437" y="0"/>
                </a:lnTo>
                <a:lnTo>
                  <a:pt x="405" y="0"/>
                </a:lnTo>
                <a:lnTo>
                  <a:pt x="373" y="0"/>
                </a:lnTo>
                <a:lnTo>
                  <a:pt x="341" y="0"/>
                </a:lnTo>
                <a:lnTo>
                  <a:pt x="309" y="0"/>
                </a:lnTo>
                <a:lnTo>
                  <a:pt x="277" y="0"/>
                </a:lnTo>
                <a:lnTo>
                  <a:pt x="245" y="0"/>
                </a:lnTo>
                <a:lnTo>
                  <a:pt x="213" y="0"/>
                </a:lnTo>
                <a:lnTo>
                  <a:pt x="160" y="43"/>
                </a:lnTo>
                <a:lnTo>
                  <a:pt x="160" y="43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16320" y="990720"/>
            <a:ext cx="763560" cy="1779480"/>
          </a:xfrm>
          <a:custGeom>
            <a:avLst/>
            <a:gdLst/>
            <a:ahLst/>
            <a:rect l="l" t="t" r="r" b="b"/>
            <a:pathLst>
              <a:path w="481" h="1121">
                <a:moveTo>
                  <a:pt x="416" y="0"/>
                </a:moveTo>
                <a:lnTo>
                  <a:pt x="363" y="0"/>
                </a:lnTo>
                <a:lnTo>
                  <a:pt x="299" y="0"/>
                </a:lnTo>
                <a:lnTo>
                  <a:pt x="277" y="0"/>
                </a:lnTo>
                <a:lnTo>
                  <a:pt x="235" y="0"/>
                </a:lnTo>
                <a:lnTo>
                  <a:pt x="213" y="0"/>
                </a:lnTo>
                <a:lnTo>
                  <a:pt x="181" y="0"/>
                </a:lnTo>
                <a:lnTo>
                  <a:pt x="149" y="32"/>
                </a:lnTo>
                <a:lnTo>
                  <a:pt x="117" y="43"/>
                </a:lnTo>
                <a:lnTo>
                  <a:pt x="85" y="64"/>
                </a:lnTo>
                <a:lnTo>
                  <a:pt x="64" y="96"/>
                </a:lnTo>
                <a:lnTo>
                  <a:pt x="64" y="128"/>
                </a:lnTo>
                <a:lnTo>
                  <a:pt x="53" y="160"/>
                </a:lnTo>
                <a:lnTo>
                  <a:pt x="43" y="203"/>
                </a:lnTo>
                <a:lnTo>
                  <a:pt x="43" y="267"/>
                </a:lnTo>
                <a:lnTo>
                  <a:pt x="32" y="299"/>
                </a:lnTo>
                <a:lnTo>
                  <a:pt x="21" y="331"/>
                </a:lnTo>
                <a:lnTo>
                  <a:pt x="11" y="363"/>
                </a:lnTo>
                <a:lnTo>
                  <a:pt x="0" y="405"/>
                </a:lnTo>
                <a:lnTo>
                  <a:pt x="0" y="427"/>
                </a:lnTo>
                <a:lnTo>
                  <a:pt x="0" y="491"/>
                </a:lnTo>
                <a:lnTo>
                  <a:pt x="0" y="565"/>
                </a:lnTo>
                <a:lnTo>
                  <a:pt x="0" y="587"/>
                </a:lnTo>
                <a:lnTo>
                  <a:pt x="0" y="619"/>
                </a:lnTo>
                <a:lnTo>
                  <a:pt x="0" y="651"/>
                </a:lnTo>
                <a:lnTo>
                  <a:pt x="0" y="693"/>
                </a:lnTo>
                <a:lnTo>
                  <a:pt x="0" y="715"/>
                </a:lnTo>
                <a:lnTo>
                  <a:pt x="0" y="757"/>
                </a:lnTo>
                <a:lnTo>
                  <a:pt x="11" y="779"/>
                </a:lnTo>
                <a:lnTo>
                  <a:pt x="21" y="864"/>
                </a:lnTo>
                <a:lnTo>
                  <a:pt x="32" y="896"/>
                </a:lnTo>
                <a:lnTo>
                  <a:pt x="32" y="939"/>
                </a:lnTo>
                <a:lnTo>
                  <a:pt x="43" y="981"/>
                </a:lnTo>
                <a:lnTo>
                  <a:pt x="43" y="1003"/>
                </a:lnTo>
                <a:lnTo>
                  <a:pt x="64" y="1035"/>
                </a:lnTo>
                <a:lnTo>
                  <a:pt x="107" y="1067"/>
                </a:lnTo>
                <a:lnTo>
                  <a:pt x="171" y="1077"/>
                </a:lnTo>
                <a:lnTo>
                  <a:pt x="192" y="1099"/>
                </a:lnTo>
                <a:lnTo>
                  <a:pt x="224" y="1099"/>
                </a:lnTo>
                <a:lnTo>
                  <a:pt x="288" y="1109"/>
                </a:lnTo>
                <a:lnTo>
                  <a:pt x="352" y="1120"/>
                </a:lnTo>
                <a:lnTo>
                  <a:pt x="384" y="1120"/>
                </a:lnTo>
                <a:lnTo>
                  <a:pt x="416" y="1120"/>
                </a:lnTo>
                <a:lnTo>
                  <a:pt x="416" y="1088"/>
                </a:lnTo>
                <a:lnTo>
                  <a:pt x="437" y="1056"/>
                </a:lnTo>
                <a:lnTo>
                  <a:pt x="459" y="1035"/>
                </a:lnTo>
                <a:lnTo>
                  <a:pt x="459" y="1013"/>
                </a:lnTo>
                <a:lnTo>
                  <a:pt x="459" y="928"/>
                </a:lnTo>
                <a:lnTo>
                  <a:pt x="459" y="896"/>
                </a:lnTo>
                <a:lnTo>
                  <a:pt x="459" y="811"/>
                </a:lnTo>
                <a:lnTo>
                  <a:pt x="459" y="747"/>
                </a:lnTo>
                <a:lnTo>
                  <a:pt x="459" y="725"/>
                </a:lnTo>
                <a:lnTo>
                  <a:pt x="459" y="661"/>
                </a:lnTo>
                <a:lnTo>
                  <a:pt x="459" y="597"/>
                </a:lnTo>
                <a:lnTo>
                  <a:pt x="459" y="565"/>
                </a:lnTo>
                <a:lnTo>
                  <a:pt x="459" y="533"/>
                </a:lnTo>
                <a:lnTo>
                  <a:pt x="469" y="491"/>
                </a:lnTo>
                <a:lnTo>
                  <a:pt x="469" y="469"/>
                </a:lnTo>
                <a:lnTo>
                  <a:pt x="469" y="437"/>
                </a:lnTo>
                <a:lnTo>
                  <a:pt x="480" y="405"/>
                </a:lnTo>
                <a:lnTo>
                  <a:pt x="480" y="363"/>
                </a:lnTo>
                <a:lnTo>
                  <a:pt x="480" y="341"/>
                </a:lnTo>
                <a:lnTo>
                  <a:pt x="480" y="299"/>
                </a:lnTo>
                <a:lnTo>
                  <a:pt x="480" y="277"/>
                </a:lnTo>
                <a:lnTo>
                  <a:pt x="480" y="235"/>
                </a:lnTo>
                <a:lnTo>
                  <a:pt x="480" y="213"/>
                </a:lnTo>
                <a:lnTo>
                  <a:pt x="480" y="181"/>
                </a:lnTo>
                <a:lnTo>
                  <a:pt x="480" y="149"/>
                </a:lnTo>
                <a:lnTo>
                  <a:pt x="480" y="107"/>
                </a:lnTo>
                <a:lnTo>
                  <a:pt x="480" y="85"/>
                </a:lnTo>
                <a:lnTo>
                  <a:pt x="480" y="53"/>
                </a:lnTo>
                <a:lnTo>
                  <a:pt x="469" y="21"/>
                </a:lnTo>
                <a:lnTo>
                  <a:pt x="416" y="0"/>
                </a:lnTo>
                <a:lnTo>
                  <a:pt x="41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83360" y="1023840"/>
            <a:ext cx="763560" cy="2084400"/>
          </a:xfrm>
          <a:custGeom>
            <a:avLst/>
            <a:gdLst/>
            <a:ahLst/>
            <a:rect l="l" t="t" r="r" b="b"/>
            <a:pathLst>
              <a:path w="481" h="1313">
                <a:moveTo>
                  <a:pt x="416" y="27"/>
                </a:moveTo>
                <a:lnTo>
                  <a:pt x="352" y="0"/>
                </a:lnTo>
                <a:lnTo>
                  <a:pt x="267" y="0"/>
                </a:lnTo>
                <a:lnTo>
                  <a:pt x="245" y="0"/>
                </a:lnTo>
                <a:lnTo>
                  <a:pt x="213" y="0"/>
                </a:lnTo>
                <a:lnTo>
                  <a:pt x="181" y="0"/>
                </a:lnTo>
                <a:lnTo>
                  <a:pt x="149" y="0"/>
                </a:lnTo>
                <a:lnTo>
                  <a:pt x="117" y="11"/>
                </a:lnTo>
                <a:lnTo>
                  <a:pt x="96" y="43"/>
                </a:lnTo>
                <a:lnTo>
                  <a:pt x="75" y="75"/>
                </a:lnTo>
                <a:lnTo>
                  <a:pt x="64" y="107"/>
                </a:lnTo>
                <a:lnTo>
                  <a:pt x="64" y="139"/>
                </a:lnTo>
                <a:lnTo>
                  <a:pt x="53" y="171"/>
                </a:lnTo>
                <a:lnTo>
                  <a:pt x="53" y="203"/>
                </a:lnTo>
                <a:lnTo>
                  <a:pt x="53" y="246"/>
                </a:lnTo>
                <a:lnTo>
                  <a:pt x="32" y="278"/>
                </a:lnTo>
                <a:lnTo>
                  <a:pt x="32" y="310"/>
                </a:lnTo>
                <a:lnTo>
                  <a:pt x="32" y="374"/>
                </a:lnTo>
                <a:lnTo>
                  <a:pt x="32" y="416"/>
                </a:lnTo>
                <a:lnTo>
                  <a:pt x="32" y="438"/>
                </a:lnTo>
                <a:lnTo>
                  <a:pt x="21" y="470"/>
                </a:lnTo>
                <a:lnTo>
                  <a:pt x="21" y="502"/>
                </a:lnTo>
                <a:lnTo>
                  <a:pt x="21" y="544"/>
                </a:lnTo>
                <a:lnTo>
                  <a:pt x="21" y="566"/>
                </a:lnTo>
                <a:lnTo>
                  <a:pt x="21" y="598"/>
                </a:lnTo>
                <a:lnTo>
                  <a:pt x="21" y="630"/>
                </a:lnTo>
                <a:lnTo>
                  <a:pt x="21" y="662"/>
                </a:lnTo>
                <a:lnTo>
                  <a:pt x="21" y="694"/>
                </a:lnTo>
                <a:lnTo>
                  <a:pt x="21" y="726"/>
                </a:lnTo>
                <a:lnTo>
                  <a:pt x="21" y="758"/>
                </a:lnTo>
                <a:lnTo>
                  <a:pt x="21" y="790"/>
                </a:lnTo>
                <a:lnTo>
                  <a:pt x="0" y="822"/>
                </a:lnTo>
                <a:lnTo>
                  <a:pt x="21" y="896"/>
                </a:lnTo>
                <a:lnTo>
                  <a:pt x="32" y="1067"/>
                </a:lnTo>
                <a:lnTo>
                  <a:pt x="32" y="1174"/>
                </a:lnTo>
                <a:lnTo>
                  <a:pt x="43" y="1259"/>
                </a:lnTo>
                <a:lnTo>
                  <a:pt x="43" y="1302"/>
                </a:lnTo>
                <a:lnTo>
                  <a:pt x="75" y="1312"/>
                </a:lnTo>
                <a:lnTo>
                  <a:pt x="117" y="1312"/>
                </a:lnTo>
                <a:lnTo>
                  <a:pt x="149" y="1312"/>
                </a:lnTo>
                <a:lnTo>
                  <a:pt x="171" y="1312"/>
                </a:lnTo>
                <a:lnTo>
                  <a:pt x="203" y="1312"/>
                </a:lnTo>
                <a:lnTo>
                  <a:pt x="267" y="1312"/>
                </a:lnTo>
                <a:lnTo>
                  <a:pt x="299" y="1291"/>
                </a:lnTo>
                <a:lnTo>
                  <a:pt x="341" y="1280"/>
                </a:lnTo>
                <a:lnTo>
                  <a:pt x="363" y="1270"/>
                </a:lnTo>
                <a:lnTo>
                  <a:pt x="384" y="1238"/>
                </a:lnTo>
                <a:lnTo>
                  <a:pt x="416" y="1206"/>
                </a:lnTo>
                <a:lnTo>
                  <a:pt x="437" y="1184"/>
                </a:lnTo>
                <a:lnTo>
                  <a:pt x="448" y="1099"/>
                </a:lnTo>
                <a:lnTo>
                  <a:pt x="448" y="1035"/>
                </a:lnTo>
                <a:lnTo>
                  <a:pt x="448" y="950"/>
                </a:lnTo>
                <a:lnTo>
                  <a:pt x="459" y="886"/>
                </a:lnTo>
                <a:lnTo>
                  <a:pt x="469" y="800"/>
                </a:lnTo>
                <a:lnTo>
                  <a:pt x="480" y="736"/>
                </a:lnTo>
                <a:lnTo>
                  <a:pt x="480" y="651"/>
                </a:lnTo>
                <a:lnTo>
                  <a:pt x="480" y="619"/>
                </a:lnTo>
                <a:lnTo>
                  <a:pt x="480" y="587"/>
                </a:lnTo>
                <a:lnTo>
                  <a:pt x="480" y="555"/>
                </a:lnTo>
                <a:lnTo>
                  <a:pt x="480" y="491"/>
                </a:lnTo>
                <a:lnTo>
                  <a:pt x="480" y="427"/>
                </a:lnTo>
                <a:lnTo>
                  <a:pt x="480" y="384"/>
                </a:lnTo>
                <a:lnTo>
                  <a:pt x="480" y="342"/>
                </a:lnTo>
                <a:lnTo>
                  <a:pt x="480" y="320"/>
                </a:lnTo>
                <a:lnTo>
                  <a:pt x="480" y="278"/>
                </a:lnTo>
                <a:lnTo>
                  <a:pt x="480" y="256"/>
                </a:lnTo>
                <a:lnTo>
                  <a:pt x="480" y="214"/>
                </a:lnTo>
                <a:lnTo>
                  <a:pt x="480" y="192"/>
                </a:lnTo>
                <a:lnTo>
                  <a:pt x="480" y="160"/>
                </a:lnTo>
                <a:lnTo>
                  <a:pt x="480" y="118"/>
                </a:lnTo>
                <a:lnTo>
                  <a:pt x="469" y="86"/>
                </a:lnTo>
                <a:lnTo>
                  <a:pt x="416" y="27"/>
                </a:lnTo>
                <a:lnTo>
                  <a:pt x="416" y="2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191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each component as a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5, 6},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{7, 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880" y="5715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ertices are in the same component iff they are in the same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 has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=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ither sele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or disca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1905120"/>
            <a:ext cx="5486400" cy="2271600"/>
            <a:chOff x="762120" y="1905120"/>
            <a:chExt cx="5486400" cy="2271600"/>
          </a:xfrm>
        </p:grpSpPr>
        <p:sp>
          <p:nvSpPr>
            <p:cNvPr id="46" name=""/>
            <p:cNvSpPr/>
            <p:nvPr/>
          </p:nvSpPr>
          <p:spPr>
            <a:xfrm>
              <a:off x="9208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21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212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214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913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0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07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10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21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14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30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365760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95280" y="2514600"/>
              <a:ext cx="129564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2514600"/>
              <a:ext cx="12956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2743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25909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9051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19051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19051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5320" y="266688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36576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dd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two components that have vertic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bine to become a singl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031840" y="990720"/>
            <a:ext cx="4015080" cy="2117520"/>
            <a:chOff x="2031840" y="990720"/>
            <a:chExt cx="4015080" cy="2117520"/>
          </a:xfrm>
        </p:grpSpPr>
        <p:grpSp>
          <p:nvGrpSpPr>
            <p:cNvPr id="688" name=""/>
            <p:cNvGrpSpPr/>
            <p:nvPr/>
          </p:nvGrpSpPr>
          <p:grpSpPr>
            <a:xfrm>
              <a:off x="2286000" y="1289160"/>
              <a:ext cx="3581280" cy="1219680"/>
              <a:chOff x="2286000" y="1289160"/>
              <a:chExt cx="3581280" cy="1219680"/>
            </a:xfrm>
          </p:grpSpPr>
          <p:sp>
            <p:nvSpPr>
              <p:cNvPr id="689" name=""/>
              <p:cNvSpPr/>
              <p:nvPr/>
            </p:nvSpPr>
            <p:spPr>
              <a:xfrm>
                <a:off x="23922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1776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3692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6248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81640" y="1295280"/>
                <a:ext cx="28548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0684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260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5156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922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1776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3692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46248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81640" y="2117880"/>
                <a:ext cx="28548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0684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260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5156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5351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286000" y="172404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5668920" y="1579680"/>
                <a:ext cx="198360" cy="531720"/>
                <a:chOff x="5668920" y="1579680"/>
                <a:chExt cx="198360" cy="531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66892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8920" y="157968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3303720" y="1579680"/>
                <a:ext cx="276120" cy="531720"/>
                <a:chOff x="3303720" y="1579680"/>
                <a:chExt cx="276120" cy="5317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357984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303720" y="1676520"/>
                  <a:ext cx="199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4624560" y="1579680"/>
                <a:ext cx="198360" cy="531720"/>
                <a:chOff x="4624560" y="1579680"/>
                <a:chExt cx="198360" cy="5317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462456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624560" y="162720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633760" y="1530360"/>
                <a:ext cx="846000" cy="628560"/>
                <a:chOff x="2633760" y="1530360"/>
                <a:chExt cx="846000" cy="628560"/>
              </a:xfrm>
            </p:grpSpPr>
            <p:sp>
              <p:nvSpPr>
                <p:cNvPr id="717" name=""/>
                <p:cNvSpPr/>
                <p:nvPr/>
              </p:nvSpPr>
              <p:spPr>
                <a:xfrm flipV="1">
                  <a:off x="2633760" y="1530360"/>
                  <a:ext cx="846000" cy="6285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782800" y="1550880"/>
                  <a:ext cx="2001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2031840" y="1074600"/>
              <a:ext cx="1949760" cy="1695600"/>
            </a:xfrm>
            <a:custGeom>
              <a:avLst/>
              <a:gdLst/>
              <a:ahLst/>
              <a:rect l="l" t="t" r="r" b="b"/>
              <a:pathLst>
                <a:path w="1228" h="1068">
                  <a:moveTo>
                    <a:pt x="160" y="43"/>
                  </a:moveTo>
                  <a:lnTo>
                    <a:pt x="117" y="22"/>
                  </a:lnTo>
                  <a:lnTo>
                    <a:pt x="107" y="54"/>
                  </a:lnTo>
                  <a:lnTo>
                    <a:pt x="107" y="96"/>
                  </a:lnTo>
                  <a:lnTo>
                    <a:pt x="96" y="160"/>
                  </a:lnTo>
                  <a:lnTo>
                    <a:pt x="96" y="224"/>
                  </a:lnTo>
                  <a:lnTo>
                    <a:pt x="85" y="288"/>
                  </a:lnTo>
                  <a:lnTo>
                    <a:pt x="64" y="352"/>
                  </a:lnTo>
                  <a:lnTo>
                    <a:pt x="53" y="374"/>
                  </a:lnTo>
                  <a:lnTo>
                    <a:pt x="43" y="406"/>
                  </a:lnTo>
                  <a:lnTo>
                    <a:pt x="21" y="416"/>
                  </a:lnTo>
                  <a:lnTo>
                    <a:pt x="11" y="438"/>
                  </a:lnTo>
                  <a:lnTo>
                    <a:pt x="11" y="502"/>
                  </a:lnTo>
                  <a:lnTo>
                    <a:pt x="0" y="534"/>
                  </a:lnTo>
                  <a:lnTo>
                    <a:pt x="0" y="619"/>
                  </a:lnTo>
                  <a:lnTo>
                    <a:pt x="0" y="704"/>
                  </a:lnTo>
                  <a:lnTo>
                    <a:pt x="0" y="768"/>
                  </a:lnTo>
                  <a:lnTo>
                    <a:pt x="0" y="790"/>
                  </a:lnTo>
                  <a:lnTo>
                    <a:pt x="11" y="822"/>
                  </a:lnTo>
                  <a:lnTo>
                    <a:pt x="11" y="886"/>
                  </a:lnTo>
                  <a:lnTo>
                    <a:pt x="43" y="960"/>
                  </a:lnTo>
                  <a:lnTo>
                    <a:pt x="107" y="971"/>
                  </a:lnTo>
                  <a:lnTo>
                    <a:pt x="192" y="1014"/>
                  </a:lnTo>
                  <a:lnTo>
                    <a:pt x="277" y="1024"/>
                  </a:lnTo>
                  <a:lnTo>
                    <a:pt x="363" y="1046"/>
                  </a:lnTo>
                  <a:lnTo>
                    <a:pt x="395" y="1046"/>
                  </a:lnTo>
                  <a:lnTo>
                    <a:pt x="480" y="1046"/>
                  </a:lnTo>
                  <a:lnTo>
                    <a:pt x="565" y="1046"/>
                  </a:lnTo>
                  <a:lnTo>
                    <a:pt x="651" y="1046"/>
                  </a:lnTo>
                  <a:lnTo>
                    <a:pt x="715" y="1046"/>
                  </a:lnTo>
                  <a:lnTo>
                    <a:pt x="800" y="1046"/>
                  </a:lnTo>
                  <a:lnTo>
                    <a:pt x="907" y="1056"/>
                  </a:lnTo>
                  <a:lnTo>
                    <a:pt x="1013" y="1067"/>
                  </a:lnTo>
                  <a:lnTo>
                    <a:pt x="1035" y="1067"/>
                  </a:lnTo>
                  <a:lnTo>
                    <a:pt x="1077" y="1067"/>
                  </a:lnTo>
                  <a:lnTo>
                    <a:pt x="1109" y="1067"/>
                  </a:lnTo>
                  <a:lnTo>
                    <a:pt x="1131" y="1056"/>
                  </a:lnTo>
                  <a:lnTo>
                    <a:pt x="1163" y="1024"/>
                  </a:lnTo>
                  <a:lnTo>
                    <a:pt x="1184" y="992"/>
                  </a:lnTo>
                  <a:lnTo>
                    <a:pt x="1205" y="950"/>
                  </a:lnTo>
                  <a:lnTo>
                    <a:pt x="1205" y="928"/>
                  </a:lnTo>
                  <a:lnTo>
                    <a:pt x="1216" y="864"/>
                  </a:lnTo>
                  <a:lnTo>
                    <a:pt x="1216" y="800"/>
                  </a:lnTo>
                  <a:lnTo>
                    <a:pt x="1227" y="768"/>
                  </a:lnTo>
                  <a:lnTo>
                    <a:pt x="1227" y="726"/>
                  </a:lnTo>
                  <a:lnTo>
                    <a:pt x="1227" y="704"/>
                  </a:lnTo>
                  <a:lnTo>
                    <a:pt x="1227" y="672"/>
                  </a:lnTo>
                  <a:lnTo>
                    <a:pt x="1227" y="640"/>
                  </a:lnTo>
                  <a:lnTo>
                    <a:pt x="1227" y="598"/>
                  </a:lnTo>
                  <a:lnTo>
                    <a:pt x="1227" y="576"/>
                  </a:lnTo>
                  <a:lnTo>
                    <a:pt x="1227" y="534"/>
                  </a:lnTo>
                  <a:lnTo>
                    <a:pt x="1227" y="512"/>
                  </a:lnTo>
                  <a:lnTo>
                    <a:pt x="1227" y="480"/>
                  </a:lnTo>
                  <a:lnTo>
                    <a:pt x="1227" y="438"/>
                  </a:lnTo>
                  <a:lnTo>
                    <a:pt x="1227" y="416"/>
                  </a:lnTo>
                  <a:lnTo>
                    <a:pt x="1227" y="331"/>
                  </a:lnTo>
                  <a:lnTo>
                    <a:pt x="1227" y="288"/>
                  </a:lnTo>
                  <a:lnTo>
                    <a:pt x="1227" y="246"/>
                  </a:lnTo>
                  <a:lnTo>
                    <a:pt x="1227" y="224"/>
                  </a:lnTo>
                  <a:lnTo>
                    <a:pt x="1227" y="182"/>
                  </a:lnTo>
                  <a:lnTo>
                    <a:pt x="1227" y="160"/>
                  </a:lnTo>
                  <a:lnTo>
                    <a:pt x="1205" y="118"/>
                  </a:lnTo>
                  <a:lnTo>
                    <a:pt x="1195" y="96"/>
                  </a:lnTo>
                  <a:lnTo>
                    <a:pt x="1184" y="64"/>
                  </a:lnTo>
                  <a:lnTo>
                    <a:pt x="1141" y="54"/>
                  </a:lnTo>
                  <a:lnTo>
                    <a:pt x="1109" y="43"/>
                  </a:lnTo>
                  <a:lnTo>
                    <a:pt x="1077" y="43"/>
                  </a:lnTo>
                  <a:lnTo>
                    <a:pt x="1045" y="43"/>
                  </a:lnTo>
                  <a:lnTo>
                    <a:pt x="981" y="32"/>
                  </a:lnTo>
                  <a:lnTo>
                    <a:pt x="896" y="22"/>
                  </a:lnTo>
                  <a:lnTo>
                    <a:pt x="853" y="11"/>
                  </a:lnTo>
                  <a:lnTo>
                    <a:pt x="821" y="0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587" y="0"/>
                  </a:lnTo>
                  <a:lnTo>
                    <a:pt x="565" y="0"/>
                  </a:lnTo>
                  <a:lnTo>
                    <a:pt x="523" y="0"/>
                  </a:lnTo>
                  <a:lnTo>
                    <a:pt x="501" y="0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05" y="0"/>
                  </a:lnTo>
                  <a:lnTo>
                    <a:pt x="373" y="0"/>
                  </a:lnTo>
                  <a:lnTo>
                    <a:pt x="341" y="0"/>
                  </a:lnTo>
                  <a:lnTo>
                    <a:pt x="309" y="0"/>
                  </a:lnTo>
                  <a:lnTo>
                    <a:pt x="27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60" y="43"/>
                  </a:lnTo>
                  <a:lnTo>
                    <a:pt x="160" y="43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16320" y="990720"/>
              <a:ext cx="763560" cy="1779480"/>
            </a:xfrm>
            <a:custGeom>
              <a:avLst/>
              <a:gdLst/>
              <a:ahLst/>
              <a:rect l="l" t="t" r="r" b="b"/>
              <a:pathLst>
                <a:path w="481" h="1121">
                  <a:moveTo>
                    <a:pt x="416" y="0"/>
                  </a:moveTo>
                  <a:lnTo>
                    <a:pt x="363" y="0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32"/>
                  </a:lnTo>
                  <a:lnTo>
                    <a:pt x="117" y="43"/>
                  </a:lnTo>
                  <a:lnTo>
                    <a:pt x="85" y="64"/>
                  </a:lnTo>
                  <a:lnTo>
                    <a:pt x="64" y="96"/>
                  </a:lnTo>
                  <a:lnTo>
                    <a:pt x="64" y="128"/>
                  </a:lnTo>
                  <a:lnTo>
                    <a:pt x="53" y="160"/>
                  </a:lnTo>
                  <a:lnTo>
                    <a:pt x="43" y="203"/>
                  </a:lnTo>
                  <a:lnTo>
                    <a:pt x="43" y="267"/>
                  </a:lnTo>
                  <a:lnTo>
                    <a:pt x="32" y="299"/>
                  </a:lnTo>
                  <a:lnTo>
                    <a:pt x="21" y="331"/>
                  </a:lnTo>
                  <a:lnTo>
                    <a:pt x="11" y="363"/>
                  </a:lnTo>
                  <a:lnTo>
                    <a:pt x="0" y="405"/>
                  </a:lnTo>
                  <a:lnTo>
                    <a:pt x="0" y="427"/>
                  </a:lnTo>
                  <a:lnTo>
                    <a:pt x="0" y="491"/>
                  </a:lnTo>
                  <a:lnTo>
                    <a:pt x="0" y="565"/>
                  </a:lnTo>
                  <a:lnTo>
                    <a:pt x="0" y="587"/>
                  </a:lnTo>
                  <a:lnTo>
                    <a:pt x="0" y="619"/>
                  </a:lnTo>
                  <a:lnTo>
                    <a:pt x="0" y="651"/>
                  </a:lnTo>
                  <a:lnTo>
                    <a:pt x="0" y="693"/>
                  </a:lnTo>
                  <a:lnTo>
                    <a:pt x="0" y="715"/>
                  </a:lnTo>
                  <a:lnTo>
                    <a:pt x="0" y="757"/>
                  </a:lnTo>
                  <a:lnTo>
                    <a:pt x="11" y="779"/>
                  </a:lnTo>
                  <a:lnTo>
                    <a:pt x="21" y="864"/>
                  </a:lnTo>
                  <a:lnTo>
                    <a:pt x="32" y="896"/>
                  </a:lnTo>
                  <a:lnTo>
                    <a:pt x="32" y="939"/>
                  </a:lnTo>
                  <a:lnTo>
                    <a:pt x="43" y="981"/>
                  </a:lnTo>
                  <a:lnTo>
                    <a:pt x="43" y="1003"/>
                  </a:lnTo>
                  <a:lnTo>
                    <a:pt x="64" y="1035"/>
                  </a:lnTo>
                  <a:lnTo>
                    <a:pt x="107" y="1067"/>
                  </a:lnTo>
                  <a:lnTo>
                    <a:pt x="171" y="1077"/>
                  </a:lnTo>
                  <a:lnTo>
                    <a:pt x="192" y="1099"/>
                  </a:lnTo>
                  <a:lnTo>
                    <a:pt x="224" y="1099"/>
                  </a:lnTo>
                  <a:lnTo>
                    <a:pt x="288" y="1109"/>
                  </a:lnTo>
                  <a:lnTo>
                    <a:pt x="352" y="1120"/>
                  </a:lnTo>
                  <a:lnTo>
                    <a:pt x="384" y="1120"/>
                  </a:lnTo>
                  <a:lnTo>
                    <a:pt x="416" y="1120"/>
                  </a:lnTo>
                  <a:lnTo>
                    <a:pt x="416" y="1088"/>
                  </a:lnTo>
                  <a:lnTo>
                    <a:pt x="437" y="1056"/>
                  </a:lnTo>
                  <a:lnTo>
                    <a:pt x="459" y="1035"/>
                  </a:lnTo>
                  <a:lnTo>
                    <a:pt x="459" y="1013"/>
                  </a:lnTo>
                  <a:lnTo>
                    <a:pt x="459" y="928"/>
                  </a:lnTo>
                  <a:lnTo>
                    <a:pt x="459" y="896"/>
                  </a:lnTo>
                  <a:lnTo>
                    <a:pt x="459" y="811"/>
                  </a:lnTo>
                  <a:lnTo>
                    <a:pt x="459" y="747"/>
                  </a:lnTo>
                  <a:lnTo>
                    <a:pt x="459" y="725"/>
                  </a:lnTo>
                  <a:lnTo>
                    <a:pt x="459" y="661"/>
                  </a:lnTo>
                  <a:lnTo>
                    <a:pt x="459" y="597"/>
                  </a:lnTo>
                  <a:lnTo>
                    <a:pt x="459" y="565"/>
                  </a:lnTo>
                  <a:lnTo>
                    <a:pt x="459" y="533"/>
                  </a:lnTo>
                  <a:lnTo>
                    <a:pt x="469" y="491"/>
                  </a:lnTo>
                  <a:lnTo>
                    <a:pt x="469" y="469"/>
                  </a:lnTo>
                  <a:lnTo>
                    <a:pt x="469" y="437"/>
                  </a:lnTo>
                  <a:lnTo>
                    <a:pt x="480" y="405"/>
                  </a:lnTo>
                  <a:lnTo>
                    <a:pt x="480" y="363"/>
                  </a:lnTo>
                  <a:lnTo>
                    <a:pt x="480" y="341"/>
                  </a:lnTo>
                  <a:lnTo>
                    <a:pt x="480" y="299"/>
                  </a:lnTo>
                  <a:lnTo>
                    <a:pt x="480" y="277"/>
                  </a:lnTo>
                  <a:lnTo>
                    <a:pt x="480" y="235"/>
                  </a:lnTo>
                  <a:lnTo>
                    <a:pt x="480" y="213"/>
                  </a:lnTo>
                  <a:lnTo>
                    <a:pt x="480" y="181"/>
                  </a:lnTo>
                  <a:lnTo>
                    <a:pt x="480" y="149"/>
                  </a:lnTo>
                  <a:lnTo>
                    <a:pt x="480" y="107"/>
                  </a:lnTo>
                  <a:lnTo>
                    <a:pt x="480" y="85"/>
                  </a:lnTo>
                  <a:lnTo>
                    <a:pt x="480" y="53"/>
                  </a:lnTo>
                  <a:lnTo>
                    <a:pt x="469" y="21"/>
                  </a:lnTo>
                  <a:lnTo>
                    <a:pt x="416" y="0"/>
                  </a:lnTo>
                  <a:lnTo>
                    <a:pt x="41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83360" y="1023840"/>
              <a:ext cx="763560" cy="2084400"/>
            </a:xfrm>
            <a:custGeom>
              <a:avLst/>
              <a:gdLst/>
              <a:ahLst/>
              <a:rect l="l" t="t" r="r" b="b"/>
              <a:pathLst>
                <a:path w="481" h="1313">
                  <a:moveTo>
                    <a:pt x="416" y="27"/>
                  </a:moveTo>
                  <a:lnTo>
                    <a:pt x="352" y="0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0"/>
                  </a:lnTo>
                  <a:lnTo>
                    <a:pt x="117" y="11"/>
                  </a:lnTo>
                  <a:lnTo>
                    <a:pt x="96" y="43"/>
                  </a:lnTo>
                  <a:lnTo>
                    <a:pt x="75" y="75"/>
                  </a:lnTo>
                  <a:lnTo>
                    <a:pt x="64" y="107"/>
                  </a:lnTo>
                  <a:lnTo>
                    <a:pt x="64" y="139"/>
                  </a:lnTo>
                  <a:lnTo>
                    <a:pt x="53" y="171"/>
                  </a:lnTo>
                  <a:lnTo>
                    <a:pt x="53" y="203"/>
                  </a:lnTo>
                  <a:lnTo>
                    <a:pt x="53" y="246"/>
                  </a:lnTo>
                  <a:lnTo>
                    <a:pt x="32" y="278"/>
                  </a:lnTo>
                  <a:lnTo>
                    <a:pt x="32" y="310"/>
                  </a:lnTo>
                  <a:lnTo>
                    <a:pt x="32" y="374"/>
                  </a:lnTo>
                  <a:lnTo>
                    <a:pt x="32" y="416"/>
                  </a:lnTo>
                  <a:lnTo>
                    <a:pt x="32" y="438"/>
                  </a:lnTo>
                  <a:lnTo>
                    <a:pt x="21" y="470"/>
                  </a:lnTo>
                  <a:lnTo>
                    <a:pt x="21" y="502"/>
                  </a:lnTo>
                  <a:lnTo>
                    <a:pt x="21" y="544"/>
                  </a:lnTo>
                  <a:lnTo>
                    <a:pt x="21" y="566"/>
                  </a:lnTo>
                  <a:lnTo>
                    <a:pt x="21" y="598"/>
                  </a:lnTo>
                  <a:lnTo>
                    <a:pt x="21" y="630"/>
                  </a:lnTo>
                  <a:lnTo>
                    <a:pt x="21" y="662"/>
                  </a:lnTo>
                  <a:lnTo>
                    <a:pt x="21" y="694"/>
                  </a:lnTo>
                  <a:lnTo>
                    <a:pt x="21" y="726"/>
                  </a:lnTo>
                  <a:lnTo>
                    <a:pt x="21" y="758"/>
                  </a:lnTo>
                  <a:lnTo>
                    <a:pt x="21" y="790"/>
                  </a:lnTo>
                  <a:lnTo>
                    <a:pt x="0" y="822"/>
                  </a:lnTo>
                  <a:lnTo>
                    <a:pt x="21" y="896"/>
                  </a:lnTo>
                  <a:lnTo>
                    <a:pt x="32" y="1067"/>
                  </a:lnTo>
                  <a:lnTo>
                    <a:pt x="32" y="1174"/>
                  </a:lnTo>
                  <a:lnTo>
                    <a:pt x="43" y="1259"/>
                  </a:lnTo>
                  <a:lnTo>
                    <a:pt x="43" y="1302"/>
                  </a:lnTo>
                  <a:lnTo>
                    <a:pt x="75" y="1312"/>
                  </a:lnTo>
                  <a:lnTo>
                    <a:pt x="117" y="1312"/>
                  </a:lnTo>
                  <a:lnTo>
                    <a:pt x="149" y="1312"/>
                  </a:lnTo>
                  <a:lnTo>
                    <a:pt x="171" y="1312"/>
                  </a:lnTo>
                  <a:lnTo>
                    <a:pt x="203" y="1312"/>
                  </a:lnTo>
                  <a:lnTo>
                    <a:pt x="267" y="1312"/>
                  </a:lnTo>
                  <a:lnTo>
                    <a:pt x="299" y="1291"/>
                  </a:lnTo>
                  <a:lnTo>
                    <a:pt x="341" y="1280"/>
                  </a:lnTo>
                  <a:lnTo>
                    <a:pt x="363" y="1270"/>
                  </a:lnTo>
                  <a:lnTo>
                    <a:pt x="384" y="1238"/>
                  </a:lnTo>
                  <a:lnTo>
                    <a:pt x="416" y="1206"/>
                  </a:lnTo>
                  <a:lnTo>
                    <a:pt x="437" y="1184"/>
                  </a:lnTo>
                  <a:lnTo>
                    <a:pt x="448" y="1099"/>
                  </a:lnTo>
                  <a:lnTo>
                    <a:pt x="448" y="1035"/>
                  </a:lnTo>
                  <a:lnTo>
                    <a:pt x="448" y="950"/>
                  </a:lnTo>
                  <a:lnTo>
                    <a:pt x="459" y="886"/>
                  </a:lnTo>
                  <a:lnTo>
                    <a:pt x="469" y="800"/>
                  </a:lnTo>
                  <a:lnTo>
                    <a:pt x="480" y="736"/>
                  </a:lnTo>
                  <a:lnTo>
                    <a:pt x="480" y="651"/>
                  </a:lnTo>
                  <a:lnTo>
                    <a:pt x="480" y="619"/>
                  </a:lnTo>
                  <a:lnTo>
                    <a:pt x="480" y="587"/>
                  </a:lnTo>
                  <a:lnTo>
                    <a:pt x="480" y="555"/>
                  </a:lnTo>
                  <a:lnTo>
                    <a:pt x="480" y="491"/>
                  </a:lnTo>
                  <a:lnTo>
                    <a:pt x="480" y="427"/>
                  </a:lnTo>
                  <a:lnTo>
                    <a:pt x="480" y="384"/>
                  </a:lnTo>
                  <a:lnTo>
                    <a:pt x="480" y="342"/>
                  </a:lnTo>
                  <a:lnTo>
                    <a:pt x="480" y="320"/>
                  </a:lnTo>
                  <a:lnTo>
                    <a:pt x="480" y="278"/>
                  </a:lnTo>
                  <a:lnTo>
                    <a:pt x="480" y="256"/>
                  </a:lnTo>
                  <a:lnTo>
                    <a:pt x="480" y="214"/>
                  </a:lnTo>
                  <a:lnTo>
                    <a:pt x="480" y="192"/>
                  </a:lnTo>
                  <a:lnTo>
                    <a:pt x="480" y="160"/>
                  </a:lnTo>
                  <a:lnTo>
                    <a:pt x="480" y="118"/>
                  </a:lnTo>
                  <a:lnTo>
                    <a:pt x="469" y="86"/>
                  </a:lnTo>
                  <a:lnTo>
                    <a:pt x="416" y="27"/>
                  </a:lnTo>
                  <a:lnTo>
                    <a:pt x="416" y="27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3920" y="1447920"/>
              <a:ext cx="761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57200" y="47242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set representation of components,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ni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 + {5, 6} =&gt; {1, 2, 3, 4, 5, 6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239920" y="1746360"/>
            <a:ext cx="3419640" cy="1219680"/>
            <a:chOff x="2239920" y="1746360"/>
            <a:chExt cx="3419640" cy="1219680"/>
          </a:xfrm>
        </p:grpSpPr>
        <p:sp>
          <p:nvSpPr>
            <p:cNvPr id="727" name=""/>
            <p:cNvSpPr/>
            <p:nvPr/>
          </p:nvSpPr>
          <p:spPr>
            <a:xfrm>
              <a:off x="22399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6548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84640" y="17524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2900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5456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737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9892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99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6548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84640" y="25750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0984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2900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5456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737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9892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80880" y="320040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t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 {2} {3} {4} {5} {6} {7} {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 If not, add edg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5410080"/>
            <a:ext cx="6858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1 = find(u); s2 = find(v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1 != s2) union(s1, 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astUnion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los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 operations to get edges in increasing order of cost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complexity of Kruskal’s metho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orest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 Select edge if it does not form a cycle together with already selected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uskal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and grow it into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by repeatedly adding a vertex and an edge. When there is a choice, add a least co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forest. Each component/tree selects a least cost edge to connect to another component/tree. Eliminate duplicate selections and possible cycles. Repeat until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/tree is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lin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Rejection Greedy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connected graph. Repeatedly find a cycle and eliminate the highest cost edge on this cycle. Stop when no cycles re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descending order of cost. Eliminate an edge provided this leaves behind a connec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127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75438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idered first and added to the fo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,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03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6212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07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6212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11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6212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15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6212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6320" y="173844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77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80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84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287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1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91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6212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295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have been selected and no cycl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e must have a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-cost spanning tree is unique when all edge cos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355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358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362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365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368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371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9:39Z</dcterms:modified>
  <cp:revision>96</cp:revision>
  <dc:subject/>
  <dc:title>Data Representation Methods</dc:title>
</cp:coreProperties>
</file>