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FFF9-2A16-4835-989B-8C03888A4D5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onstruct shortest paths from the computed p[]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to the problem consists of up to n paths. The greedy method suggests building these n paths in order of increasing length. First build the shortest of the up to n paths (I.e., the path to the nearest destination). Then build the second shortest path,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3A1-6DC0-48E8-AB72-103F4DCC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AF7-EE1F-424A-BBDD-03D36227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659-ECF5-40CA-8947-87A43B23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C20-E6AD-428A-85B8-4CFE81D1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628-E5E5-4593-BDBA-5A7BDE92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BADE-624C-4669-8645-FCFB328A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F8C-773F-4855-87AA-66D90253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C14-3402-4449-AA0A-D817691D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BDC-DFDF-4502-9757-FC56ACB0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B24-0AF8-4DE3-A0C3-19287AB2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ED7-A1BC-408C-8CE1-18E66802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82A-2DA5-42B9-A065-2DD0723D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DE56-44C8-4AAB-BEA1-2A1C6030D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est Path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 weighted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sum of weights of edges on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ertex at which the path begins is th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ur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ertex at which the path ends is th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stin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istanceFromSource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length of a shortest one edge extension of an already generated shortest path, the one edge extension ends 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xt shortest path is to an as yet unreached vertex for which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is l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i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redecessor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vertex just before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he shortest one edge extensio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413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421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426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454040" y="3032280"/>
            <a:ext cx="444600" cy="466560"/>
            <a:chOff x="1454040" y="3032280"/>
            <a:chExt cx="444600" cy="466560"/>
          </a:xfrm>
        </p:grpSpPr>
        <p:sp>
          <p:nvSpPr>
            <p:cNvPr id="430" name=""/>
            <p:cNvSpPr/>
            <p:nvPr/>
          </p:nvSpPr>
          <p:spPr>
            <a:xfrm>
              <a:off x="1454040" y="3054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0768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282840" y="1432080"/>
            <a:ext cx="444600" cy="466560"/>
            <a:chOff x="3282840" y="1432080"/>
            <a:chExt cx="444600" cy="466560"/>
          </a:xfrm>
        </p:grpSpPr>
        <p:sp>
          <p:nvSpPr>
            <p:cNvPr id="434" name=""/>
            <p:cNvSpPr/>
            <p:nvPr/>
          </p:nvSpPr>
          <p:spPr>
            <a:xfrm>
              <a:off x="3282840" y="14540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364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206880" y="3032280"/>
            <a:ext cx="444240" cy="466560"/>
            <a:chOff x="3206880" y="3032280"/>
            <a:chExt cx="444240" cy="466560"/>
          </a:xfrm>
        </p:grpSpPr>
        <p:sp>
          <p:nvSpPr>
            <p:cNvPr id="438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8007480" y="3032280"/>
            <a:ext cx="444240" cy="466560"/>
            <a:chOff x="8007480" y="3032280"/>
            <a:chExt cx="444240" cy="466560"/>
          </a:xfrm>
        </p:grpSpPr>
        <p:sp>
          <p:nvSpPr>
            <p:cNvPr id="442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7220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645160" y="4883040"/>
            <a:ext cx="527040" cy="527040"/>
            <a:chOff x="5645160" y="4883040"/>
            <a:chExt cx="527040" cy="527040"/>
          </a:xfrm>
        </p:grpSpPr>
        <p:sp>
          <p:nvSpPr>
            <p:cNvPr id="457" name=""/>
            <p:cNvSpPr/>
            <p:nvPr/>
          </p:nvSpPr>
          <p:spPr>
            <a:xfrm>
              <a:off x="5645160" y="4883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69916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501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509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512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7220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58760" y="4479840"/>
            <a:ext cx="1434960" cy="466920"/>
            <a:chOff x="158760" y="4479840"/>
            <a:chExt cx="1434960" cy="466920"/>
          </a:xfrm>
        </p:grpSpPr>
        <p:sp>
          <p:nvSpPr>
            <p:cNvPr id="529" name=""/>
            <p:cNvSpPr/>
            <p:nvPr/>
          </p:nvSpPr>
          <p:spPr>
            <a:xfrm>
              <a:off x="1587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24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494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031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9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454040" y="3032280"/>
            <a:ext cx="444600" cy="466560"/>
            <a:chOff x="1454040" y="3032280"/>
            <a:chExt cx="444600" cy="466560"/>
          </a:xfrm>
        </p:grpSpPr>
        <p:sp>
          <p:nvSpPr>
            <p:cNvPr id="536" name=""/>
            <p:cNvSpPr/>
            <p:nvPr/>
          </p:nvSpPr>
          <p:spPr>
            <a:xfrm>
              <a:off x="1454040" y="3054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50768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807080" y="2117880"/>
            <a:ext cx="444240" cy="466560"/>
            <a:chOff x="4807080" y="2117880"/>
            <a:chExt cx="444240" cy="466560"/>
          </a:xfrm>
        </p:grpSpPr>
        <p:sp>
          <p:nvSpPr>
            <p:cNvPr id="540" name=""/>
            <p:cNvSpPr/>
            <p:nvPr/>
          </p:nvSpPr>
          <p:spPr>
            <a:xfrm>
              <a:off x="4807080" y="21398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60720" y="2117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6711840" y="1127160"/>
            <a:ext cx="444600" cy="466560"/>
            <a:chOff x="6711840" y="1127160"/>
            <a:chExt cx="444600" cy="466560"/>
          </a:xfrm>
        </p:grpSpPr>
        <p:sp>
          <p:nvSpPr>
            <p:cNvPr id="544" name=""/>
            <p:cNvSpPr/>
            <p:nvPr/>
          </p:nvSpPr>
          <p:spPr>
            <a:xfrm>
              <a:off x="6711840" y="114948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65480" y="1127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547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550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7550280" y="4883040"/>
            <a:ext cx="755640" cy="527040"/>
            <a:chOff x="7550280" y="4883040"/>
            <a:chExt cx="755640" cy="527040"/>
          </a:xfrm>
        </p:grpSpPr>
        <p:sp>
          <p:nvSpPr>
            <p:cNvPr id="553" name=""/>
            <p:cNvSpPr/>
            <p:nvPr/>
          </p:nvSpPr>
          <p:spPr>
            <a:xfrm>
              <a:off x="75502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294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556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934320" y="4881600"/>
            <a:ext cx="473040" cy="519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601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609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612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17220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58760" y="4479840"/>
            <a:ext cx="1434960" cy="466920"/>
            <a:chOff x="158760" y="4479840"/>
            <a:chExt cx="1434960" cy="466920"/>
          </a:xfrm>
        </p:grpSpPr>
        <p:sp>
          <p:nvSpPr>
            <p:cNvPr id="629" name=""/>
            <p:cNvSpPr/>
            <p:nvPr/>
          </p:nvSpPr>
          <p:spPr>
            <a:xfrm>
              <a:off x="1587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24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94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2031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9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635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638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7550280" y="4883040"/>
            <a:ext cx="755640" cy="527040"/>
            <a:chOff x="7550280" y="4883040"/>
            <a:chExt cx="755640" cy="527040"/>
          </a:xfrm>
        </p:grpSpPr>
        <p:sp>
          <p:nvSpPr>
            <p:cNvPr id="641" name=""/>
            <p:cNvSpPr/>
            <p:nvPr/>
          </p:nvSpPr>
          <p:spPr>
            <a:xfrm>
              <a:off x="75502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294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644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158760" y="5013360"/>
            <a:ext cx="2425680" cy="466560"/>
            <a:chOff x="158760" y="5013360"/>
            <a:chExt cx="2425680" cy="466560"/>
          </a:xfrm>
        </p:grpSpPr>
        <p:sp>
          <p:nvSpPr>
            <p:cNvPr id="647" name=""/>
            <p:cNvSpPr/>
            <p:nvPr/>
          </p:nvSpPr>
          <p:spPr>
            <a:xfrm>
              <a:off x="15876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240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49480" y="5035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20312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948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3984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9348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60020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206880" y="3032280"/>
            <a:ext cx="444240" cy="466560"/>
            <a:chOff x="3206880" y="3032280"/>
            <a:chExt cx="444240" cy="466560"/>
          </a:xfrm>
        </p:grpSpPr>
        <p:sp>
          <p:nvSpPr>
            <p:cNvPr id="657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8007480" y="3032280"/>
            <a:ext cx="444240" cy="466560"/>
            <a:chOff x="8007480" y="3032280"/>
            <a:chExt cx="444240" cy="466560"/>
          </a:xfrm>
        </p:grpSpPr>
        <p:sp>
          <p:nvSpPr>
            <p:cNvPr id="661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6178680" y="4883040"/>
            <a:ext cx="755640" cy="527040"/>
            <a:chOff x="6178680" y="4883040"/>
            <a:chExt cx="755640" cy="527040"/>
          </a:xfrm>
        </p:grpSpPr>
        <p:sp>
          <p:nvSpPr>
            <p:cNvPr id="664" name=""/>
            <p:cNvSpPr/>
            <p:nvPr/>
          </p:nvSpPr>
          <p:spPr>
            <a:xfrm>
              <a:off x="61786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578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254640" y="5340240"/>
            <a:ext cx="755640" cy="527040"/>
            <a:chOff x="6254640" y="5340240"/>
            <a:chExt cx="755640" cy="527040"/>
          </a:xfrm>
        </p:grpSpPr>
        <p:sp>
          <p:nvSpPr>
            <p:cNvPr id="667" name=""/>
            <p:cNvSpPr/>
            <p:nvPr/>
          </p:nvSpPr>
          <p:spPr>
            <a:xfrm>
              <a:off x="6254640" y="5340240"/>
              <a:ext cx="7495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34200" y="5348160"/>
              <a:ext cx="6760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4952880" y="4952880"/>
            <a:ext cx="473040" cy="51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712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720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723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32448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158760" y="4479840"/>
            <a:ext cx="1434960" cy="466920"/>
            <a:chOff x="158760" y="4479840"/>
            <a:chExt cx="1434960" cy="466920"/>
          </a:xfrm>
        </p:grpSpPr>
        <p:sp>
          <p:nvSpPr>
            <p:cNvPr id="740" name=""/>
            <p:cNvSpPr/>
            <p:nvPr/>
          </p:nvSpPr>
          <p:spPr>
            <a:xfrm>
              <a:off x="1587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124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494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2031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746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749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7550280" y="4883040"/>
            <a:ext cx="755640" cy="527040"/>
            <a:chOff x="7550280" y="4883040"/>
            <a:chExt cx="755640" cy="527040"/>
          </a:xfrm>
        </p:grpSpPr>
        <p:sp>
          <p:nvSpPr>
            <p:cNvPr id="752" name=""/>
            <p:cNvSpPr/>
            <p:nvPr/>
          </p:nvSpPr>
          <p:spPr>
            <a:xfrm>
              <a:off x="75502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294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755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158760" y="5013360"/>
            <a:ext cx="2425680" cy="466560"/>
            <a:chOff x="158760" y="5013360"/>
            <a:chExt cx="2425680" cy="466560"/>
          </a:xfrm>
        </p:grpSpPr>
        <p:sp>
          <p:nvSpPr>
            <p:cNvPr id="758" name=""/>
            <p:cNvSpPr/>
            <p:nvPr/>
          </p:nvSpPr>
          <p:spPr>
            <a:xfrm>
              <a:off x="15876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1240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49480" y="5035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0312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3984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9348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60020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58760" y="5622840"/>
            <a:ext cx="1434960" cy="466920"/>
            <a:chOff x="158760" y="5622840"/>
            <a:chExt cx="1434960" cy="466920"/>
          </a:xfrm>
        </p:grpSpPr>
        <p:sp>
          <p:nvSpPr>
            <p:cNvPr id="767" name=""/>
            <p:cNvSpPr/>
            <p:nvPr/>
          </p:nvSpPr>
          <p:spPr>
            <a:xfrm>
              <a:off x="158760" y="5645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2400" y="5622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49480" y="5645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03120" y="5622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9480" y="5867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3206880" y="3032280"/>
            <a:ext cx="444240" cy="466560"/>
            <a:chOff x="3206880" y="3032280"/>
            <a:chExt cx="444240" cy="466560"/>
          </a:xfrm>
        </p:grpSpPr>
        <p:sp>
          <p:nvSpPr>
            <p:cNvPr id="774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6324480" y="4952880"/>
            <a:ext cx="473040" cy="51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819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370160" y="3403440"/>
            <a:ext cx="777240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828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831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32448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158760" y="4479840"/>
            <a:ext cx="1434960" cy="466920"/>
            <a:chOff x="158760" y="4479840"/>
            <a:chExt cx="1434960" cy="466920"/>
          </a:xfrm>
        </p:grpSpPr>
        <p:sp>
          <p:nvSpPr>
            <p:cNvPr id="848" name=""/>
            <p:cNvSpPr/>
            <p:nvPr/>
          </p:nvSpPr>
          <p:spPr>
            <a:xfrm>
              <a:off x="1587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24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1494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031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9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854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857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860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158760" y="5013360"/>
            <a:ext cx="2425680" cy="466560"/>
            <a:chOff x="158760" y="5013360"/>
            <a:chExt cx="2425680" cy="466560"/>
          </a:xfrm>
        </p:grpSpPr>
        <p:sp>
          <p:nvSpPr>
            <p:cNvPr id="863" name=""/>
            <p:cNvSpPr/>
            <p:nvPr/>
          </p:nvSpPr>
          <p:spPr>
            <a:xfrm>
              <a:off x="15876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240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149480" y="5035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20312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0948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13984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19348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60020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158760" y="5622840"/>
            <a:ext cx="1434960" cy="466920"/>
            <a:chOff x="158760" y="5622840"/>
            <a:chExt cx="1434960" cy="466920"/>
          </a:xfrm>
        </p:grpSpPr>
        <p:sp>
          <p:nvSpPr>
            <p:cNvPr id="872" name=""/>
            <p:cNvSpPr/>
            <p:nvPr/>
          </p:nvSpPr>
          <p:spPr>
            <a:xfrm>
              <a:off x="158760" y="5645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12400" y="5622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149480" y="5645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03120" y="5622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09480" y="5867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58760" y="6232680"/>
            <a:ext cx="3416400" cy="466560"/>
            <a:chOff x="158760" y="6232680"/>
            <a:chExt cx="3416400" cy="466560"/>
          </a:xfrm>
        </p:grpSpPr>
        <p:sp>
          <p:nvSpPr>
            <p:cNvPr id="878" name=""/>
            <p:cNvSpPr/>
            <p:nvPr/>
          </p:nvSpPr>
          <p:spPr>
            <a:xfrm>
              <a:off x="158760" y="6254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12400" y="6232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149480" y="62546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203120" y="6232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09480" y="64771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39840" y="6254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193480" y="6232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600200" y="64771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30560" y="6254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184200" y="6232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90920" y="6477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8007480" y="3032280"/>
            <a:ext cx="444240" cy="466560"/>
            <a:chOff x="8007480" y="3032280"/>
            <a:chExt cx="444240" cy="466560"/>
          </a:xfrm>
        </p:grpSpPr>
        <p:sp>
          <p:nvSpPr>
            <p:cNvPr id="891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8236080" y="4883040"/>
            <a:ext cx="755640" cy="527040"/>
            <a:chOff x="8236080" y="4883040"/>
            <a:chExt cx="755640" cy="527040"/>
          </a:xfrm>
        </p:grpSpPr>
        <p:sp>
          <p:nvSpPr>
            <p:cNvPr id="894" name=""/>
            <p:cNvSpPr/>
            <p:nvPr/>
          </p:nvSpPr>
          <p:spPr>
            <a:xfrm>
              <a:off x="82360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3152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8313840" y="5340240"/>
            <a:ext cx="755640" cy="527040"/>
            <a:chOff x="8313840" y="5340240"/>
            <a:chExt cx="755640" cy="527040"/>
          </a:xfrm>
        </p:grpSpPr>
        <p:sp>
          <p:nvSpPr>
            <p:cNvPr id="897" name=""/>
            <p:cNvSpPr/>
            <p:nvPr/>
          </p:nvSpPr>
          <p:spPr>
            <a:xfrm>
              <a:off x="8313840" y="53402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393040" y="53481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7620120" y="4876920"/>
            <a:ext cx="541080" cy="94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942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1370160" y="3403440"/>
            <a:ext cx="777240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951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32448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968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971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7550280" y="4883040"/>
            <a:ext cx="755640" cy="527040"/>
            <a:chOff x="7550280" y="4883040"/>
            <a:chExt cx="755640" cy="527040"/>
          </a:xfrm>
        </p:grpSpPr>
        <p:sp>
          <p:nvSpPr>
            <p:cNvPr id="974" name=""/>
            <p:cNvSpPr/>
            <p:nvPr/>
          </p:nvSpPr>
          <p:spPr>
            <a:xfrm>
              <a:off x="75502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6294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977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8236080" y="4883040"/>
            <a:ext cx="755640" cy="527040"/>
            <a:chOff x="8236080" y="4883040"/>
            <a:chExt cx="755640" cy="527040"/>
          </a:xfrm>
        </p:grpSpPr>
        <p:sp>
          <p:nvSpPr>
            <p:cNvPr id="980" name=""/>
            <p:cNvSpPr/>
            <p:nvPr/>
          </p:nvSpPr>
          <p:spPr>
            <a:xfrm>
              <a:off x="82360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3152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8313840" y="5340240"/>
            <a:ext cx="755640" cy="527040"/>
            <a:chOff x="8313840" y="5340240"/>
            <a:chExt cx="755640" cy="527040"/>
          </a:xfrm>
        </p:grpSpPr>
        <p:sp>
          <p:nvSpPr>
            <p:cNvPr id="983" name=""/>
            <p:cNvSpPr/>
            <p:nvPr/>
          </p:nvSpPr>
          <p:spPr>
            <a:xfrm>
              <a:off x="8313840" y="53402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393040" y="53481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82440" y="4403880"/>
            <a:ext cx="2425680" cy="466560"/>
            <a:chOff x="82440" y="4403880"/>
            <a:chExt cx="2425680" cy="466560"/>
          </a:xfrm>
        </p:grpSpPr>
        <p:sp>
          <p:nvSpPr>
            <p:cNvPr id="986" name=""/>
            <p:cNvSpPr/>
            <p:nvPr/>
          </p:nvSpPr>
          <p:spPr>
            <a:xfrm>
              <a:off x="824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36080" y="4403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0731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126800" y="4403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33520" y="4648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638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17520" y="4403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23880" y="46483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8007480" y="3032280"/>
            <a:ext cx="444240" cy="466560"/>
            <a:chOff x="8007480" y="3032280"/>
            <a:chExt cx="444240" cy="466560"/>
          </a:xfrm>
        </p:grpSpPr>
        <p:sp>
          <p:nvSpPr>
            <p:cNvPr id="996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8236080" y="4883040"/>
            <a:ext cx="755640" cy="527040"/>
            <a:chOff x="8236080" y="4883040"/>
            <a:chExt cx="755640" cy="527040"/>
          </a:xfrm>
        </p:grpSpPr>
        <p:sp>
          <p:nvSpPr>
            <p:cNvPr id="999" name=""/>
            <p:cNvSpPr/>
            <p:nvPr/>
          </p:nvSpPr>
          <p:spPr>
            <a:xfrm>
              <a:off x="82360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3152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8386920" y="5342040"/>
            <a:ext cx="755640" cy="527040"/>
            <a:chOff x="8386920" y="5342040"/>
            <a:chExt cx="755640" cy="527040"/>
          </a:xfrm>
        </p:grpSpPr>
        <p:sp>
          <p:nvSpPr>
            <p:cNvPr id="1002" name=""/>
            <p:cNvSpPr/>
            <p:nvPr/>
          </p:nvSpPr>
          <p:spPr>
            <a:xfrm>
              <a:off x="8386920" y="5342040"/>
              <a:ext cx="749160" cy="44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466120" y="5349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6320" y="990720"/>
            <a:ext cx="4572000" cy="5632200"/>
            <a:chOff x="76320" y="990720"/>
            <a:chExt cx="4572000" cy="5632200"/>
          </a:xfrm>
        </p:grpSpPr>
        <p:sp>
          <p:nvSpPr>
            <p:cNvPr id="1006" name=""/>
            <p:cNvSpPr/>
            <p:nvPr/>
          </p:nvSpPr>
          <p:spPr>
            <a:xfrm>
              <a:off x="76320" y="9907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Pa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35080" y="1454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872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809880" y="14479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5080" y="2216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8720" y="21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25440" y="2216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79080" y="21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85800" y="2438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809880" y="21337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5080" y="2901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72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25440" y="2901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7908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85800" y="3124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809880" y="28954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16160" y="2901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26980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676520" y="3124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35080" y="3587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8720" y="3565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279080" y="3565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85800" y="3809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809880" y="3581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50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872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2544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27908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5800" y="4572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09880" y="4267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2161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26980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676520" y="4572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068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6052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666880" y="4572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35080" y="52642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872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225440" y="5264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7908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5800" y="54864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657600" y="5181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216160" y="5264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26980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76520" y="54864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50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887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22544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27908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8580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657600" y="6095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1616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26980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676520" y="64008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068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605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6688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52680" y="990720"/>
              <a:ext cx="1295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Leng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4324320" y="4052880"/>
            <a:ext cx="4818240" cy="1434960"/>
            <a:chOff x="4324320" y="4052880"/>
            <a:chExt cx="4818240" cy="1434960"/>
          </a:xfrm>
        </p:grpSpPr>
        <p:grpSp>
          <p:nvGrpSpPr>
            <p:cNvPr id="1066" name=""/>
            <p:cNvGrpSpPr/>
            <p:nvPr/>
          </p:nvGrpSpPr>
          <p:grpSpPr>
            <a:xfrm>
              <a:off x="4730760" y="4052880"/>
              <a:ext cx="4278240" cy="519120"/>
              <a:chOff x="4730760" y="4052880"/>
              <a:chExt cx="4278240" cy="519120"/>
            </a:xfrm>
          </p:grpSpPr>
          <p:sp>
            <p:nvSpPr>
              <p:cNvPr id="1067" name=""/>
              <p:cNvSpPr/>
              <p:nvPr/>
            </p:nvSpPr>
            <p:spPr>
              <a:xfrm>
                <a:off x="4730760" y="4052880"/>
                <a:ext cx="6224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1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340240" y="4052880"/>
                <a:ext cx="6224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2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950080" y="4052880"/>
                <a:ext cx="6220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3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56320" y="4052880"/>
                <a:ext cx="6256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4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165800" y="4052880"/>
                <a:ext cx="6256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5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775640" y="4052880"/>
                <a:ext cx="6238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6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385120" y="4052880"/>
                <a:ext cx="6238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7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4324320" y="4510080"/>
              <a:ext cx="420840" cy="976320"/>
              <a:chOff x="4324320" y="4510080"/>
              <a:chExt cx="420840" cy="976320"/>
            </a:xfrm>
          </p:grpSpPr>
          <p:sp>
            <p:nvSpPr>
              <p:cNvPr id="1075" name=""/>
              <p:cNvSpPr/>
              <p:nvPr/>
            </p:nvSpPr>
            <p:spPr>
              <a:xfrm>
                <a:off x="4324320" y="4510080"/>
                <a:ext cx="4208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324320" y="4967280"/>
                <a:ext cx="4208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4799160" y="45100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799160" y="49672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473800" y="4510080"/>
              <a:ext cx="4222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473800" y="4967280"/>
              <a:ext cx="4222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083280" y="4510080"/>
              <a:ext cx="4222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83280" y="4967280"/>
              <a:ext cx="4222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638760" y="4510080"/>
              <a:ext cx="6098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692760" y="4967280"/>
              <a:ext cx="41940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02600" y="45100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302600" y="49672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912080" y="45100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912080" y="49672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399520" y="4510080"/>
              <a:ext cx="541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520120" y="4967280"/>
              <a:ext cx="4208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7188120" y="4502160"/>
              <a:ext cx="466920" cy="527040"/>
              <a:chOff x="7188120" y="4502160"/>
              <a:chExt cx="466920" cy="527040"/>
            </a:xfrm>
          </p:grpSpPr>
          <p:sp>
            <p:nvSpPr>
              <p:cNvPr id="1092" name=""/>
              <p:cNvSpPr/>
              <p:nvPr/>
            </p:nvSpPr>
            <p:spPr>
              <a:xfrm>
                <a:off x="7188120" y="4502160"/>
                <a:ext cx="46044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236000" y="4510080"/>
                <a:ext cx="4190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7188120" y="4959360"/>
              <a:ext cx="466920" cy="527040"/>
              <a:chOff x="7188120" y="4959360"/>
              <a:chExt cx="466920" cy="527040"/>
            </a:xfrm>
          </p:grpSpPr>
          <p:sp>
            <p:nvSpPr>
              <p:cNvPr id="1095" name=""/>
              <p:cNvSpPr/>
              <p:nvPr/>
            </p:nvSpPr>
            <p:spPr>
              <a:xfrm>
                <a:off x="7188120" y="4959360"/>
                <a:ext cx="46044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236000" y="4967280"/>
                <a:ext cx="4190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7728120" y="4502160"/>
              <a:ext cx="671400" cy="527040"/>
              <a:chOff x="7728120" y="4502160"/>
              <a:chExt cx="671400" cy="527040"/>
            </a:xfrm>
          </p:grpSpPr>
          <p:sp>
            <p:nvSpPr>
              <p:cNvPr id="1098" name=""/>
              <p:cNvSpPr/>
              <p:nvPr/>
            </p:nvSpPr>
            <p:spPr>
              <a:xfrm>
                <a:off x="7728120" y="4502160"/>
                <a:ext cx="66492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797960" y="4510080"/>
                <a:ext cx="60156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7864560" y="4959360"/>
              <a:ext cx="466560" cy="527040"/>
              <a:chOff x="7864560" y="4959360"/>
              <a:chExt cx="466560" cy="527040"/>
            </a:xfrm>
          </p:grpSpPr>
          <p:sp>
            <p:nvSpPr>
              <p:cNvPr id="1101" name=""/>
              <p:cNvSpPr/>
              <p:nvPr/>
            </p:nvSpPr>
            <p:spPr>
              <a:xfrm>
                <a:off x="7864560" y="4959360"/>
                <a:ext cx="46044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12080" y="4967280"/>
                <a:ext cx="4190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8337600" y="4502160"/>
              <a:ext cx="671400" cy="527040"/>
              <a:chOff x="8337600" y="4502160"/>
              <a:chExt cx="671400" cy="527040"/>
            </a:xfrm>
          </p:grpSpPr>
          <p:sp>
            <p:nvSpPr>
              <p:cNvPr id="1104" name=""/>
              <p:cNvSpPr/>
              <p:nvPr/>
            </p:nvSpPr>
            <p:spPr>
              <a:xfrm>
                <a:off x="8337600" y="4502160"/>
                <a:ext cx="66528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407440" y="4510080"/>
                <a:ext cx="60156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8407440" y="4959360"/>
              <a:ext cx="669960" cy="527040"/>
              <a:chOff x="8407440" y="4959360"/>
              <a:chExt cx="669960" cy="527040"/>
            </a:xfrm>
          </p:grpSpPr>
          <p:sp>
            <p:nvSpPr>
              <p:cNvPr id="1107" name=""/>
              <p:cNvSpPr/>
              <p:nvPr/>
            </p:nvSpPr>
            <p:spPr>
              <a:xfrm>
                <a:off x="8407440" y="4959360"/>
                <a:ext cx="66348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475840" y="4967280"/>
                <a:ext cx="60156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8337600" y="4502160"/>
              <a:ext cx="671400" cy="527040"/>
              <a:chOff x="8337600" y="4502160"/>
              <a:chExt cx="671400" cy="527040"/>
            </a:xfrm>
          </p:grpSpPr>
          <p:sp>
            <p:nvSpPr>
              <p:cNvPr id="1110" name=""/>
              <p:cNvSpPr/>
              <p:nvPr/>
            </p:nvSpPr>
            <p:spPr>
              <a:xfrm>
                <a:off x="8337600" y="4502160"/>
                <a:ext cx="66528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407440" y="4510080"/>
                <a:ext cx="60156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8470800" y="4960800"/>
              <a:ext cx="671760" cy="527040"/>
              <a:chOff x="8470800" y="4960800"/>
              <a:chExt cx="671760" cy="527040"/>
            </a:xfrm>
          </p:grpSpPr>
          <p:sp>
            <p:nvSpPr>
              <p:cNvPr id="1113" name=""/>
              <p:cNvSpPr/>
              <p:nvPr/>
            </p:nvSpPr>
            <p:spPr>
              <a:xfrm>
                <a:off x="8470800" y="4960800"/>
                <a:ext cx="66528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542440" y="4968720"/>
                <a:ext cx="60012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Source Single Destin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te single source all destinations greedy algorithm as soon as shortest path to desired vertex has been gen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ata Structures For Dijkstra’s Algorith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eedy single source all destinations algorithm is known as Dijkstra’s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1D arr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a linear li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reachable vertices to which shortest path is yet to be gen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nd remove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smalle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of vertices adjacent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5638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54040" y="1911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076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5404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0768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82840" y="1911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364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6880" y="3511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5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7080" y="2597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60720" y="2575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11840" y="1606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65480" y="1584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07480" y="3511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611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2362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3733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3623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828440" y="23623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22860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28195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30481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28954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33920" y="18284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19810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7040" y="2209680"/>
            <a:ext cx="7281720" cy="3017880"/>
          </a:xfrm>
          <a:custGeom>
            <a:avLst/>
            <a:gdLst/>
            <a:ahLst/>
            <a:rect l="l" t="t" r="r" b="b"/>
            <a:pathLst>
              <a:path w="4587" h="1901">
                <a:moveTo>
                  <a:pt x="410" y="0"/>
                </a:moveTo>
                <a:lnTo>
                  <a:pt x="362" y="32"/>
                </a:lnTo>
                <a:lnTo>
                  <a:pt x="306" y="66"/>
                </a:lnTo>
                <a:lnTo>
                  <a:pt x="272" y="89"/>
                </a:lnTo>
                <a:lnTo>
                  <a:pt x="249" y="123"/>
                </a:lnTo>
                <a:lnTo>
                  <a:pt x="226" y="168"/>
                </a:lnTo>
                <a:lnTo>
                  <a:pt x="215" y="202"/>
                </a:lnTo>
                <a:lnTo>
                  <a:pt x="193" y="236"/>
                </a:lnTo>
                <a:lnTo>
                  <a:pt x="170" y="270"/>
                </a:lnTo>
                <a:lnTo>
                  <a:pt x="159" y="304"/>
                </a:lnTo>
                <a:lnTo>
                  <a:pt x="136" y="338"/>
                </a:lnTo>
                <a:lnTo>
                  <a:pt x="125" y="372"/>
                </a:lnTo>
                <a:lnTo>
                  <a:pt x="91" y="428"/>
                </a:lnTo>
                <a:lnTo>
                  <a:pt x="79" y="474"/>
                </a:lnTo>
                <a:lnTo>
                  <a:pt x="57" y="530"/>
                </a:lnTo>
                <a:lnTo>
                  <a:pt x="45" y="564"/>
                </a:lnTo>
                <a:lnTo>
                  <a:pt x="34" y="610"/>
                </a:lnTo>
                <a:lnTo>
                  <a:pt x="23" y="666"/>
                </a:lnTo>
                <a:lnTo>
                  <a:pt x="23" y="711"/>
                </a:lnTo>
                <a:lnTo>
                  <a:pt x="11" y="757"/>
                </a:lnTo>
                <a:lnTo>
                  <a:pt x="11" y="791"/>
                </a:lnTo>
                <a:lnTo>
                  <a:pt x="0" y="825"/>
                </a:lnTo>
                <a:lnTo>
                  <a:pt x="0" y="859"/>
                </a:lnTo>
                <a:lnTo>
                  <a:pt x="0" y="893"/>
                </a:lnTo>
                <a:lnTo>
                  <a:pt x="0" y="926"/>
                </a:lnTo>
                <a:lnTo>
                  <a:pt x="0" y="983"/>
                </a:lnTo>
                <a:lnTo>
                  <a:pt x="0" y="1017"/>
                </a:lnTo>
                <a:lnTo>
                  <a:pt x="23" y="1062"/>
                </a:lnTo>
                <a:lnTo>
                  <a:pt x="34" y="1096"/>
                </a:lnTo>
                <a:lnTo>
                  <a:pt x="68" y="1164"/>
                </a:lnTo>
                <a:lnTo>
                  <a:pt x="79" y="1198"/>
                </a:lnTo>
                <a:lnTo>
                  <a:pt x="125" y="1255"/>
                </a:lnTo>
                <a:lnTo>
                  <a:pt x="159" y="1300"/>
                </a:lnTo>
                <a:lnTo>
                  <a:pt x="215" y="1334"/>
                </a:lnTo>
                <a:lnTo>
                  <a:pt x="283" y="1368"/>
                </a:lnTo>
                <a:lnTo>
                  <a:pt x="328" y="1391"/>
                </a:lnTo>
                <a:lnTo>
                  <a:pt x="385" y="1424"/>
                </a:lnTo>
                <a:lnTo>
                  <a:pt x="442" y="1447"/>
                </a:lnTo>
                <a:lnTo>
                  <a:pt x="532" y="1481"/>
                </a:lnTo>
                <a:lnTo>
                  <a:pt x="645" y="1515"/>
                </a:lnTo>
                <a:lnTo>
                  <a:pt x="747" y="1549"/>
                </a:lnTo>
                <a:lnTo>
                  <a:pt x="872" y="1583"/>
                </a:lnTo>
                <a:lnTo>
                  <a:pt x="974" y="1594"/>
                </a:lnTo>
                <a:lnTo>
                  <a:pt x="1076" y="1617"/>
                </a:lnTo>
                <a:lnTo>
                  <a:pt x="1200" y="1640"/>
                </a:lnTo>
                <a:lnTo>
                  <a:pt x="1348" y="1674"/>
                </a:lnTo>
                <a:lnTo>
                  <a:pt x="1517" y="1730"/>
                </a:lnTo>
                <a:lnTo>
                  <a:pt x="1676" y="1775"/>
                </a:lnTo>
                <a:lnTo>
                  <a:pt x="1789" y="1809"/>
                </a:lnTo>
                <a:lnTo>
                  <a:pt x="1914" y="1832"/>
                </a:lnTo>
                <a:lnTo>
                  <a:pt x="2061" y="1855"/>
                </a:lnTo>
                <a:lnTo>
                  <a:pt x="2231" y="1877"/>
                </a:lnTo>
                <a:lnTo>
                  <a:pt x="2401" y="1889"/>
                </a:lnTo>
                <a:lnTo>
                  <a:pt x="2548" y="1900"/>
                </a:lnTo>
                <a:lnTo>
                  <a:pt x="2638" y="1900"/>
                </a:lnTo>
                <a:lnTo>
                  <a:pt x="2706" y="1900"/>
                </a:lnTo>
                <a:lnTo>
                  <a:pt x="2797" y="1877"/>
                </a:lnTo>
                <a:lnTo>
                  <a:pt x="2910" y="1866"/>
                </a:lnTo>
                <a:lnTo>
                  <a:pt x="3035" y="1843"/>
                </a:lnTo>
                <a:lnTo>
                  <a:pt x="3159" y="1843"/>
                </a:lnTo>
                <a:lnTo>
                  <a:pt x="3250" y="1832"/>
                </a:lnTo>
                <a:lnTo>
                  <a:pt x="3295" y="1821"/>
                </a:lnTo>
                <a:lnTo>
                  <a:pt x="3329" y="1798"/>
                </a:lnTo>
                <a:lnTo>
                  <a:pt x="3374" y="1775"/>
                </a:lnTo>
                <a:lnTo>
                  <a:pt x="3408" y="1753"/>
                </a:lnTo>
                <a:lnTo>
                  <a:pt x="3454" y="1719"/>
                </a:lnTo>
                <a:lnTo>
                  <a:pt x="3499" y="1707"/>
                </a:lnTo>
                <a:lnTo>
                  <a:pt x="3556" y="1696"/>
                </a:lnTo>
                <a:lnTo>
                  <a:pt x="3601" y="1685"/>
                </a:lnTo>
                <a:lnTo>
                  <a:pt x="3646" y="1662"/>
                </a:lnTo>
                <a:lnTo>
                  <a:pt x="3726" y="1640"/>
                </a:lnTo>
                <a:lnTo>
                  <a:pt x="3793" y="1617"/>
                </a:lnTo>
                <a:lnTo>
                  <a:pt x="3827" y="1606"/>
                </a:lnTo>
                <a:lnTo>
                  <a:pt x="3873" y="1583"/>
                </a:lnTo>
                <a:lnTo>
                  <a:pt x="3907" y="1549"/>
                </a:lnTo>
                <a:lnTo>
                  <a:pt x="3952" y="1515"/>
                </a:lnTo>
                <a:lnTo>
                  <a:pt x="3986" y="1504"/>
                </a:lnTo>
                <a:lnTo>
                  <a:pt x="4020" y="1481"/>
                </a:lnTo>
                <a:lnTo>
                  <a:pt x="4054" y="1481"/>
                </a:lnTo>
                <a:lnTo>
                  <a:pt x="4099" y="1458"/>
                </a:lnTo>
                <a:lnTo>
                  <a:pt x="4145" y="1436"/>
                </a:lnTo>
                <a:lnTo>
                  <a:pt x="4178" y="1424"/>
                </a:lnTo>
                <a:lnTo>
                  <a:pt x="4224" y="1402"/>
                </a:lnTo>
                <a:lnTo>
                  <a:pt x="4269" y="1368"/>
                </a:lnTo>
                <a:lnTo>
                  <a:pt x="4314" y="1345"/>
                </a:lnTo>
                <a:lnTo>
                  <a:pt x="4360" y="1323"/>
                </a:lnTo>
                <a:lnTo>
                  <a:pt x="4405" y="1289"/>
                </a:lnTo>
                <a:lnTo>
                  <a:pt x="4450" y="1255"/>
                </a:lnTo>
                <a:lnTo>
                  <a:pt x="4484" y="1221"/>
                </a:lnTo>
                <a:lnTo>
                  <a:pt x="4518" y="1187"/>
                </a:lnTo>
                <a:lnTo>
                  <a:pt x="4552" y="1164"/>
                </a:lnTo>
                <a:lnTo>
                  <a:pt x="4575" y="1130"/>
                </a:lnTo>
                <a:lnTo>
                  <a:pt x="4586" y="10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6765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2286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5146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447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25909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47242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22096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54040" y="1889280"/>
            <a:ext cx="444600" cy="466560"/>
            <a:chOff x="1454040" y="1889280"/>
            <a:chExt cx="444600" cy="466560"/>
          </a:xfrm>
        </p:grpSpPr>
        <p:sp>
          <p:nvSpPr>
            <p:cNvPr id="93" name=""/>
            <p:cNvSpPr/>
            <p:nvPr/>
          </p:nvSpPr>
          <p:spPr>
            <a:xfrm>
              <a:off x="1454040" y="19112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07680" y="1889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8007480" y="3489480"/>
            <a:ext cx="444240" cy="466560"/>
            <a:chOff x="8007480" y="3489480"/>
            <a:chExt cx="444240" cy="466560"/>
          </a:xfrm>
        </p:grpSpPr>
        <p:sp>
          <p:nvSpPr>
            <p:cNvPr id="96" name=""/>
            <p:cNvSpPr/>
            <p:nvPr/>
          </p:nvSpPr>
          <p:spPr>
            <a:xfrm>
              <a:off x="8007480" y="351144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61120" y="3489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797040" y="2209680"/>
            <a:ext cx="7281720" cy="3017880"/>
          </a:xfrm>
          <a:custGeom>
            <a:avLst/>
            <a:gdLst/>
            <a:ahLst/>
            <a:rect l="l" t="t" r="r" b="b"/>
            <a:pathLst>
              <a:path w="4587" h="1901">
                <a:moveTo>
                  <a:pt x="410" y="0"/>
                </a:moveTo>
                <a:lnTo>
                  <a:pt x="362" y="32"/>
                </a:lnTo>
                <a:lnTo>
                  <a:pt x="306" y="66"/>
                </a:lnTo>
                <a:lnTo>
                  <a:pt x="272" y="89"/>
                </a:lnTo>
                <a:lnTo>
                  <a:pt x="249" y="123"/>
                </a:lnTo>
                <a:lnTo>
                  <a:pt x="226" y="168"/>
                </a:lnTo>
                <a:lnTo>
                  <a:pt x="215" y="202"/>
                </a:lnTo>
                <a:lnTo>
                  <a:pt x="193" y="236"/>
                </a:lnTo>
                <a:lnTo>
                  <a:pt x="170" y="270"/>
                </a:lnTo>
                <a:lnTo>
                  <a:pt x="159" y="304"/>
                </a:lnTo>
                <a:lnTo>
                  <a:pt x="136" y="338"/>
                </a:lnTo>
                <a:lnTo>
                  <a:pt x="125" y="372"/>
                </a:lnTo>
                <a:lnTo>
                  <a:pt x="91" y="428"/>
                </a:lnTo>
                <a:lnTo>
                  <a:pt x="79" y="474"/>
                </a:lnTo>
                <a:lnTo>
                  <a:pt x="57" y="530"/>
                </a:lnTo>
                <a:lnTo>
                  <a:pt x="45" y="564"/>
                </a:lnTo>
                <a:lnTo>
                  <a:pt x="34" y="610"/>
                </a:lnTo>
                <a:lnTo>
                  <a:pt x="23" y="666"/>
                </a:lnTo>
                <a:lnTo>
                  <a:pt x="23" y="711"/>
                </a:lnTo>
                <a:lnTo>
                  <a:pt x="11" y="757"/>
                </a:lnTo>
                <a:lnTo>
                  <a:pt x="11" y="791"/>
                </a:lnTo>
                <a:lnTo>
                  <a:pt x="0" y="825"/>
                </a:lnTo>
                <a:lnTo>
                  <a:pt x="0" y="859"/>
                </a:lnTo>
                <a:lnTo>
                  <a:pt x="0" y="893"/>
                </a:lnTo>
                <a:lnTo>
                  <a:pt x="0" y="926"/>
                </a:lnTo>
                <a:lnTo>
                  <a:pt x="0" y="983"/>
                </a:lnTo>
                <a:lnTo>
                  <a:pt x="0" y="1017"/>
                </a:lnTo>
                <a:lnTo>
                  <a:pt x="23" y="1062"/>
                </a:lnTo>
                <a:lnTo>
                  <a:pt x="34" y="1096"/>
                </a:lnTo>
                <a:lnTo>
                  <a:pt x="68" y="1164"/>
                </a:lnTo>
                <a:lnTo>
                  <a:pt x="79" y="1198"/>
                </a:lnTo>
                <a:lnTo>
                  <a:pt x="125" y="1255"/>
                </a:lnTo>
                <a:lnTo>
                  <a:pt x="159" y="1300"/>
                </a:lnTo>
                <a:lnTo>
                  <a:pt x="215" y="1334"/>
                </a:lnTo>
                <a:lnTo>
                  <a:pt x="283" y="1368"/>
                </a:lnTo>
                <a:lnTo>
                  <a:pt x="328" y="1391"/>
                </a:lnTo>
                <a:lnTo>
                  <a:pt x="385" y="1424"/>
                </a:lnTo>
                <a:lnTo>
                  <a:pt x="442" y="1447"/>
                </a:lnTo>
                <a:lnTo>
                  <a:pt x="532" y="1481"/>
                </a:lnTo>
                <a:lnTo>
                  <a:pt x="645" y="1515"/>
                </a:lnTo>
                <a:lnTo>
                  <a:pt x="747" y="1549"/>
                </a:lnTo>
                <a:lnTo>
                  <a:pt x="872" y="1583"/>
                </a:lnTo>
                <a:lnTo>
                  <a:pt x="974" y="1594"/>
                </a:lnTo>
                <a:lnTo>
                  <a:pt x="1076" y="1617"/>
                </a:lnTo>
                <a:lnTo>
                  <a:pt x="1200" y="1640"/>
                </a:lnTo>
                <a:lnTo>
                  <a:pt x="1348" y="1674"/>
                </a:lnTo>
                <a:lnTo>
                  <a:pt x="1517" y="1730"/>
                </a:lnTo>
                <a:lnTo>
                  <a:pt x="1676" y="1775"/>
                </a:lnTo>
                <a:lnTo>
                  <a:pt x="1789" y="1809"/>
                </a:lnTo>
                <a:lnTo>
                  <a:pt x="1914" y="1832"/>
                </a:lnTo>
                <a:lnTo>
                  <a:pt x="2061" y="1855"/>
                </a:lnTo>
                <a:lnTo>
                  <a:pt x="2231" y="1877"/>
                </a:lnTo>
                <a:lnTo>
                  <a:pt x="2401" y="1889"/>
                </a:lnTo>
                <a:lnTo>
                  <a:pt x="2548" y="1900"/>
                </a:lnTo>
                <a:lnTo>
                  <a:pt x="2638" y="1900"/>
                </a:lnTo>
                <a:lnTo>
                  <a:pt x="2706" y="1900"/>
                </a:lnTo>
                <a:lnTo>
                  <a:pt x="2797" y="1877"/>
                </a:lnTo>
                <a:lnTo>
                  <a:pt x="2910" y="1866"/>
                </a:lnTo>
                <a:lnTo>
                  <a:pt x="3035" y="1843"/>
                </a:lnTo>
                <a:lnTo>
                  <a:pt x="3159" y="1843"/>
                </a:lnTo>
                <a:lnTo>
                  <a:pt x="3250" y="1832"/>
                </a:lnTo>
                <a:lnTo>
                  <a:pt x="3295" y="1821"/>
                </a:lnTo>
                <a:lnTo>
                  <a:pt x="3329" y="1798"/>
                </a:lnTo>
                <a:lnTo>
                  <a:pt x="3374" y="1775"/>
                </a:lnTo>
                <a:lnTo>
                  <a:pt x="3408" y="1753"/>
                </a:lnTo>
                <a:lnTo>
                  <a:pt x="3454" y="1719"/>
                </a:lnTo>
                <a:lnTo>
                  <a:pt x="3499" y="1707"/>
                </a:lnTo>
                <a:lnTo>
                  <a:pt x="3556" y="1696"/>
                </a:lnTo>
                <a:lnTo>
                  <a:pt x="3601" y="1685"/>
                </a:lnTo>
                <a:lnTo>
                  <a:pt x="3646" y="1662"/>
                </a:lnTo>
                <a:lnTo>
                  <a:pt x="3726" y="1640"/>
                </a:lnTo>
                <a:lnTo>
                  <a:pt x="3793" y="1617"/>
                </a:lnTo>
                <a:lnTo>
                  <a:pt x="3827" y="1606"/>
                </a:lnTo>
                <a:lnTo>
                  <a:pt x="3873" y="1583"/>
                </a:lnTo>
                <a:lnTo>
                  <a:pt x="3907" y="1549"/>
                </a:lnTo>
                <a:lnTo>
                  <a:pt x="3952" y="1515"/>
                </a:lnTo>
                <a:lnTo>
                  <a:pt x="3986" y="1504"/>
                </a:lnTo>
                <a:lnTo>
                  <a:pt x="4020" y="1481"/>
                </a:lnTo>
                <a:lnTo>
                  <a:pt x="4054" y="1481"/>
                </a:lnTo>
                <a:lnTo>
                  <a:pt x="4099" y="1458"/>
                </a:lnTo>
                <a:lnTo>
                  <a:pt x="4145" y="1436"/>
                </a:lnTo>
                <a:lnTo>
                  <a:pt x="4178" y="1424"/>
                </a:lnTo>
                <a:lnTo>
                  <a:pt x="4224" y="1402"/>
                </a:lnTo>
                <a:lnTo>
                  <a:pt x="4269" y="1368"/>
                </a:lnTo>
                <a:lnTo>
                  <a:pt x="4314" y="1345"/>
                </a:lnTo>
                <a:lnTo>
                  <a:pt x="4360" y="1323"/>
                </a:lnTo>
                <a:lnTo>
                  <a:pt x="4405" y="1289"/>
                </a:lnTo>
                <a:lnTo>
                  <a:pt x="4450" y="1255"/>
                </a:lnTo>
                <a:lnTo>
                  <a:pt x="4484" y="1221"/>
                </a:lnTo>
                <a:lnTo>
                  <a:pt x="4518" y="1187"/>
                </a:lnTo>
                <a:lnTo>
                  <a:pt x="4552" y="1164"/>
                </a:lnTo>
                <a:lnTo>
                  <a:pt x="4575" y="1130"/>
                </a:lnTo>
                <a:lnTo>
                  <a:pt x="4586" y="1096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0958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lect next destination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out-degre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pd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when adjacency list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pd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when adjacency matrix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and update done once for each vertex to which a shortest path is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+ e) = 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1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min heap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used in place of the linear li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reachable vertices, 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(n+e)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cau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move min operation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key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) operations ar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sing a min heap is worse than using a linear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Fibonacci heap is used, the 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 + 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5638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4040" y="1911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076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5404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82840" y="1911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364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6880" y="3511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605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7080" y="2597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60720" y="2575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11840" y="1606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65480" y="1584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7480" y="35114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611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2362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3733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2133720"/>
            <a:ext cx="13716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3623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828440" y="23623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22860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905120" y="28195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580920" y="30481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37339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28954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733920" y="1828440"/>
            <a:ext cx="2971800" cy="2286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981080"/>
            <a:ext cx="1143000" cy="15242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40" y="2209680"/>
            <a:ext cx="7281720" cy="3017880"/>
          </a:xfrm>
          <a:custGeom>
            <a:avLst/>
            <a:gdLst/>
            <a:ahLst/>
            <a:rect l="l" t="t" r="r" b="b"/>
            <a:pathLst>
              <a:path w="4587" h="1901">
                <a:moveTo>
                  <a:pt x="410" y="0"/>
                </a:moveTo>
                <a:lnTo>
                  <a:pt x="362" y="32"/>
                </a:lnTo>
                <a:lnTo>
                  <a:pt x="306" y="66"/>
                </a:lnTo>
                <a:lnTo>
                  <a:pt x="272" y="89"/>
                </a:lnTo>
                <a:lnTo>
                  <a:pt x="249" y="123"/>
                </a:lnTo>
                <a:lnTo>
                  <a:pt x="226" y="168"/>
                </a:lnTo>
                <a:lnTo>
                  <a:pt x="215" y="202"/>
                </a:lnTo>
                <a:lnTo>
                  <a:pt x="193" y="236"/>
                </a:lnTo>
                <a:lnTo>
                  <a:pt x="170" y="270"/>
                </a:lnTo>
                <a:lnTo>
                  <a:pt x="159" y="304"/>
                </a:lnTo>
                <a:lnTo>
                  <a:pt x="136" y="338"/>
                </a:lnTo>
                <a:lnTo>
                  <a:pt x="125" y="372"/>
                </a:lnTo>
                <a:lnTo>
                  <a:pt x="91" y="428"/>
                </a:lnTo>
                <a:lnTo>
                  <a:pt x="79" y="474"/>
                </a:lnTo>
                <a:lnTo>
                  <a:pt x="57" y="530"/>
                </a:lnTo>
                <a:lnTo>
                  <a:pt x="45" y="564"/>
                </a:lnTo>
                <a:lnTo>
                  <a:pt x="34" y="610"/>
                </a:lnTo>
                <a:lnTo>
                  <a:pt x="23" y="666"/>
                </a:lnTo>
                <a:lnTo>
                  <a:pt x="23" y="711"/>
                </a:lnTo>
                <a:lnTo>
                  <a:pt x="11" y="757"/>
                </a:lnTo>
                <a:lnTo>
                  <a:pt x="11" y="791"/>
                </a:lnTo>
                <a:lnTo>
                  <a:pt x="0" y="825"/>
                </a:lnTo>
                <a:lnTo>
                  <a:pt x="0" y="859"/>
                </a:lnTo>
                <a:lnTo>
                  <a:pt x="0" y="893"/>
                </a:lnTo>
                <a:lnTo>
                  <a:pt x="0" y="926"/>
                </a:lnTo>
                <a:lnTo>
                  <a:pt x="0" y="983"/>
                </a:lnTo>
                <a:lnTo>
                  <a:pt x="0" y="1017"/>
                </a:lnTo>
                <a:lnTo>
                  <a:pt x="23" y="1062"/>
                </a:lnTo>
                <a:lnTo>
                  <a:pt x="34" y="1096"/>
                </a:lnTo>
                <a:lnTo>
                  <a:pt x="68" y="1164"/>
                </a:lnTo>
                <a:lnTo>
                  <a:pt x="79" y="1198"/>
                </a:lnTo>
                <a:lnTo>
                  <a:pt x="125" y="1255"/>
                </a:lnTo>
                <a:lnTo>
                  <a:pt x="159" y="1300"/>
                </a:lnTo>
                <a:lnTo>
                  <a:pt x="215" y="1334"/>
                </a:lnTo>
                <a:lnTo>
                  <a:pt x="283" y="1368"/>
                </a:lnTo>
                <a:lnTo>
                  <a:pt x="328" y="1391"/>
                </a:lnTo>
                <a:lnTo>
                  <a:pt x="385" y="1424"/>
                </a:lnTo>
                <a:lnTo>
                  <a:pt x="442" y="1447"/>
                </a:lnTo>
                <a:lnTo>
                  <a:pt x="532" y="1481"/>
                </a:lnTo>
                <a:lnTo>
                  <a:pt x="645" y="1515"/>
                </a:lnTo>
                <a:lnTo>
                  <a:pt x="747" y="1549"/>
                </a:lnTo>
                <a:lnTo>
                  <a:pt x="872" y="1583"/>
                </a:lnTo>
                <a:lnTo>
                  <a:pt x="974" y="1594"/>
                </a:lnTo>
                <a:lnTo>
                  <a:pt x="1076" y="1617"/>
                </a:lnTo>
                <a:lnTo>
                  <a:pt x="1200" y="1640"/>
                </a:lnTo>
                <a:lnTo>
                  <a:pt x="1348" y="1674"/>
                </a:lnTo>
                <a:lnTo>
                  <a:pt x="1517" y="1730"/>
                </a:lnTo>
                <a:lnTo>
                  <a:pt x="1676" y="1775"/>
                </a:lnTo>
                <a:lnTo>
                  <a:pt x="1789" y="1809"/>
                </a:lnTo>
                <a:lnTo>
                  <a:pt x="1914" y="1832"/>
                </a:lnTo>
                <a:lnTo>
                  <a:pt x="2061" y="1855"/>
                </a:lnTo>
                <a:lnTo>
                  <a:pt x="2231" y="1877"/>
                </a:lnTo>
                <a:lnTo>
                  <a:pt x="2401" y="1889"/>
                </a:lnTo>
                <a:lnTo>
                  <a:pt x="2548" y="1900"/>
                </a:lnTo>
                <a:lnTo>
                  <a:pt x="2638" y="1900"/>
                </a:lnTo>
                <a:lnTo>
                  <a:pt x="2706" y="1900"/>
                </a:lnTo>
                <a:lnTo>
                  <a:pt x="2797" y="1877"/>
                </a:lnTo>
                <a:lnTo>
                  <a:pt x="2910" y="1866"/>
                </a:lnTo>
                <a:lnTo>
                  <a:pt x="3035" y="1843"/>
                </a:lnTo>
                <a:lnTo>
                  <a:pt x="3159" y="1843"/>
                </a:lnTo>
                <a:lnTo>
                  <a:pt x="3250" y="1832"/>
                </a:lnTo>
                <a:lnTo>
                  <a:pt x="3295" y="1821"/>
                </a:lnTo>
                <a:lnTo>
                  <a:pt x="3329" y="1798"/>
                </a:lnTo>
                <a:lnTo>
                  <a:pt x="3374" y="1775"/>
                </a:lnTo>
                <a:lnTo>
                  <a:pt x="3408" y="1753"/>
                </a:lnTo>
                <a:lnTo>
                  <a:pt x="3454" y="1719"/>
                </a:lnTo>
                <a:lnTo>
                  <a:pt x="3499" y="1707"/>
                </a:lnTo>
                <a:lnTo>
                  <a:pt x="3556" y="1696"/>
                </a:lnTo>
                <a:lnTo>
                  <a:pt x="3601" y="1685"/>
                </a:lnTo>
                <a:lnTo>
                  <a:pt x="3646" y="1662"/>
                </a:lnTo>
                <a:lnTo>
                  <a:pt x="3726" y="1640"/>
                </a:lnTo>
                <a:lnTo>
                  <a:pt x="3793" y="1617"/>
                </a:lnTo>
                <a:lnTo>
                  <a:pt x="3827" y="1606"/>
                </a:lnTo>
                <a:lnTo>
                  <a:pt x="3873" y="1583"/>
                </a:lnTo>
                <a:lnTo>
                  <a:pt x="3907" y="1549"/>
                </a:lnTo>
                <a:lnTo>
                  <a:pt x="3952" y="1515"/>
                </a:lnTo>
                <a:lnTo>
                  <a:pt x="3986" y="1504"/>
                </a:lnTo>
                <a:lnTo>
                  <a:pt x="4020" y="1481"/>
                </a:lnTo>
                <a:lnTo>
                  <a:pt x="4054" y="1481"/>
                </a:lnTo>
                <a:lnTo>
                  <a:pt x="4099" y="1458"/>
                </a:lnTo>
                <a:lnTo>
                  <a:pt x="4145" y="1436"/>
                </a:lnTo>
                <a:lnTo>
                  <a:pt x="4178" y="1424"/>
                </a:lnTo>
                <a:lnTo>
                  <a:pt x="4224" y="1402"/>
                </a:lnTo>
                <a:lnTo>
                  <a:pt x="4269" y="1368"/>
                </a:lnTo>
                <a:lnTo>
                  <a:pt x="4314" y="1345"/>
                </a:lnTo>
                <a:lnTo>
                  <a:pt x="4360" y="1323"/>
                </a:lnTo>
                <a:lnTo>
                  <a:pt x="4405" y="1289"/>
                </a:lnTo>
                <a:lnTo>
                  <a:pt x="4450" y="1255"/>
                </a:lnTo>
                <a:lnTo>
                  <a:pt x="4484" y="1221"/>
                </a:lnTo>
                <a:lnTo>
                  <a:pt x="4518" y="1187"/>
                </a:lnTo>
                <a:lnTo>
                  <a:pt x="4552" y="1164"/>
                </a:lnTo>
                <a:lnTo>
                  <a:pt x="4575" y="1130"/>
                </a:lnTo>
                <a:lnTo>
                  <a:pt x="4586" y="10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16765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286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146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1447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25909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47242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22096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958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est Path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source single dest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source all destin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airs (every vertex is a source and destin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Source Single Destin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greedy algorith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 source vertex using cheapest/shortest 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 new vertex using cheapest edge subject to the constraint that a new vertex is re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until destination is re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086600" y="19810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733920" y="18284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Shortest 1 To 7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133720"/>
            <a:ext cx="13716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54040" y="1911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076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5404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0768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82840" y="1911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64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6880" y="3511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605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7080" y="2597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60720" y="2575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1606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65480" y="1584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7480" y="35114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611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2362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3733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23623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828440" y="23623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2860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905120" y="28195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580920" y="30481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7339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28954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7040" y="2209680"/>
            <a:ext cx="7281720" cy="3017880"/>
          </a:xfrm>
          <a:custGeom>
            <a:avLst/>
            <a:gdLst/>
            <a:ahLst/>
            <a:rect l="l" t="t" r="r" b="b"/>
            <a:pathLst>
              <a:path w="4587" h="1901">
                <a:moveTo>
                  <a:pt x="410" y="0"/>
                </a:moveTo>
                <a:lnTo>
                  <a:pt x="362" y="32"/>
                </a:lnTo>
                <a:lnTo>
                  <a:pt x="306" y="66"/>
                </a:lnTo>
                <a:lnTo>
                  <a:pt x="272" y="89"/>
                </a:lnTo>
                <a:lnTo>
                  <a:pt x="249" y="123"/>
                </a:lnTo>
                <a:lnTo>
                  <a:pt x="226" y="168"/>
                </a:lnTo>
                <a:lnTo>
                  <a:pt x="215" y="202"/>
                </a:lnTo>
                <a:lnTo>
                  <a:pt x="193" y="236"/>
                </a:lnTo>
                <a:lnTo>
                  <a:pt x="170" y="270"/>
                </a:lnTo>
                <a:lnTo>
                  <a:pt x="159" y="304"/>
                </a:lnTo>
                <a:lnTo>
                  <a:pt x="136" y="338"/>
                </a:lnTo>
                <a:lnTo>
                  <a:pt x="125" y="372"/>
                </a:lnTo>
                <a:lnTo>
                  <a:pt x="91" y="428"/>
                </a:lnTo>
                <a:lnTo>
                  <a:pt x="79" y="474"/>
                </a:lnTo>
                <a:lnTo>
                  <a:pt x="57" y="530"/>
                </a:lnTo>
                <a:lnTo>
                  <a:pt x="45" y="564"/>
                </a:lnTo>
                <a:lnTo>
                  <a:pt x="34" y="610"/>
                </a:lnTo>
                <a:lnTo>
                  <a:pt x="23" y="666"/>
                </a:lnTo>
                <a:lnTo>
                  <a:pt x="23" y="711"/>
                </a:lnTo>
                <a:lnTo>
                  <a:pt x="11" y="757"/>
                </a:lnTo>
                <a:lnTo>
                  <a:pt x="11" y="791"/>
                </a:lnTo>
                <a:lnTo>
                  <a:pt x="0" y="825"/>
                </a:lnTo>
                <a:lnTo>
                  <a:pt x="0" y="859"/>
                </a:lnTo>
                <a:lnTo>
                  <a:pt x="0" y="893"/>
                </a:lnTo>
                <a:lnTo>
                  <a:pt x="0" y="926"/>
                </a:lnTo>
                <a:lnTo>
                  <a:pt x="0" y="983"/>
                </a:lnTo>
                <a:lnTo>
                  <a:pt x="0" y="1017"/>
                </a:lnTo>
                <a:lnTo>
                  <a:pt x="23" y="1062"/>
                </a:lnTo>
                <a:lnTo>
                  <a:pt x="34" y="1096"/>
                </a:lnTo>
                <a:lnTo>
                  <a:pt x="68" y="1164"/>
                </a:lnTo>
                <a:lnTo>
                  <a:pt x="79" y="1198"/>
                </a:lnTo>
                <a:lnTo>
                  <a:pt x="125" y="1255"/>
                </a:lnTo>
                <a:lnTo>
                  <a:pt x="159" y="1300"/>
                </a:lnTo>
                <a:lnTo>
                  <a:pt x="215" y="1334"/>
                </a:lnTo>
                <a:lnTo>
                  <a:pt x="283" y="1368"/>
                </a:lnTo>
                <a:lnTo>
                  <a:pt x="328" y="1391"/>
                </a:lnTo>
                <a:lnTo>
                  <a:pt x="385" y="1424"/>
                </a:lnTo>
                <a:lnTo>
                  <a:pt x="442" y="1447"/>
                </a:lnTo>
                <a:lnTo>
                  <a:pt x="532" y="1481"/>
                </a:lnTo>
                <a:lnTo>
                  <a:pt x="645" y="1515"/>
                </a:lnTo>
                <a:lnTo>
                  <a:pt x="747" y="1549"/>
                </a:lnTo>
                <a:lnTo>
                  <a:pt x="872" y="1583"/>
                </a:lnTo>
                <a:lnTo>
                  <a:pt x="974" y="1594"/>
                </a:lnTo>
                <a:lnTo>
                  <a:pt x="1076" y="1617"/>
                </a:lnTo>
                <a:lnTo>
                  <a:pt x="1200" y="1640"/>
                </a:lnTo>
                <a:lnTo>
                  <a:pt x="1348" y="1674"/>
                </a:lnTo>
                <a:lnTo>
                  <a:pt x="1517" y="1730"/>
                </a:lnTo>
                <a:lnTo>
                  <a:pt x="1676" y="1775"/>
                </a:lnTo>
                <a:lnTo>
                  <a:pt x="1789" y="1809"/>
                </a:lnTo>
                <a:lnTo>
                  <a:pt x="1914" y="1832"/>
                </a:lnTo>
                <a:lnTo>
                  <a:pt x="2061" y="1855"/>
                </a:lnTo>
                <a:lnTo>
                  <a:pt x="2231" y="1877"/>
                </a:lnTo>
                <a:lnTo>
                  <a:pt x="2401" y="1889"/>
                </a:lnTo>
                <a:lnTo>
                  <a:pt x="2548" y="1900"/>
                </a:lnTo>
                <a:lnTo>
                  <a:pt x="2638" y="1900"/>
                </a:lnTo>
                <a:lnTo>
                  <a:pt x="2706" y="1900"/>
                </a:lnTo>
                <a:lnTo>
                  <a:pt x="2797" y="1877"/>
                </a:lnTo>
                <a:lnTo>
                  <a:pt x="2910" y="1866"/>
                </a:lnTo>
                <a:lnTo>
                  <a:pt x="3035" y="1843"/>
                </a:lnTo>
                <a:lnTo>
                  <a:pt x="3159" y="1843"/>
                </a:lnTo>
                <a:lnTo>
                  <a:pt x="3250" y="1832"/>
                </a:lnTo>
                <a:lnTo>
                  <a:pt x="3295" y="1821"/>
                </a:lnTo>
                <a:lnTo>
                  <a:pt x="3329" y="1798"/>
                </a:lnTo>
                <a:lnTo>
                  <a:pt x="3374" y="1775"/>
                </a:lnTo>
                <a:lnTo>
                  <a:pt x="3408" y="1753"/>
                </a:lnTo>
                <a:lnTo>
                  <a:pt x="3454" y="1719"/>
                </a:lnTo>
                <a:lnTo>
                  <a:pt x="3499" y="1707"/>
                </a:lnTo>
                <a:lnTo>
                  <a:pt x="3556" y="1696"/>
                </a:lnTo>
                <a:lnTo>
                  <a:pt x="3601" y="1685"/>
                </a:lnTo>
                <a:lnTo>
                  <a:pt x="3646" y="1662"/>
                </a:lnTo>
                <a:lnTo>
                  <a:pt x="3726" y="1640"/>
                </a:lnTo>
                <a:lnTo>
                  <a:pt x="3793" y="1617"/>
                </a:lnTo>
                <a:lnTo>
                  <a:pt x="3827" y="1606"/>
                </a:lnTo>
                <a:lnTo>
                  <a:pt x="3873" y="1583"/>
                </a:lnTo>
                <a:lnTo>
                  <a:pt x="3907" y="1549"/>
                </a:lnTo>
                <a:lnTo>
                  <a:pt x="3952" y="1515"/>
                </a:lnTo>
                <a:lnTo>
                  <a:pt x="3986" y="1504"/>
                </a:lnTo>
                <a:lnTo>
                  <a:pt x="4020" y="1481"/>
                </a:lnTo>
                <a:lnTo>
                  <a:pt x="4054" y="1481"/>
                </a:lnTo>
                <a:lnTo>
                  <a:pt x="4099" y="1458"/>
                </a:lnTo>
                <a:lnTo>
                  <a:pt x="4145" y="1436"/>
                </a:lnTo>
                <a:lnTo>
                  <a:pt x="4178" y="1424"/>
                </a:lnTo>
                <a:lnTo>
                  <a:pt x="4224" y="1402"/>
                </a:lnTo>
                <a:lnTo>
                  <a:pt x="4269" y="1368"/>
                </a:lnTo>
                <a:lnTo>
                  <a:pt x="4314" y="1345"/>
                </a:lnTo>
                <a:lnTo>
                  <a:pt x="4360" y="1323"/>
                </a:lnTo>
                <a:lnTo>
                  <a:pt x="4405" y="1289"/>
                </a:lnTo>
                <a:lnTo>
                  <a:pt x="4450" y="1255"/>
                </a:lnTo>
                <a:lnTo>
                  <a:pt x="4484" y="1221"/>
                </a:lnTo>
                <a:lnTo>
                  <a:pt x="4518" y="1187"/>
                </a:lnTo>
                <a:lnTo>
                  <a:pt x="4552" y="1164"/>
                </a:lnTo>
                <a:lnTo>
                  <a:pt x="4575" y="1130"/>
                </a:lnTo>
                <a:lnTo>
                  <a:pt x="4586" y="10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16765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2286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25146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1447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5909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47242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22096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286000"/>
            <a:ext cx="121932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80920" y="3048120"/>
            <a:ext cx="1295640" cy="6094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3733920"/>
            <a:ext cx="4343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5638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shortest path. Algorithm doesn’t wor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Source All Destin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generate up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umber of vertices) paths (including path from source to itsel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dy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 these up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hs in order of increasing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edge costs (lengths)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gt;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no path has leng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hortest path is from the source vertex to itself. The length of this path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0160" y="3403440"/>
            <a:ext cx="777240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426708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434340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11040" y="4861080"/>
            <a:ext cx="2889360" cy="534960"/>
            <a:chOff x="311040" y="4861080"/>
            <a:chExt cx="2889360" cy="534960"/>
          </a:xfrm>
        </p:grpSpPr>
        <p:sp>
          <p:nvSpPr>
            <p:cNvPr id="240" name=""/>
            <p:cNvSpPr/>
            <p:nvPr/>
          </p:nvSpPr>
          <p:spPr>
            <a:xfrm>
              <a:off x="311040" y="4883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4680" y="4861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19520" y="48769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11040" y="5410080"/>
            <a:ext cx="2889360" cy="527040"/>
            <a:chOff x="311040" y="5410080"/>
            <a:chExt cx="2889360" cy="527040"/>
          </a:xfrm>
        </p:grpSpPr>
        <p:sp>
          <p:nvSpPr>
            <p:cNvPr id="244" name=""/>
            <p:cNvSpPr/>
            <p:nvPr/>
          </p:nvSpPr>
          <p:spPr>
            <a:xfrm>
              <a:off x="311040" y="5492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4680" y="5470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01760" y="5492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55400" y="5470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2120" y="5715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1952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11040" y="6095880"/>
            <a:ext cx="2889360" cy="527040"/>
            <a:chOff x="311040" y="6095880"/>
            <a:chExt cx="2889360" cy="527040"/>
          </a:xfrm>
        </p:grpSpPr>
        <p:sp>
          <p:nvSpPr>
            <p:cNvPr id="251" name=""/>
            <p:cNvSpPr/>
            <p:nvPr/>
          </p:nvSpPr>
          <p:spPr>
            <a:xfrm>
              <a:off x="31104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468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0176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5540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2120" y="64008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19520" y="6095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24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461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5248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502160" y="4343400"/>
            <a:ext cx="4336920" cy="603360"/>
            <a:chOff x="4502160" y="4343400"/>
            <a:chExt cx="4336920" cy="603360"/>
          </a:xfrm>
        </p:grpSpPr>
        <p:sp>
          <p:nvSpPr>
            <p:cNvPr id="261" name=""/>
            <p:cNvSpPr/>
            <p:nvPr/>
          </p:nvSpPr>
          <p:spPr>
            <a:xfrm>
              <a:off x="45021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558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928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465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528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5820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502160" y="5105520"/>
            <a:ext cx="4336920" cy="527040"/>
            <a:chOff x="4502160" y="5105520"/>
            <a:chExt cx="4336920" cy="527040"/>
          </a:xfrm>
        </p:grpSpPr>
        <p:sp>
          <p:nvSpPr>
            <p:cNvPr id="268" name=""/>
            <p:cNvSpPr/>
            <p:nvPr/>
          </p:nvSpPr>
          <p:spPr>
            <a:xfrm>
              <a:off x="4502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55800" y="51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92880" y="5187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46520" y="51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52880" y="5410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8200" y="51055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8324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36880" y="51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5410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739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27600" y="51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34320" y="5410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502160" y="5715000"/>
            <a:ext cx="4336920" cy="527040"/>
            <a:chOff x="4502160" y="5715000"/>
            <a:chExt cx="4336920" cy="527040"/>
          </a:xfrm>
        </p:grpSpPr>
        <p:sp>
          <p:nvSpPr>
            <p:cNvPr id="281" name=""/>
            <p:cNvSpPr/>
            <p:nvPr/>
          </p:nvSpPr>
          <p:spPr>
            <a:xfrm>
              <a:off x="4502160" y="5797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55800" y="5775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2880" y="57974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46520" y="5775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2880" y="60199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229600" y="5715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83240" y="5797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36880" y="5775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43600" y="60199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502160" y="6248520"/>
            <a:ext cx="4336920" cy="527040"/>
            <a:chOff x="4502160" y="6248520"/>
            <a:chExt cx="4336920" cy="527040"/>
          </a:xfrm>
        </p:grpSpPr>
        <p:sp>
          <p:nvSpPr>
            <p:cNvPr id="291" name=""/>
            <p:cNvSpPr/>
            <p:nvPr/>
          </p:nvSpPr>
          <p:spPr>
            <a:xfrm>
              <a:off x="4502160" y="6330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55800" y="6308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92880" y="6330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46520" y="6308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52880" y="6553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29600" y="62485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83240" y="6330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36880" y="6308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43600" y="6553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73960" y="6330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27600" y="6308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6553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0160" y="3403440"/>
            <a:ext cx="777240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99072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91440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680" y="1454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32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1447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36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7320" y="21938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4040" y="2216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07680" y="21938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243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36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732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4040" y="2901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0768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2895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44760" y="2901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9840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3124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63680" y="3429000"/>
            <a:ext cx="4336920" cy="603360"/>
            <a:chOff x="463680" y="3429000"/>
            <a:chExt cx="4336920" cy="603360"/>
          </a:xfrm>
        </p:grpSpPr>
        <p:sp>
          <p:nvSpPr>
            <p:cNvPr id="326" name=""/>
            <p:cNvSpPr/>
            <p:nvPr/>
          </p:nvSpPr>
          <p:spPr>
            <a:xfrm>
              <a:off x="463680" y="3587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7320" y="3565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540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07680" y="3565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14400" y="3809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19720" y="34290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63680" y="4267080"/>
            <a:ext cx="4336920" cy="527040"/>
            <a:chOff x="463680" y="4267080"/>
            <a:chExt cx="4336920" cy="527040"/>
          </a:xfrm>
        </p:grpSpPr>
        <p:sp>
          <p:nvSpPr>
            <p:cNvPr id="333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732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404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0768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14400" y="4572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19720" y="4267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447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9840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05120" y="4572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354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8912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95480" y="4572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63680" y="5181480"/>
            <a:ext cx="4336920" cy="527040"/>
            <a:chOff x="463680" y="5181480"/>
            <a:chExt cx="4336920" cy="527040"/>
          </a:xfrm>
        </p:grpSpPr>
        <p:sp>
          <p:nvSpPr>
            <p:cNvPr id="346" name=""/>
            <p:cNvSpPr/>
            <p:nvPr/>
          </p:nvSpPr>
          <p:spPr>
            <a:xfrm>
              <a:off x="463680" y="52642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732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54040" y="5264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0768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14400" y="54864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91120" y="5181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44760" y="5264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9840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05120" y="54864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63680" y="6095880"/>
            <a:ext cx="4336920" cy="527040"/>
            <a:chOff x="463680" y="6095880"/>
            <a:chExt cx="4336920" cy="527040"/>
          </a:xfrm>
        </p:grpSpPr>
        <p:sp>
          <p:nvSpPr>
            <p:cNvPr id="356" name=""/>
            <p:cNvSpPr/>
            <p:nvPr/>
          </p:nvSpPr>
          <p:spPr>
            <a:xfrm>
              <a:off x="4636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73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5404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0768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1440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91120" y="6095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4476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9840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5120" y="64008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354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891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5334120" y="1371600"/>
            <a:ext cx="373356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ath (other than first) is a one edge extension of a previous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shortest path is the shortest one edge extension of an already generated shortest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4-08-05T17:14:20Z</dcterms:modified>
  <cp:revision>85</cp:revision>
  <dc:subject/>
  <dc:title>Data Representation Methods</dc:title>
</cp:coreProperties>
</file>