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3.png" ContentType="image/png"/>
  <Override PartName="/ppt/media/image2.gif" ContentType="image/gif"/>
  <Override PartName="/ppt/media/image5.png" ContentType="image/png"/>
  <Override PartName="/ppt/media/image25.wmf" ContentType="image/x-wmf"/>
  <Override PartName="/ppt/media/image22.png" ContentType="image/png"/>
  <Override PartName="/ppt/media/image1.gif" ContentType="image/gif"/>
  <Override PartName="/ppt/media/image19.gif" ContentType="image/gif"/>
  <Override PartName="/ppt/media/image24.png" ContentType="image/png"/>
  <Override PartName="/ppt/media/image21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E03DC0-686E-45F1-BF22-E213A64310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ruck lo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ship loading to maximize earnings. Each container has a weight and pro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41A-62AC-4ADA-A804-4634A12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19E-00E9-4CD2-BB2D-0CD1C73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F16-7C20-4719-9153-C0BCA5D4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101-06ED-4FF4-B375-B437C364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675-F1D2-4668-9E8E-C287D7A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303-F40C-49C3-9591-F8AFFA5E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B6A-31F5-4CE0-91E8-DB7EBE2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16E-1879-4FD6-B381-FB70D44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E81-E6F7-4433-B4FF-38C456C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60F-3C65-4288-94F9-EAF03A7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D75-06DC-4D2D-AF89-EC5CB98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351-F3B0-4007-AAA1-ED208A2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DA48-3396-4F1F-88A3-25217953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1.gif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gorithm Design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and conqu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 and b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65828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the greedy method does not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dy method does, however, give us a good heuristic for machin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p has 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s are available for lo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of contain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weight is a positiv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container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s many containers as is possible without sinking the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74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75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00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containers in increasing order of weight until we get to a container that doesn’t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greedy algorithm always load the maximum number of contain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. May be proved using a proof by induction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971800" y="1905120"/>
            <a:ext cx="5638320" cy="299520"/>
            <a:chOff x="2971800" y="1905120"/>
            <a:chExt cx="5638320" cy="299520"/>
          </a:xfrm>
        </p:grpSpPr>
        <p:grpSp>
          <p:nvGrpSpPr>
            <p:cNvPr id="127" name=""/>
            <p:cNvGrpSpPr/>
            <p:nvPr/>
          </p:nvGrpSpPr>
          <p:grpSpPr>
            <a:xfrm>
              <a:off x="2971800" y="1905120"/>
              <a:ext cx="2742840" cy="299520"/>
              <a:chOff x="2971800" y="1905120"/>
              <a:chExt cx="2742840" cy="299520"/>
            </a:xfrm>
          </p:grpSpPr>
          <p:sp>
            <p:nvSpPr>
              <p:cNvPr id="128" name=""/>
              <p:cNvSpPr/>
              <p:nvPr/>
            </p:nvSpPr>
            <p:spPr>
              <a:xfrm>
                <a:off x="3011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46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81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1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86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218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569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20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1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22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972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71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06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41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77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12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47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826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177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528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878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229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580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867280" y="1905120"/>
              <a:ext cx="2742840" cy="299520"/>
              <a:chOff x="5867280" y="1905120"/>
              <a:chExt cx="2742840" cy="29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906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41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76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11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468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819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73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5244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8752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2260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5768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92760" y="19051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02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37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2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076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426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781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320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4828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8336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1844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53520" y="209376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SHIP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ainer Loading With 2 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l containers be loaded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ips whose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ach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in pack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sufficient for all i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machine schedul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l jobs be complet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n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HIP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SHIP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2971800" y="1600200"/>
            <a:ext cx="5638320" cy="299520"/>
            <a:chOff x="2971800" y="1600200"/>
            <a:chExt cx="5638320" cy="299520"/>
          </a:xfrm>
        </p:grpSpPr>
        <p:grpSp>
          <p:nvGrpSpPr>
            <p:cNvPr id="183" name=""/>
            <p:cNvGrpSpPr/>
            <p:nvPr/>
          </p:nvGrpSpPr>
          <p:grpSpPr>
            <a:xfrm>
              <a:off x="2971800" y="1600200"/>
              <a:ext cx="2742840" cy="299520"/>
              <a:chOff x="2971800" y="1600200"/>
              <a:chExt cx="2742840" cy="299520"/>
            </a:xfrm>
          </p:grpSpPr>
          <p:sp>
            <p:nvSpPr>
              <p:cNvPr id="184" name=""/>
              <p:cNvSpPr/>
              <p:nvPr/>
            </p:nvSpPr>
            <p:spPr>
              <a:xfrm>
                <a:off x="3011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46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81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16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51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86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18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569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920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271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22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972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1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6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41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7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12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47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826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177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528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878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229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80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867280" y="1600200"/>
              <a:ext cx="2742840" cy="299520"/>
              <a:chOff x="5867280" y="1600200"/>
              <a:chExt cx="2742840" cy="29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5906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41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76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1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468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819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73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5244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8752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2260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5768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92760" y="160020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7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02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7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72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8076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426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781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320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4828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336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1844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453520" y="178884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4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235" name="BOOK003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250560" cy="320760"/>
          </a:xfrm>
          <a:prstGeom prst="rect">
            <a:avLst/>
          </a:prstGeom>
          <a:ln w="0">
            <a:noFill/>
          </a:ln>
        </p:spPr>
      </p:pic>
      <p:pic>
        <p:nvPicPr>
          <p:cNvPr id="236" name="CAMERA24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237" name="CELLO" descr=""/>
          <p:cNvPicPr/>
          <p:nvPr/>
        </p:nvPicPr>
        <p:blipFill>
          <a:blip r:embed="rId4"/>
          <a:stretch/>
        </p:blipFill>
        <p:spPr>
          <a:xfrm>
            <a:off x="5334120" y="470844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219320" y="4038480"/>
            <a:ext cx="685800" cy="1096920"/>
            <a:chOff x="1219320" y="4038480"/>
            <a:chExt cx="685800" cy="1096920"/>
          </a:xfrm>
        </p:grpSpPr>
        <p:sp>
          <p:nvSpPr>
            <p:cNvPr id="239" name=""/>
            <p:cNvSpPr/>
            <p:nvPr/>
          </p:nvSpPr>
          <p:spPr>
            <a:xfrm>
              <a:off x="1219320" y="4038480"/>
              <a:ext cx="685800" cy="1096920"/>
            </a:xfrm>
            <a:custGeom>
              <a:avLst/>
              <a:gdLst/>
              <a:ahLst/>
              <a:rect l="l" t="t" r="r" b="b"/>
              <a:pathLst>
                <a:path w="1167" h="2001">
                  <a:moveTo>
                    <a:pt x="722" y="0"/>
                  </a:moveTo>
                  <a:cubicBezTo>
                    <a:pt x="707" y="61"/>
                    <a:pt x="689" y="112"/>
                    <a:pt x="643" y="158"/>
                  </a:cubicBezTo>
                  <a:cubicBezTo>
                    <a:pt x="616" y="185"/>
                    <a:pt x="581" y="201"/>
                    <a:pt x="553" y="226"/>
                  </a:cubicBezTo>
                  <a:cubicBezTo>
                    <a:pt x="517" y="258"/>
                    <a:pt x="497" y="278"/>
                    <a:pt x="451" y="294"/>
                  </a:cubicBezTo>
                  <a:cubicBezTo>
                    <a:pt x="385" y="342"/>
                    <a:pt x="314" y="376"/>
                    <a:pt x="259" y="440"/>
                  </a:cubicBezTo>
                  <a:cubicBezTo>
                    <a:pt x="170" y="544"/>
                    <a:pt x="114" y="693"/>
                    <a:pt x="79" y="824"/>
                  </a:cubicBezTo>
                  <a:cubicBezTo>
                    <a:pt x="69" y="861"/>
                    <a:pt x="68" y="900"/>
                    <a:pt x="56" y="937"/>
                  </a:cubicBezTo>
                  <a:cubicBezTo>
                    <a:pt x="52" y="948"/>
                    <a:pt x="49" y="960"/>
                    <a:pt x="45" y="971"/>
                  </a:cubicBezTo>
                  <a:cubicBezTo>
                    <a:pt x="29" y="1104"/>
                    <a:pt x="41" y="1040"/>
                    <a:pt x="11" y="1163"/>
                  </a:cubicBezTo>
                  <a:cubicBezTo>
                    <a:pt x="7" y="1178"/>
                    <a:pt x="0" y="1208"/>
                    <a:pt x="0" y="1208"/>
                  </a:cubicBezTo>
                  <a:cubicBezTo>
                    <a:pt x="9" y="1383"/>
                    <a:pt x="13" y="1536"/>
                    <a:pt x="113" y="1683"/>
                  </a:cubicBezTo>
                  <a:cubicBezTo>
                    <a:pt x="155" y="1812"/>
                    <a:pt x="348" y="1907"/>
                    <a:pt x="474" y="1931"/>
                  </a:cubicBezTo>
                  <a:cubicBezTo>
                    <a:pt x="578" y="2001"/>
                    <a:pt x="662" y="1955"/>
                    <a:pt x="801" y="1942"/>
                  </a:cubicBezTo>
                  <a:cubicBezTo>
                    <a:pt x="927" y="1901"/>
                    <a:pt x="1057" y="1813"/>
                    <a:pt x="1106" y="1683"/>
                  </a:cubicBezTo>
                  <a:cubicBezTo>
                    <a:pt x="1117" y="1653"/>
                    <a:pt x="1130" y="1623"/>
                    <a:pt x="1140" y="1592"/>
                  </a:cubicBezTo>
                  <a:cubicBezTo>
                    <a:pt x="1150" y="1563"/>
                    <a:pt x="1163" y="1502"/>
                    <a:pt x="1163" y="1502"/>
                  </a:cubicBezTo>
                  <a:cubicBezTo>
                    <a:pt x="1159" y="1393"/>
                    <a:pt x="1167" y="1282"/>
                    <a:pt x="1152" y="1174"/>
                  </a:cubicBezTo>
                  <a:cubicBezTo>
                    <a:pt x="1147" y="1141"/>
                    <a:pt x="1121" y="1114"/>
                    <a:pt x="1106" y="1084"/>
                  </a:cubicBezTo>
                  <a:cubicBezTo>
                    <a:pt x="1075" y="1024"/>
                    <a:pt x="1047" y="963"/>
                    <a:pt x="1016" y="903"/>
                  </a:cubicBezTo>
                  <a:cubicBezTo>
                    <a:pt x="982" y="836"/>
                    <a:pt x="967" y="758"/>
                    <a:pt x="937" y="689"/>
                  </a:cubicBezTo>
                  <a:cubicBezTo>
                    <a:pt x="918" y="645"/>
                    <a:pt x="887" y="609"/>
                    <a:pt x="869" y="565"/>
                  </a:cubicBezTo>
                  <a:cubicBezTo>
                    <a:pt x="839" y="489"/>
                    <a:pt x="822" y="406"/>
                    <a:pt x="801" y="327"/>
                  </a:cubicBezTo>
                  <a:cubicBezTo>
                    <a:pt x="805" y="282"/>
                    <a:pt x="804" y="236"/>
                    <a:pt x="813" y="192"/>
                  </a:cubicBezTo>
                  <a:cubicBezTo>
                    <a:pt x="823" y="144"/>
                    <a:pt x="902" y="114"/>
                    <a:pt x="937" y="79"/>
                  </a:cubicBezTo>
                  <a:cubicBezTo>
                    <a:pt x="896" y="71"/>
                    <a:pt x="854" y="66"/>
                    <a:pt x="813" y="56"/>
                  </a:cubicBezTo>
                  <a:cubicBezTo>
                    <a:pt x="790" y="50"/>
                    <a:pt x="745" y="34"/>
                    <a:pt x="745" y="34"/>
                  </a:cubicBezTo>
                  <a:cubicBezTo>
                    <a:pt x="737" y="23"/>
                    <a:pt x="722" y="0"/>
                    <a:pt x="722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TOPARROW" descr=""/>
            <p:cNvPicPr/>
            <p:nvPr/>
          </p:nvPicPr>
          <p:blipFill>
            <a:blip r:embed="rId5"/>
            <a:stretch/>
          </p:blipFill>
          <p:spPr>
            <a:xfrm>
              <a:off x="1487880" y="4651200"/>
              <a:ext cx="126720" cy="1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BEARANIM" descr=""/>
          <p:cNvPicPr/>
          <p:nvPr/>
        </p:nvPicPr>
        <p:blipFill>
          <a:blip r:embed="rId6"/>
          <a:stretch/>
        </p:blipFill>
        <p:spPr>
          <a:xfrm>
            <a:off x="3886200" y="4287960"/>
            <a:ext cx="685800" cy="3985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6248520" y="2743200"/>
            <a:ext cx="1901880" cy="2552760"/>
            <a:chOff x="6248520" y="2743200"/>
            <a:chExt cx="1901880" cy="2552760"/>
          </a:xfrm>
        </p:grpSpPr>
        <p:pic>
          <p:nvPicPr>
            <p:cNvPr id="243" name="APPLE" descr=""/>
            <p:cNvPicPr/>
            <p:nvPr/>
          </p:nvPicPr>
          <p:blipFill>
            <a:blip r:embed="rId7"/>
            <a:stretch/>
          </p:blipFill>
          <p:spPr>
            <a:xfrm>
              <a:off x="6248520" y="49528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CAN1" descr=""/>
            <p:cNvPicPr/>
            <p:nvPr/>
          </p:nvPicPr>
          <p:blipFill>
            <a:blip r:embed="rId8"/>
            <a:stretch/>
          </p:blipFill>
          <p:spPr>
            <a:xfrm>
              <a:off x="6858000" y="48006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ENVELOP2" descr=""/>
            <p:cNvPicPr/>
            <p:nvPr/>
          </p:nvPicPr>
          <p:blipFill>
            <a:blip r:embed="rId9"/>
            <a:stretch/>
          </p:blipFill>
          <p:spPr>
            <a:xfrm>
              <a:off x="7696080" y="4876920"/>
              <a:ext cx="343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DOCBAG3" descr=""/>
            <p:cNvPicPr/>
            <p:nvPr/>
          </p:nvPicPr>
          <p:blipFill>
            <a:blip r:embed="rId10"/>
            <a:stretch/>
          </p:blipFill>
          <p:spPr>
            <a:xfrm>
              <a:off x="6324480" y="4495680"/>
              <a:ext cx="3207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WHACKY" descr=""/>
            <p:cNvPicPr/>
            <p:nvPr/>
          </p:nvPicPr>
          <p:blipFill>
            <a:blip r:embed="rId11"/>
            <a:stretch/>
          </p:blipFill>
          <p:spPr>
            <a:xfrm>
              <a:off x="6858000" y="4343400"/>
              <a:ext cx="5238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NEWSPAP1" descr=""/>
            <p:cNvPicPr/>
            <p:nvPr/>
          </p:nvPicPr>
          <p:blipFill>
            <a:blip r:embed="rId12"/>
            <a:stretch/>
          </p:blipFill>
          <p:spPr>
            <a:xfrm>
              <a:off x="7620120" y="4343400"/>
              <a:ext cx="3888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UNUS_GLO" descr=""/>
            <p:cNvPicPr/>
            <p:nvPr/>
          </p:nvPicPr>
          <p:blipFill>
            <a:blip r:embed="rId13"/>
            <a:stretch/>
          </p:blipFill>
          <p:spPr>
            <a:xfrm>
              <a:off x="6248520" y="373392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BASKBALL" descr=""/>
            <p:cNvPicPr/>
            <p:nvPr/>
          </p:nvPicPr>
          <p:blipFill>
            <a:blip r:embed="rId14"/>
            <a:stretch/>
          </p:blipFill>
          <p:spPr>
            <a:xfrm>
              <a:off x="6934320" y="3962520"/>
              <a:ext cx="2062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BBQ" descr=""/>
            <p:cNvPicPr/>
            <p:nvPr/>
          </p:nvPicPr>
          <p:blipFill>
            <a:blip r:embed="rId15"/>
            <a:stretch/>
          </p:blipFill>
          <p:spPr>
            <a:xfrm>
              <a:off x="7467480" y="38098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KETTLE6" descr=""/>
            <p:cNvPicPr/>
            <p:nvPr/>
          </p:nvPicPr>
          <p:blipFill>
            <a:blip r:embed="rId16"/>
            <a:stretch/>
          </p:blipFill>
          <p:spPr>
            <a:xfrm>
              <a:off x="6248520" y="3276720"/>
              <a:ext cx="50328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TOASTER2" descr=""/>
            <p:cNvPicPr/>
            <p:nvPr/>
          </p:nvPicPr>
          <p:blipFill>
            <a:blip r:embed="rId17"/>
            <a:stretch/>
          </p:blipFill>
          <p:spPr>
            <a:xfrm>
              <a:off x="6934320" y="3276720"/>
              <a:ext cx="55872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COMPASS" descr=""/>
            <p:cNvPicPr/>
            <p:nvPr/>
          </p:nvPicPr>
          <p:blipFill>
            <a:blip r:embed="rId18"/>
            <a:stretch/>
          </p:blipFill>
          <p:spPr>
            <a:xfrm>
              <a:off x="7696080" y="3352680"/>
              <a:ext cx="41940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SEARCH" descr=""/>
            <p:cNvPicPr/>
            <p:nvPr/>
          </p:nvPicPr>
          <p:blipFill>
            <a:blip r:embed="rId19"/>
            <a:stretch/>
          </p:blipFill>
          <p:spPr>
            <a:xfrm>
              <a:off x="6324480" y="2819520"/>
              <a:ext cx="258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LAPTOP" descr=""/>
            <p:cNvPicPr/>
            <p:nvPr/>
          </p:nvPicPr>
          <p:blipFill>
            <a:blip r:embed="rId20"/>
            <a:stretch/>
          </p:blipFill>
          <p:spPr>
            <a:xfrm>
              <a:off x="6858000" y="2743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VIDCAM01" descr=""/>
            <p:cNvPicPr/>
            <p:nvPr/>
          </p:nvPicPr>
          <p:blipFill>
            <a:blip r:embed="rId21"/>
            <a:stretch/>
          </p:blipFill>
          <p:spPr>
            <a:xfrm>
              <a:off x="7772400" y="2819520"/>
              <a:ext cx="378000" cy="2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2244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ker wishes to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on a tr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s are to be carried in a knapsack whose weight capac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can be carried in the knaps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m of item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items must be lef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tems should be taken/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assigns a profit/valu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e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ights and profits are posi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er wants to select a subse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to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subset should not exceed the capacity of the knapsack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select a fraction of an ite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ra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ubset  is the sum of the profits of the selected items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fit/value of the selected subset should be maximum.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ptimization criter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28800" y="2666880"/>
            <a:ext cx="4343400" cy="1342080"/>
            <a:chOff x="1828800" y="2666880"/>
            <a:chExt cx="4343400" cy="1342080"/>
          </a:xfrm>
        </p:grpSpPr>
        <p:sp>
          <p:nvSpPr>
            <p:cNvPr id="267" name=""/>
            <p:cNvSpPr/>
            <p:nvPr/>
          </p:nvSpPr>
          <p:spPr>
            <a:xfrm>
              <a:off x="3668760" y="320040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3429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7600" y="266688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5680" y="2971800"/>
              <a:ext cx="16765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3124080"/>
              <a:ext cx="1981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axim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3962520"/>
            <a:ext cx="5105520" cy="1341720"/>
            <a:chOff x="1752480" y="3962520"/>
            <a:chExt cx="5105520" cy="1341720"/>
          </a:xfrm>
        </p:grpSpPr>
        <p:sp>
          <p:nvSpPr>
            <p:cNvPr id="273" name=""/>
            <p:cNvSpPr/>
            <p:nvPr/>
          </p:nvSpPr>
          <p:spPr>
            <a:xfrm>
              <a:off x="3592440" y="4495680"/>
              <a:ext cx="523800" cy="306360"/>
            </a:xfrm>
            <a:custGeom>
              <a:avLst/>
              <a:gdLst/>
              <a:ahLst/>
              <a:rect l="l" t="t" r="r" b="b"/>
              <a:pathLst>
                <a:path w="330" h="193">
                  <a:moveTo>
                    <a:pt x="245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18" y="0"/>
                  </a:lnTo>
                  <a:lnTo>
                    <a:pt x="69" y="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49" y="26"/>
                  </a:lnTo>
                  <a:lnTo>
                    <a:pt x="69" y="41"/>
                  </a:lnTo>
                  <a:lnTo>
                    <a:pt x="89" y="56"/>
                  </a:lnTo>
                  <a:lnTo>
                    <a:pt x="118" y="67"/>
                  </a:lnTo>
                  <a:lnTo>
                    <a:pt x="138" y="82"/>
                  </a:lnTo>
                  <a:lnTo>
                    <a:pt x="158" y="97"/>
                  </a:lnTo>
                  <a:lnTo>
                    <a:pt x="148" y="112"/>
                  </a:lnTo>
                  <a:lnTo>
                    <a:pt x="129" y="127"/>
                  </a:lnTo>
                  <a:lnTo>
                    <a:pt x="109" y="142"/>
                  </a:lnTo>
                  <a:lnTo>
                    <a:pt x="99" y="156"/>
                  </a:lnTo>
                  <a:lnTo>
                    <a:pt x="69" y="176"/>
                  </a:lnTo>
                  <a:lnTo>
                    <a:pt x="59" y="192"/>
                  </a:lnTo>
                  <a:lnTo>
                    <a:pt x="99" y="192"/>
                  </a:lnTo>
                  <a:lnTo>
                    <a:pt x="129" y="192"/>
                  </a:lnTo>
                  <a:lnTo>
                    <a:pt x="158" y="192"/>
                  </a:lnTo>
                  <a:lnTo>
                    <a:pt x="188" y="192"/>
                  </a:lnTo>
                  <a:lnTo>
                    <a:pt x="218" y="192"/>
                  </a:lnTo>
                  <a:lnTo>
                    <a:pt x="247" y="192"/>
                  </a:lnTo>
                  <a:lnTo>
                    <a:pt x="276" y="192"/>
                  </a:lnTo>
                  <a:lnTo>
                    <a:pt x="316" y="192"/>
                  </a:lnTo>
                  <a:lnTo>
                    <a:pt x="329" y="19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39625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4267080"/>
              <a:ext cx="24382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w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x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= 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44197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bject 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981080" y="5334120"/>
            <a:ext cx="487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hiker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capacity uti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increasing order of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2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3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7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8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ethods Not Cov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d Ann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 (value) of selec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st sel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ttempt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greedy on profit densit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/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hen selecting a fraction of an item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tems in decreasing order of profit density, if next item doesn’t fit take a fraction so as to fill knaps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, c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= [1, 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 [10, 2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/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te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wi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weight of this subs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scard the sub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ubset w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ill as much of the remaining capacity as possible by being greedy on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 and select the one that yields maximum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2465280"/>
            <a:ext cx="9143640" cy="4393080"/>
            <a:chOff x="0" y="2465280"/>
            <a:chExt cx="9143640" cy="4393080"/>
          </a:xfrm>
        </p:grpSpPr>
        <p:graphicFrame>
          <p:nvGraphicFramePr>
            <p:cNvPr id="293" name=""/>
            <p:cNvGraphicFramePr/>
            <p:nvPr/>
          </p:nvGraphicFramePr>
          <p:xfrm>
            <a:off x="72360" y="2465280"/>
            <a:ext cx="8762760" cy="4037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" y="2465280"/>
                      <a:ext cx="876276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0" y="6278400"/>
              <a:ext cx="914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umber of solutions (out of 600) within x% of bes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0/1 Knapsack Greedy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ort into decreasing order of profit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ets with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a subse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best value - greedy value)/(best value) &lt;= 1/(k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in which some function (called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iz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bjective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 be optimized (usually minimized or maximized) subject to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i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job is scheduled continuously on a single machine for an amount of time equal to its processing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machine processes more than one job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items into bins using the fewest number of b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umber of 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ach item is packed into a single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capacity of no bin is 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panning tree that has minimum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m of edg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lec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of the give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ed edges must form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easible And Optimal Solu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asibl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olution that satisfies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ptimal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easible solution that optimizes the objective/optimiz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 by making a sequence of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s are made one by one in som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cision is made using a greed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, once made, is (usually) not chang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jobs  one by one and in decreasing order of 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decisions are made serially using a greedy criterion (minimize finish time of this jo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PT scheduling is an application of the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52:22Z</dcterms:modified>
  <cp:revision>93</cp:revision>
  <dc:subject/>
  <dc:title>Data Representation Methods</dc:title>
</cp:coreProperties>
</file>