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6A4C06-68A2-4803-9DB0-DEF3CE0004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nnection. Vertices are computers. Send email from 1 t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efine balance factor as height or right subtree – height of left sub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alance factors on insert path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588-7418-4D28-8021-77E24907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0D4-5D6C-461A-99EC-ADBF4142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FD6-DD29-4437-8998-9075E548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446-517E-4CA1-9964-599428F5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982-4A57-43AE-B597-B567AF0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57D-4558-40F4-BC94-F978224B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2C2-AA4F-4E2E-9E71-92A3695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6EC-FC5A-4001-B82E-5DA0574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F5F-F65F-48AA-9FAD-6BF03602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7E2-DAFC-43FE-99BE-0AC12AB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ED9-A4DA-4EF2-9E70-0B9596A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5B2-CF19-48B3-900D-A0036D7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5C0-A330-48A1-9B46-8787B932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lements in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L (Adelson-Velsky and Landis)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, pu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772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44960" y="5568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021360"/>
            <a:ext cx="4953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 rot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19360" y="51814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3320" y="5288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Rot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Nod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is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and all external nodes are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-to-external-node path has two consecutive red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oot-to-external-node paths have the same number of black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33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ored Edges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pointers are colo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 to an external node is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oot to external node path has two consecuti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root to external node path has the same number of black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5080" y="1987560"/>
            <a:ext cx="8750160" cy="4637160"/>
            <a:chOff x="235080" y="1987560"/>
            <a:chExt cx="8750160" cy="4637160"/>
          </a:xfrm>
        </p:grpSpPr>
        <p:sp>
          <p:nvSpPr>
            <p:cNvPr id="405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676520" y="335268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0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31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3036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92480" y="58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336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4080" y="49593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7240" y="5797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83040" y="63324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2360" y="63324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6040" y="564660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58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21680" y="480852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3116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93280" y="5646600"/>
              <a:ext cx="29196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426708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43200" y="42670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80520" y="53341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90720" y="53341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5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533412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266720" y="525780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029200" y="59436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91320" y="6019920"/>
              <a:ext cx="5331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171840" y="510552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467120" y="4191120"/>
              <a:ext cx="3812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077320" y="49528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10480" y="502920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red black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ternal) nodes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TreeMap =&gt; red black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 = (V,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ertex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re also called nodes and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dg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nects two different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are also called arc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edge has an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79080" y="6033960"/>
            <a:ext cx="1769040" cy="519120"/>
            <a:chOff x="1279080" y="6033960"/>
            <a:chExt cx="1769040" cy="519120"/>
          </a:xfrm>
        </p:grpSpPr>
        <p:sp>
          <p:nvSpPr>
            <p:cNvPr id="476" name=""/>
            <p:cNvSpPr/>
            <p:nvPr/>
          </p:nvSpPr>
          <p:spPr>
            <a:xfrm>
              <a:off x="1600200" y="6324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79080" y="6033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3372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edge has no orien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507680" y="2604960"/>
            <a:ext cx="1769040" cy="519120"/>
            <a:chOff x="1507680" y="2604960"/>
            <a:chExt cx="1769040" cy="519120"/>
          </a:xfrm>
        </p:grpSpPr>
        <p:sp>
          <p:nvSpPr>
            <p:cNvPr id="482" name=""/>
            <p:cNvSpPr/>
            <p:nvPr/>
          </p:nvSpPr>
          <p:spPr>
            <a:xfrm>
              <a:off x="1828800" y="2895480"/>
              <a:ext cx="99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07680" y="26049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2320" y="2604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62120" y="3733920"/>
            <a:ext cx="777240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orient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grap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 edge ha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ent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488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Binary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AVL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red-black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operations al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rected Graph (Digraph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2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lications—Communication Network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= communication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57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riving Distance/Time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= city, edge  weight = driving distance/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592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57400" y="20574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29000" y="23623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95680" y="274320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8320" y="403848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14800" y="47242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71800" y="39625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05120" y="3048120"/>
              <a:ext cx="3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7080" y="37339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060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0080" y="304812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24480" y="31240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67480" y="3352680"/>
              <a:ext cx="30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eet M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2120" y="563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reets are on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639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67080" y="3733920"/>
              <a:ext cx="10670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86400" y="4114440"/>
              <a:ext cx="144792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Undirected Grap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possible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4197240"/>
            <a:ext cx="1219320" cy="1107000"/>
            <a:chOff x="685800" y="4197240"/>
            <a:chExt cx="1219320" cy="1107000"/>
          </a:xfrm>
        </p:grpSpPr>
        <p:sp>
          <p:nvSpPr>
            <p:cNvPr id="676" name=""/>
            <p:cNvSpPr/>
            <p:nvPr/>
          </p:nvSpPr>
          <p:spPr>
            <a:xfrm>
              <a:off x="9968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133720" y="3130560"/>
            <a:ext cx="1218960" cy="2173680"/>
            <a:chOff x="2133720" y="3130560"/>
            <a:chExt cx="1218960" cy="2173680"/>
          </a:xfrm>
        </p:grpSpPr>
        <p:sp>
          <p:nvSpPr>
            <p:cNvPr id="679" name=""/>
            <p:cNvSpPr/>
            <p:nvPr/>
          </p:nvSpPr>
          <p:spPr>
            <a:xfrm>
              <a:off x="2368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84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920" y="3581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33720" y="4724280"/>
              <a:ext cx="1218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044960" y="3206880"/>
            <a:ext cx="1511280" cy="2097360"/>
            <a:chOff x="4044960" y="3206880"/>
            <a:chExt cx="1511280" cy="2097360"/>
          </a:xfrm>
        </p:grpSpPr>
        <p:sp>
          <p:nvSpPr>
            <p:cNvPr id="684" name=""/>
            <p:cNvSpPr/>
            <p:nvPr/>
          </p:nvSpPr>
          <p:spPr>
            <a:xfrm>
              <a:off x="45021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449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116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358128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266720" y="35812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95680" y="4495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14800" y="472428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561000" y="3130560"/>
            <a:ext cx="1892520" cy="2021400"/>
            <a:chOff x="6561000" y="3130560"/>
            <a:chExt cx="1892520" cy="2021400"/>
          </a:xfrm>
        </p:grpSpPr>
        <p:sp>
          <p:nvSpPr>
            <p:cNvPr id="692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5664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08920" y="4121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6100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86600" y="3352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5328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581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10280" y="4419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86600" y="3505320"/>
              <a:ext cx="9907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933960" y="3505320"/>
              <a:ext cx="9903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86600" y="4572000"/>
              <a:ext cx="1219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Un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n un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umber Of Edges—Directed Graph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is of the 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!=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uch pairs i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as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v,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edges in a complete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 a directed grap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n(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ertex Deg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dges incident to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2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5)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gree(3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1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570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Vertex 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ed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48120" y="2286000"/>
            <a:ext cx="2584440" cy="1838160"/>
            <a:chOff x="3048120" y="2286000"/>
            <a:chExt cx="2584440" cy="1838160"/>
          </a:xfrm>
        </p:grpSpPr>
        <p:sp>
          <p:nvSpPr>
            <p:cNvPr id="745" name=""/>
            <p:cNvSpPr/>
            <p:nvPr/>
          </p:nvSpPr>
          <p:spPr>
            <a:xfrm>
              <a:off x="3581640" y="2286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048120" y="2355480"/>
              <a:ext cx="2584440" cy="1768680"/>
              <a:chOff x="3048120" y="2355480"/>
              <a:chExt cx="2584440" cy="1768680"/>
            </a:xfrm>
          </p:grpSpPr>
          <p:sp>
            <p:nvSpPr>
              <p:cNvPr id="747" name=""/>
              <p:cNvSpPr/>
              <p:nvPr/>
            </p:nvSpPr>
            <p:spPr>
              <a:xfrm>
                <a:off x="5181840" y="25902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48120" y="35046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360" y="365688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3270600" y="2736360"/>
                <a:ext cx="457200" cy="76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56400" y="2660040"/>
                <a:ext cx="914400" cy="9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870800" y="3040560"/>
                <a:ext cx="53316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651480" y="235548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75360" y="266004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17960" y="3574440"/>
                <a:ext cx="228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565880" y="3726720"/>
                <a:ext cx="762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degree is number of incoming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gree(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60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d Search Trees  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balanced binary 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3 &amp; 2-3-4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Degree Of A Verte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-degree is number of outboun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2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utdegree(8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82640" y="1758960"/>
            <a:ext cx="6242040" cy="3667680"/>
            <a:chOff x="1682640" y="1758960"/>
            <a:chExt cx="6242040" cy="3667680"/>
          </a:xfrm>
        </p:grpSpPr>
        <p:sp>
          <p:nvSpPr>
            <p:cNvPr id="795" name=""/>
            <p:cNvSpPr/>
            <p:nvPr/>
          </p:nvSpPr>
          <p:spPr>
            <a:xfrm>
              <a:off x="16826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33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735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737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73960" y="2673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24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16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02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64480" y="3740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542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356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057040" y="2133720"/>
              <a:ext cx="685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718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574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053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191120" y="24382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148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5627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48520" y="2743200"/>
              <a:ext cx="9144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162920" y="3124080"/>
              <a:ext cx="5331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36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67480" y="2743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524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23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862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100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8000" y="38098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40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55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 Of In- And Out-Deg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ge contribut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n-degree of some vertex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out-degree of some other ve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in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out-deg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edges in the di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its balance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alance factor of x = height of left subtree of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- height of right subtree of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factor of every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 Facto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6095520"/>
            <a:ext cx="6400800" cy="7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AVL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n AVL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.44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2920" y="1706400"/>
            <a:ext cx="8237880" cy="4329720"/>
            <a:chOff x="592920" y="1706400"/>
            <a:chExt cx="8237880" cy="4329720"/>
          </a:xfrm>
        </p:grpSpPr>
        <p:sp>
          <p:nvSpPr>
            <p:cNvPr id="102" name=""/>
            <p:cNvSpPr/>
            <p:nvPr/>
          </p:nvSpPr>
          <p:spPr>
            <a:xfrm>
              <a:off x="4425840" y="1987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24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35880" y="2978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017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424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656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2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4883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742840" y="228600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228600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599840" y="33526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3526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791320" y="34290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9072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419112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83040" y="4807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181120" y="42670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92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6800" y="460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012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2080" y="3611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680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288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4400" y="536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07000" y="45259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2360" y="4654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19112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0200" y="4525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0880" y="3535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02560" y="3740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335268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6080" y="4578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77320" y="41148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1760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0040" y="34592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9680" y="2697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3320" y="17064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205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495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388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304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487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6400" y="563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5880" y="472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373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464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4080" y="48070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1911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2640" y="4602240"/>
            <a:ext cx="31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7360" y="356544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60320" y="2651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6498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7280" y="61786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6248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5867280"/>
            <a:ext cx="533520" cy="38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651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54920" y="53640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6120" y="4602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11880"/>
            <a:ext cx="4953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 imbalance =&gt; new node is in right subtree of right subtree of blue node (node with b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3:11Z</dcterms:modified>
  <cp:revision>68</cp:revision>
  <dc:subject/>
  <dc:title>Data Representation Methods</dc:title>
</cp:coreProperties>
</file>