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E55518-3758-4A49-8274-51FBC17F4E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elements are placed in a binary tree so that an inorder traversal of the binary tree visits the elements in list order from left to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() and remove() work as they do in an indexed binary search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7BD-5C36-4116-8A8C-E732A838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234-8787-4276-A5B6-4943F8D0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F12-0C1D-4185-911B-86D00BBF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702-1DB0-4EE6-AE0C-699A4A91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4EA-0F58-4EE1-A207-92E6FEA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A65-6297-42DA-8A55-63F51D1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C8D-0E4C-494E-835B-50DE993A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7C6-A0BF-4E37-B18C-A4D8B276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FDA-50A7-46FF-A31B-68CC9AFD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F9E-59E9-42DB-8F28-65385E7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314-76B3-49D1-8FAC-630AE75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37E-B0E7-4ACC-A4BC-B5CC71B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9C6F-996A-4F18-BA7A-259E3912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key,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scen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inde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dexed binary search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485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remove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905120"/>
            <a:ext cx="8534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lea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1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2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71600" y="4724280"/>
            <a:ext cx="30492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Leaf (contd.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4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>
            <a:off x="5486400" y="3733920"/>
            <a:ext cx="53352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1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8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572000" y="1828800"/>
            <a:ext cx="838080" cy="1447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486040" y="1752480"/>
            <a:ext cx="30492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move From A Degree 1 Node (contd.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43720" y="2819520"/>
            <a:ext cx="25920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204167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204167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514240" y="2971800"/>
            <a:ext cx="304920" cy="152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Dictionary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get(), put() and remove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52480" y="1973160"/>
            <a:ext cx="7377120" cy="4702680"/>
            <a:chOff x="852480" y="1973160"/>
            <a:chExt cx="7377120" cy="4702680"/>
          </a:xfrm>
        </p:grpSpPr>
        <p:graphicFrame>
          <p:nvGraphicFramePr>
            <p:cNvPr id="54" name=""/>
            <p:cNvGraphicFramePr/>
            <p:nvPr/>
          </p:nvGraphicFramePr>
          <p:xfrm>
            <a:off x="852480" y="1973160"/>
            <a:ext cx="7313760" cy="4043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1973160"/>
                      <a:ext cx="7313760" cy="40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66688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elements in dictio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579276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key must be in a leaf or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71600" y="3733920"/>
            <a:ext cx="0" cy="1447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447920" y="3962520"/>
            <a:ext cx="380880" cy="228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other Remove From A Degree 2 Nod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64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7760" y="3657600"/>
            <a:ext cx="6094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n additional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Siz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nodes in its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1676520"/>
            <a:ext cx="85345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inorder (inorder = ascending key or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(x) = rank(x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elements in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Other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scend(), get(index), remove(index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52480" y="2057400"/>
            <a:ext cx="7377120" cy="4618440"/>
            <a:chOff x="852480" y="2057400"/>
            <a:chExt cx="7377120" cy="4618440"/>
          </a:xfrm>
        </p:grpSpPr>
        <p:graphicFrame>
          <p:nvGraphicFramePr>
            <p:cNvPr id="62" name=""/>
            <p:cNvGraphicFramePr/>
            <p:nvPr/>
          </p:nvGraphicFramePr>
          <p:xfrm>
            <a:off x="852480" y="2179800"/>
            <a:ext cx="7304040" cy="3620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2179800"/>
                      <a:ext cx="7304040" cy="362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3048120"/>
              <a:ext cx="670572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868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bucke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3520" y="5867280"/>
            <a:ext cx="8305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04920" y="1143000"/>
            <a:ext cx="8534160" cy="5304240"/>
            <a:chOff x="304920" y="1143000"/>
            <a:chExt cx="8534160" cy="5304240"/>
          </a:xfrm>
        </p:grpSpPr>
        <p:grpSp>
          <p:nvGrpSpPr>
            <p:cNvPr id="933" name=""/>
            <p:cNvGrpSpPr/>
            <p:nvPr/>
          </p:nvGrpSpPr>
          <p:grpSpPr>
            <a:xfrm>
              <a:off x="304920" y="1143000"/>
              <a:ext cx="6553080" cy="4489560"/>
              <a:chOff x="304920" y="1143000"/>
              <a:chExt cx="6553080" cy="4489560"/>
            </a:xfrm>
          </p:grpSpPr>
          <p:sp>
            <p:nvSpPr>
              <p:cNvPr id="934" name=""/>
              <p:cNvSpPr/>
              <p:nvPr/>
            </p:nvSpPr>
            <p:spPr>
              <a:xfrm>
                <a:off x="3962520" y="114300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04920" y="1454040"/>
                <a:ext cx="6553080" cy="4178520"/>
                <a:chOff x="304920" y="1454040"/>
                <a:chExt cx="6553080" cy="41785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4197240" y="14540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0638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4072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0731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82564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1879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63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606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2514240" y="1752480"/>
                  <a:ext cx="167652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648320" y="1752480"/>
                  <a:ext cx="182880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371240" y="2819520"/>
                  <a:ext cx="7621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438280" y="2819520"/>
                  <a:ext cx="5335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5562720" y="2895480"/>
                  <a:ext cx="91440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762120" y="3657600"/>
                  <a:ext cx="38088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447920" y="3657600"/>
                  <a:ext cx="30456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654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4952520" y="3733920"/>
                  <a:ext cx="38124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173840" y="14778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0401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126080" y="33066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16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659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80224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3835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6420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707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797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850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62720" y="3657600"/>
                  <a:ext cx="38088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73160" y="51879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26080" y="52117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371240" y="4724280"/>
                  <a:ext cx="30492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11440" y="41972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488040" y="42210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124080" y="3733920"/>
                  <a:ext cx="60984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4400" y="4876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04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828800" y="39625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91440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90512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733920" y="3733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4812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495680" y="38098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019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876920" y="304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62940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"/>
            <p:cNvSpPr/>
            <p:nvPr/>
          </p:nvSpPr>
          <p:spPr>
            <a:xfrm>
              <a:off x="533520" y="5867280"/>
              <a:ext cx="8305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rted 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2,6,7,8,10,15,18,20,25,30,35,4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t(index) And remov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=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l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g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ndex - x.leftSiz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(Complexities Are For Balanced Trees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-fit bin packing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a linear list so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(index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(list size)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uses an indexed binary tree, not indexed binary search tre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hash tables for either of these applic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inear List As Indexed Binary Tre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04920" y="1143000"/>
            <a:ext cx="8305560" cy="5380560"/>
            <a:chOff x="304920" y="1143000"/>
            <a:chExt cx="8305560" cy="5380560"/>
          </a:xfrm>
        </p:grpSpPr>
        <p:sp>
          <p:nvSpPr>
            <p:cNvPr id="98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175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7320" y="43736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8560" y="330660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36880" y="24685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75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84040" y="42973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50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26800" y="52117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6472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14400" y="4876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4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82880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1440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0512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33920" y="3733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81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962520" y="1143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95680" y="38098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19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6920" y="30481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2940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9480" y="5943600"/>
              <a:ext cx="8001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a,b,c,d,e,f,g,h,i,j,k,l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880" y="5715000"/>
            <a:ext cx="662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former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21080" y="26733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74000" y="26971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0880" y="571500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eftmost node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44760" y="404496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666520" y="3429000"/>
            <a:ext cx="228600" cy="6094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97680" y="40687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finition Of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valu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mall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great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dd(5,’m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ossibilities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pdate som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eft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on path from root to new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nly keys are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asce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0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 inorder traversal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ge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54878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height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nodes/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58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1480" y="4356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4040" y="4343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7339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pu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9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1:21Z</dcterms:modified>
  <cp:revision>63</cp:revision>
  <dc:subject/>
  <dc:title>Data Representation Methods</dc:title>
</cp:coreProperties>
</file>