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A04830-9AD8-4461-B250-9905C49B6A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nis lad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ext for case when number of players is not a powe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8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center in Jacksonville sends packages to distribution center in Miami. Use the fewest number of tru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911-2CB0-4624-BCB0-560C6896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B2D-5864-4D18-8019-AB2B2AE3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310-A55C-4865-8D91-B9E1CC14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B31-97F8-4C57-B646-65FE42C1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41E-7A8D-4E4A-A912-A63F30AB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A5D-2B9C-44A1-A147-2A18120B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CDD-AA81-4D01-93F9-C4C8F6C4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A61-DF95-46F6-BD5A-284B65CE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522-316D-4A14-8171-8EBB8929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8A3-408E-4022-975D-6A351CA9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85C-EC2A-4B6C-885E-5C3A2DA2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EA6-DF14-431F-A4B8-0CF13913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063C-134B-4745-A25A-D1D829D5E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ournamen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ner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er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LIGH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LEFTSPOT" descr=""/>
          <p:cNvPicPr/>
          <p:nvPr/>
        </p:nvPicPr>
        <p:blipFill>
          <a:blip r:embed="rId2"/>
          <a:stretch/>
        </p:blipFill>
        <p:spPr>
          <a:xfrm>
            <a:off x="6705720" y="129528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05320" y="38862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42900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rnal node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nodes represent tournament play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ternal node represents a match played between its two children; the winner of the match is stored at the internal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overall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50532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507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To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inner and re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inner and repl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sort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1" name="CLOCK43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/replace winner and re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precise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ta(lo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88000" y="1301760"/>
            <a:ext cx="8317800" cy="4307400"/>
            <a:chOff x="288000" y="1301760"/>
            <a:chExt cx="8317800" cy="4307400"/>
          </a:xfrm>
        </p:grpSpPr>
        <p:sp>
          <p:nvSpPr>
            <p:cNvPr id="2326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581280" y="3733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88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215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3546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8882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4217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9548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4884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0219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55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886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6221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1552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6888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2223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7554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89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66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5832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6503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7170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7836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8507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9174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9840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0508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18456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1828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4516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19312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3838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326480" y="1325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609480" y="6019920"/>
            <a:ext cx="7239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nner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914400" y="601992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y matches on path to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2840" y="1301760"/>
            <a:ext cx="8292960" cy="5389560"/>
            <a:chOff x="312840" y="1301760"/>
            <a:chExt cx="8292960" cy="5389560"/>
          </a:xfrm>
        </p:grpSpPr>
        <p:sp>
          <p:nvSpPr>
            <p:cNvPr id="56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28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1280" y="380988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8120" y="62546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6172200"/>
              <a:ext cx="205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5880" y="6172200"/>
              <a:ext cx="236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atch 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914400" y="601992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y matches on path to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914400" y="601992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nent is player who lost last match played at this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ser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tch node stores the match loser rather than the match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327560" y="1325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384960" y="2468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6019920"/>
            <a:ext cx="845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 element win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min winner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4273560" y="4636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4326480" y="487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4495680" y="914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5943600" y="304920"/>
            <a:ext cx="28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4876560" y="60948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Loser Tree Initializ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atch at each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ore of a left child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heta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2" name="CLOCK43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"/>
          <p:cNvSpPr/>
          <p:nvPr/>
        </p:nvSpPr>
        <p:spPr>
          <a:xfrm>
            <a:off x="5943600" y="304920"/>
            <a:ext cx="28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4" name=""/>
          <p:cNvGrpSpPr/>
          <p:nvPr/>
        </p:nvGrpSpPr>
        <p:grpSpPr>
          <a:xfrm>
            <a:off x="288000" y="463680"/>
            <a:ext cx="8317800" cy="5145480"/>
            <a:chOff x="288000" y="463680"/>
            <a:chExt cx="8317800" cy="5145480"/>
          </a:xfrm>
        </p:grpSpPr>
        <p:sp>
          <p:nvSpPr>
            <p:cNvPr id="3435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581280" y="3733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88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215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13546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18882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4217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9548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4884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0219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555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0886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6221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1552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6888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2223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554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289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166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0508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5832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19312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6503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18456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7170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3838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9174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4516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9840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326480" y="1325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7836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31828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8507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273560" y="4636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326480" y="487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95680" y="9144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H="1">
              <a:off x="4876560" y="6094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990720" y="5943600"/>
            <a:ext cx="7238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nner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replay ma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2" name=""/>
          <p:cNvGrpSpPr/>
          <p:nvPr/>
        </p:nvGrpSpPr>
        <p:grpSpPr>
          <a:xfrm>
            <a:off x="2590920" y="4432320"/>
            <a:ext cx="458640" cy="444600"/>
            <a:chOff x="2590920" y="4432320"/>
            <a:chExt cx="458640" cy="444600"/>
          </a:xfrm>
        </p:grpSpPr>
        <p:sp>
          <p:nvSpPr>
            <p:cNvPr id="3533" name=""/>
            <p:cNvSpPr/>
            <p:nvPr/>
          </p:nvSpPr>
          <p:spPr>
            <a:xfrm>
              <a:off x="2590920" y="443232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643840" y="4456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3124080" y="3429000"/>
            <a:ext cx="458640" cy="444600"/>
            <a:chOff x="3124080" y="3429000"/>
            <a:chExt cx="458640" cy="444600"/>
          </a:xfrm>
        </p:grpSpPr>
        <p:sp>
          <p:nvSpPr>
            <p:cNvPr id="3536" name=""/>
            <p:cNvSpPr/>
            <p:nvPr/>
          </p:nvSpPr>
          <p:spPr>
            <a:xfrm>
              <a:off x="3124080" y="34290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177000" y="3452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2361240" y="5181480"/>
            <a:ext cx="405360" cy="397440"/>
            <a:chOff x="2361240" y="5181480"/>
            <a:chExt cx="405360" cy="397440"/>
          </a:xfrm>
        </p:grpSpPr>
        <p:sp>
          <p:nvSpPr>
            <p:cNvPr id="3539" name=""/>
            <p:cNvSpPr/>
            <p:nvPr/>
          </p:nvSpPr>
          <p:spPr>
            <a:xfrm>
              <a:off x="2392560" y="5241600"/>
              <a:ext cx="374040" cy="3366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361240" y="5181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2133720" y="2286000"/>
            <a:ext cx="458640" cy="444600"/>
            <a:chOff x="2133720" y="2286000"/>
            <a:chExt cx="458640" cy="444600"/>
          </a:xfrm>
        </p:grpSpPr>
        <p:sp>
          <p:nvSpPr>
            <p:cNvPr id="3542" name=""/>
            <p:cNvSpPr/>
            <p:nvPr/>
          </p:nvSpPr>
          <p:spPr>
            <a:xfrm>
              <a:off x="2133720" y="22860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186640" y="2309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4267080" y="1308240"/>
            <a:ext cx="458640" cy="444240"/>
            <a:chOff x="4267080" y="1308240"/>
            <a:chExt cx="458640" cy="444240"/>
          </a:xfrm>
        </p:grpSpPr>
        <p:sp>
          <p:nvSpPr>
            <p:cNvPr id="3545" name=""/>
            <p:cNvSpPr/>
            <p:nvPr/>
          </p:nvSpPr>
          <p:spPr>
            <a:xfrm>
              <a:off x="4267080" y="1308240"/>
              <a:ext cx="458640" cy="444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320000" y="1331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4267080" y="469800"/>
            <a:ext cx="458640" cy="444600"/>
            <a:chOff x="4267080" y="469800"/>
            <a:chExt cx="458640" cy="444600"/>
          </a:xfrm>
        </p:grpSpPr>
        <p:sp>
          <p:nvSpPr>
            <p:cNvPr id="3548" name=""/>
            <p:cNvSpPr/>
            <p:nvPr/>
          </p:nvSpPr>
          <p:spPr>
            <a:xfrm>
              <a:off x="4267080" y="4698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320000" y="493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atch at each level that has a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heta(log 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2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re Tournament Tree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merging of runs during an external merge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to be loaded into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ckage has a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uck has a capacity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number of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7" name=""/>
          <p:cNvGrpSpPr/>
          <p:nvPr/>
        </p:nvGrpSpPr>
        <p:grpSpPr>
          <a:xfrm>
            <a:off x="533520" y="1828800"/>
            <a:ext cx="7864200" cy="822240"/>
            <a:chOff x="533520" y="1828800"/>
            <a:chExt cx="7864200" cy="822240"/>
          </a:xfrm>
        </p:grpSpPr>
        <p:pic>
          <p:nvPicPr>
            <p:cNvPr id="3558" name="truck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146340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9" name="truck" descr=""/>
            <p:cNvPicPr/>
            <p:nvPr/>
          </p:nvPicPr>
          <p:blipFill>
            <a:blip r:embed="rId2"/>
            <a:stretch/>
          </p:blipFill>
          <p:spPr>
            <a:xfrm>
              <a:off x="2666880" y="182880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0" name="truck" descr=""/>
            <p:cNvPicPr/>
            <p:nvPr/>
          </p:nvPicPr>
          <p:blipFill>
            <a:blip r:embed="rId3"/>
            <a:stretch/>
          </p:blipFill>
          <p:spPr>
            <a:xfrm>
              <a:off x="4800600" y="182880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1" name="truck" descr=""/>
            <p:cNvPicPr/>
            <p:nvPr/>
          </p:nvPicPr>
          <p:blipFill>
            <a:blip r:embed="rId4"/>
            <a:stretch/>
          </p:blipFill>
          <p:spPr>
            <a:xfrm>
              <a:off x="6934320" y="1828800"/>
              <a:ext cx="1463400" cy="82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2" name=""/>
          <p:cNvGrpSpPr/>
          <p:nvPr/>
        </p:nvGrpSpPr>
        <p:grpSpPr>
          <a:xfrm>
            <a:off x="1523880" y="3124080"/>
            <a:ext cx="5638320" cy="299520"/>
            <a:chOff x="1523880" y="3124080"/>
            <a:chExt cx="5638320" cy="299520"/>
          </a:xfrm>
        </p:grpSpPr>
        <p:grpSp>
          <p:nvGrpSpPr>
            <p:cNvPr id="3563" name=""/>
            <p:cNvGrpSpPr/>
            <p:nvPr/>
          </p:nvGrpSpPr>
          <p:grpSpPr>
            <a:xfrm>
              <a:off x="1523880" y="3124080"/>
              <a:ext cx="2742840" cy="299520"/>
              <a:chOff x="1523880" y="3124080"/>
              <a:chExt cx="2742840" cy="299520"/>
            </a:xfrm>
          </p:grpSpPr>
          <p:sp>
            <p:nvSpPr>
              <p:cNvPr id="3564" name=""/>
              <p:cNvSpPr/>
              <p:nvPr/>
            </p:nvSpPr>
            <p:spPr>
              <a:xfrm>
                <a:off x="15631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17982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20332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2683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25034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7385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29739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2090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4441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36792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39142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1493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5238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7589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9940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22291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24642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26992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9347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31698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34048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6399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38750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1101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8" name=""/>
            <p:cNvGrpSpPr/>
            <p:nvPr/>
          </p:nvGrpSpPr>
          <p:grpSpPr>
            <a:xfrm>
              <a:off x="4419360" y="3124080"/>
              <a:ext cx="2742840" cy="299520"/>
              <a:chOff x="4419360" y="3124080"/>
              <a:chExt cx="2742840" cy="299520"/>
            </a:xfrm>
          </p:grpSpPr>
          <p:sp>
            <p:nvSpPr>
              <p:cNvPr id="3589" name=""/>
              <p:cNvSpPr/>
              <p:nvPr/>
            </p:nvSpPr>
            <p:spPr>
              <a:xfrm>
                <a:off x="44586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6936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9287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638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989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6340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8694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045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396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5746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8097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0448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4193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6544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8895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246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3596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5947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8302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0652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3003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65354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67705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0056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ad packages from left to right. If a package doesn’t fit into current truck, start loading a new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685800" y="4038480"/>
            <a:ext cx="80773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2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6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ses 3 trucks when 2 trucks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685800" y="4038480"/>
            <a:ext cx="80773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2, 5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6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to be packed into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has a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n has a capacity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number of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6019920"/>
            <a:ext cx="8458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cludes player le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ck loading is same as bin p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ck is a bin that is to be packed (load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ackage is an item/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 packing to minimize number of bins is NP-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ast heuristic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are arranged in left to right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packed one at a time in given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tem is packed into leftmost bin into which it 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bin into which current item fits, start a new b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2514600" y="510552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ck red item into first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996840" y="5340240"/>
            <a:ext cx="673200" cy="7495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2743200" y="4724280"/>
            <a:ext cx="6172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ack blue item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oesn’t fit, so start a new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3657600" y="5181480"/>
            <a:ext cx="5181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ck yellow item into first bin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996840" y="4883040"/>
            <a:ext cx="673200" cy="520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4038480" y="5105520"/>
            <a:ext cx="4953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ck green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eed a new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996840" y="4883040"/>
            <a:ext cx="673200" cy="520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404496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4044960" y="5111640"/>
            <a:ext cx="673200" cy="978120"/>
          </a:xfrm>
          <a:prstGeom prst="rect">
            <a:avLst/>
          </a:prstGeom>
          <a:solidFill>
            <a:srgbClr val="33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4952880" y="4572000"/>
            <a:ext cx="3962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bins su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t Decrea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sorted into de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first fit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packed one at a time in given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bin for an item, first determine s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into which the item 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 is 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start a new bin and put item into this new b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pack into bin 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has least available capa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Initializ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play match at each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initial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Fit Decrea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sorted into de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best fit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irst fit and best f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euristic Bins &lt;= (17/10)(Minimum Bins) +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irst fit decreasing and best fit decrea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euristic Bins &lt;= (11/9)(Minimum Bins)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4" name="3skel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851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max tournament tree in which the players 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 and the value of a player is the available capacity in the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7" name="CLOCK43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elements to be sorted into a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extract the winner and replace by a larg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38862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30:30Z</dcterms:modified>
  <cp:revision>60</cp:revision>
  <dc:subject/>
  <dc:title>Data Representation Methods</dc:title>
</cp:coreProperties>
</file>