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4.xml.rels" ContentType="application/vnd.openxmlformats-package.relationships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0800" y="703440"/>
            <a:ext cx="4622760" cy="346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18E2CED-C716-4396-8BBC-E9FDAE9FE93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275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schedule is constructed by scheduling the jobs in the order they appear in the given job list (left to right); each job is scheduled on the machine on which it will complete earli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height must be an integer, the precise expression for height is ceiling(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log</a:t>
            </a:r>
            <a:r>
              <a:rPr b="0" lang="en-US" sz="1200" spc="-1" strike="noStrike" baseline="-25000">
                <a:solidFill>
                  <a:srgbClr val="ccccff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 (n+1)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6C07-9E51-4D49-867C-781192D0B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9E7A-C7B6-43A4-A6D1-A3E9ACAAD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468F-F8AE-4485-B1A6-90ADFB8CD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93BF-CF90-48BB-B89D-C0D1FCBC5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71A0-84D0-4704-83A3-2E006B50F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E793-5478-4B52-8DEE-3B40E2C81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6368-4F49-4031-BD8B-45CAAE6C9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E980-F8AC-4028-B7B3-0A93CE681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082A-1919-4B3A-B538-255AFE681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F65D-0D0D-4971-84E3-4B9A5321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4CEB-E5FF-4DD3-A155-CC32A3D6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9D4A-6A90-4174-804F-69D4561A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C5CD7-A33B-4161-837F-C1BE3584A7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riority Queu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880" y="2361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kinds of priority queu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 priority que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 priority que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POT-R" descr=""/>
          <p:cNvPicPr/>
          <p:nvPr/>
        </p:nvPicPr>
        <p:blipFill>
          <a:blip r:embed="rId1"/>
          <a:stretch/>
        </p:blipFill>
        <p:spPr>
          <a:xfrm>
            <a:off x="7162920" y="990720"/>
            <a:ext cx="1485720" cy="1028520"/>
          </a:xfrm>
          <a:prstGeom prst="rect">
            <a:avLst/>
          </a:prstGeom>
          <a:ln w="0">
            <a:noFill/>
          </a:ln>
        </p:spPr>
      </p:pic>
      <p:pic>
        <p:nvPicPr>
          <p:cNvPr id="51" name="SPOT-L" descr=""/>
          <p:cNvPicPr/>
          <p:nvPr/>
        </p:nvPicPr>
        <p:blipFill>
          <a:blip r:embed="rId2"/>
          <a:stretch/>
        </p:blipFill>
        <p:spPr>
          <a:xfrm>
            <a:off x="762120" y="990720"/>
            <a:ext cx="148572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After Third Remove Max Oper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219320" y="4952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orted Arra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63880" y="1606680"/>
            <a:ext cx="4330440" cy="1587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2564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3548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4496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5444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6428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74560" y="2529000"/>
            <a:ext cx="363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36480" y="2376360"/>
            <a:ext cx="363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10080" y="4038480"/>
            <a:ext cx="60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00600" y="4038480"/>
            <a:ext cx="609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14800" y="4038480"/>
            <a:ext cx="609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629400" y="2133720"/>
            <a:ext cx="2286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Max Priority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After Fourth Remove Max Oper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219320" y="4952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orted Arra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063880" y="1606680"/>
            <a:ext cx="4330440" cy="1587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2564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3548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4496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5444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26428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36480" y="2376360"/>
            <a:ext cx="363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10080" y="4038480"/>
            <a:ext cx="60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00600" y="4038480"/>
            <a:ext cx="609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14800" y="4038480"/>
            <a:ext cx="609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81280" y="4038480"/>
            <a:ext cx="60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29400" y="2133720"/>
            <a:ext cx="2286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Max Priority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After Fifth Remove Max Oper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219320" y="4952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orted Arra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063880" y="1606680"/>
            <a:ext cx="4330440" cy="1587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2564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3548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4496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65444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6428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10080" y="4038480"/>
            <a:ext cx="60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4038480"/>
            <a:ext cx="609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14800" y="4038480"/>
            <a:ext cx="609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4038480"/>
            <a:ext cx="60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71800" y="4038480"/>
            <a:ext cx="609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629400" y="2133720"/>
            <a:ext cx="2286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Max Priority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lexity Of Sort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2057040"/>
            <a:ext cx="76960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t operation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&gt; O(n log n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move max operation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&gt; O(n log 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time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 log 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with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</a:t>
            </a:r>
            <a:r>
              <a:rPr b="0" lang="en-US" sz="28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sort methods of Chapter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Heap Sor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304920" y="205704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a max priority queue that is implemented as a hea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put operations are replaced by a heap initialization step that take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achine Schedul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dentical machines (drill press, cutter, sander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bs/tasks to be perform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 jobs to machines so that the time at which the last job completes is minim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achine Scheduling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057040"/>
            <a:ext cx="739152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chines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7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b times a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6, 2, 3, 5, 10, 7, 1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ible sched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76520" y="4343400"/>
            <a:ext cx="70102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6520" y="5181480"/>
            <a:ext cx="701028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6019920"/>
            <a:ext cx="7010280" cy="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74520" y="4145040"/>
            <a:ext cx="369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74880" y="4983120"/>
            <a:ext cx="354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74880" y="5821200"/>
            <a:ext cx="354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0" y="6400800"/>
            <a:ext cx="3124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e ----------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82640" y="4121280"/>
            <a:ext cx="978120" cy="2156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14600" y="3811680"/>
            <a:ext cx="380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82640" y="4959360"/>
            <a:ext cx="292320" cy="21600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4648320"/>
            <a:ext cx="380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82640" y="5797440"/>
            <a:ext cx="444600" cy="21600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541008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82640" y="4959360"/>
            <a:ext cx="292320" cy="21600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43200" y="4648320"/>
            <a:ext cx="685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87560" y="4959360"/>
            <a:ext cx="901800" cy="21600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39840" y="5797440"/>
            <a:ext cx="2121120" cy="21600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038480" y="5410080"/>
            <a:ext cx="60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673360" y="4121280"/>
            <a:ext cx="1587600" cy="2156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62520" y="3811680"/>
            <a:ext cx="609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01960" y="4959360"/>
            <a:ext cx="2959200" cy="21600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562720" y="4648320"/>
            <a:ext cx="685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achine Scheduling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0" y="51051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ish time =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bjectiv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nd schedules with minimum finish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00200" y="2362320"/>
            <a:ext cx="70102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3200400"/>
            <a:ext cx="701028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0200" y="4038480"/>
            <a:ext cx="7010280" cy="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98200" y="2163600"/>
            <a:ext cx="369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98560" y="3002040"/>
            <a:ext cx="354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98560" y="3840120"/>
            <a:ext cx="354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09680" y="4191120"/>
            <a:ext cx="31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e ----------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06680" y="2139840"/>
            <a:ext cx="977760" cy="2160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438280" y="1830240"/>
            <a:ext cx="381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6680" y="2978280"/>
            <a:ext cx="291960" cy="2156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752480" y="2666880"/>
            <a:ext cx="381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06680" y="3816360"/>
            <a:ext cx="444240" cy="21600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05120" y="342900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6680" y="2978280"/>
            <a:ext cx="291960" cy="2156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666880"/>
            <a:ext cx="685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11240" y="2978280"/>
            <a:ext cx="901800" cy="2156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63880" y="3816360"/>
            <a:ext cx="2120760" cy="21600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62520" y="3429000"/>
            <a:ext cx="609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97040" y="2139840"/>
            <a:ext cx="1587600" cy="2160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86200" y="1830240"/>
            <a:ext cx="609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25640" y="2978280"/>
            <a:ext cx="2959200" cy="2156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86400" y="2666880"/>
            <a:ext cx="685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PT Schedul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143000" y="1828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ge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cessing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e fir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bs are scheduled in the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4, 10, 7, 6, 5, 3,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job is scheduled on the machine on which it finishes earli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PT Schedu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2057040"/>
            <a:ext cx="739152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14, 10, 7, 6, 5, 3, 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38080" y="3657600"/>
            <a:ext cx="678204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3429000"/>
            <a:ext cx="381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4419720"/>
            <a:ext cx="678204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4760" y="4184640"/>
            <a:ext cx="393480" cy="3974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38080" y="5257800"/>
            <a:ext cx="6782040" cy="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74760" y="5022720"/>
            <a:ext cx="393480" cy="3974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44560" y="3359160"/>
            <a:ext cx="318780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733920" y="2971800"/>
            <a:ext cx="533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44560" y="4121280"/>
            <a:ext cx="21970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743200" y="3809880"/>
            <a:ext cx="533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44560" y="4959360"/>
            <a:ext cx="158760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9680" y="4648320"/>
            <a:ext cx="533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444760" y="4959360"/>
            <a:ext cx="158760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33920" y="4648320"/>
            <a:ext cx="533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54240" y="4121280"/>
            <a:ext cx="1511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191120" y="3809880"/>
            <a:ext cx="533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044960" y="4959360"/>
            <a:ext cx="12063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4648320"/>
            <a:ext cx="533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044960" y="3359160"/>
            <a:ext cx="128268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029200" y="2971800"/>
            <a:ext cx="533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62120" y="586728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ish time is 16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in Priority Queu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ction of 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element has a priority or ke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s following oper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Emp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/put an element into the priority que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 element with min pri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ve element with min pri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PT Schedu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83818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PT rule does not guarantee minimum finish time schedu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LPT Finish Time)/(Minimum Finish Time) &lt;= 4/3 - 1/(3m)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number of mach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ually LPT finish time is much closer to minimum finish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imum finish time scheduling is NP-h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NP-hard Problem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83818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amous class of problems for which no one has developed a polynomial time algorith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is, no algorithm whose complexity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y constan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known for any NP-hard probl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lass includes thousands of real-world probl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ly unlikely that any NP-hard problem can be solved by a polynomial time algorith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NP-hard Problem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even polynomial time algorithms with degre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 &gt; 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ay) are not practical for larg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must change our expectations of the algorithm that is u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ually develop fast heuristics for NP-hard probl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that gives a solution close to b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s in acceptable amount of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PT rule is good heuristic for minimum finish time schedul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lexity Of LPT Schedul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 jobs into decreasing order of task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 log 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 (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number of job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dule jobs in this or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 job to machine that becomes available fi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find minimum o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umber of machines) finish t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m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using simple strate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 need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mn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to schedule all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job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sing A Min Priority Queu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21333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 priority queue has the finish times of th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ch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finish times are all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schedule a job remove machine with minimum finish time from the priority que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 the finish time of the selected machine and put the machine back into the priority que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sing A Min Priority Queu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21333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 operations to initialize priority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move min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ut to schedule each 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put and remove min operation takes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log m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to schedule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 log 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all time i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 log n + n log m) = O(n log (mn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Huffman Cod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0" y="2057040"/>
            <a:ext cx="87631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in lossless compres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be used in conjunction with LZW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from tex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in Tree Defini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tree node has a val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 in any node is the minimum value in the subtree for which that node is the ro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valently, no descendent has a smaller val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in Tree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16360" y="2139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673360" y="29782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16360" y="29782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111640" y="29782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987560" y="38926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206880" y="38926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971800" y="2438280"/>
            <a:ext cx="83808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038480" y="2590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267080" y="2438280"/>
            <a:ext cx="9907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209680" y="3352680"/>
            <a:ext cx="5335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971800" y="342900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111640" y="38926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334120" y="3429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645160" y="4730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02160" y="4730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4800600" y="434340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86400" y="434340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22096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743200" y="3048120"/>
            <a:ext cx="304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86200" y="3048120"/>
            <a:ext cx="304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181480" y="3048120"/>
            <a:ext cx="304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057400" y="3886200"/>
            <a:ext cx="304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276720" y="3962520"/>
            <a:ext cx="304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181480" y="3962520"/>
            <a:ext cx="304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0" y="4800600"/>
            <a:ext cx="304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715000" y="4800600"/>
            <a:ext cx="304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1371600" y="57150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ot has minimum el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ax Tree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16360" y="2139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673360" y="29782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816360" y="29782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111640" y="29782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987560" y="38926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206880" y="38926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2971800" y="2438280"/>
            <a:ext cx="83808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038480" y="2590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267080" y="2438280"/>
            <a:ext cx="9907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2209680" y="3352680"/>
            <a:ext cx="5335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42900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111640" y="38926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334120" y="3429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645160" y="4730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502160" y="4730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800600" y="434340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486400" y="434340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22096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743200" y="3048120"/>
            <a:ext cx="304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86200" y="3048120"/>
            <a:ext cx="304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81480" y="3048120"/>
            <a:ext cx="304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057400" y="3886200"/>
            <a:ext cx="304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276720" y="3962520"/>
            <a:ext cx="304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81480" y="3962520"/>
            <a:ext cx="304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0" y="4800600"/>
            <a:ext cx="304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15000" y="4800600"/>
            <a:ext cx="304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1371600" y="57150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ot has maximum el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ax Priority Queu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ction of 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element has a priority or ke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s following oper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Emp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/put an element into the priority que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 element with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ma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i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ve element with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i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in Heap Defini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228240" y="2133720"/>
            <a:ext cx="838188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binary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in Heap With 9 Nod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binary tree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63680" y="1454040"/>
            <a:ext cx="7530840" cy="3340080"/>
            <a:chOff x="463680" y="1454040"/>
            <a:chExt cx="7530840" cy="3340080"/>
          </a:xfrm>
        </p:grpSpPr>
        <p:sp>
          <p:nvSpPr>
            <p:cNvPr id="302" name=""/>
            <p:cNvSpPr/>
            <p:nvPr/>
          </p:nvSpPr>
          <p:spPr>
            <a:xfrm>
              <a:off x="41972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0638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4072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0731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82564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1879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550280" y="3282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63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606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14240" y="1752480"/>
              <a:ext cx="16765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648320" y="1752480"/>
              <a:ext cx="182880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1371240" y="2819520"/>
              <a:ext cx="76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38280" y="281952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5562720" y="2895480"/>
              <a:ext cx="9144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781680" y="2819520"/>
              <a:ext cx="8384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762120" y="365760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447920" y="365760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in Heap With 9 Nod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binary tree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des that is also a min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463680" y="1454040"/>
            <a:ext cx="7530840" cy="3340080"/>
            <a:chOff x="463680" y="1454040"/>
            <a:chExt cx="7530840" cy="3340080"/>
          </a:xfrm>
        </p:grpSpPr>
        <p:sp>
          <p:nvSpPr>
            <p:cNvPr id="322" name=""/>
            <p:cNvSpPr/>
            <p:nvPr/>
          </p:nvSpPr>
          <p:spPr>
            <a:xfrm>
              <a:off x="41972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0638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072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0731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82564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879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550280" y="3282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63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606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2514240" y="1752480"/>
              <a:ext cx="16765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648320" y="1752480"/>
              <a:ext cx="182880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1371240" y="2819520"/>
              <a:ext cx="76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438280" y="281952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5562720" y="2895480"/>
              <a:ext cx="9144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781680" y="2819520"/>
              <a:ext cx="8384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762120" y="365760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447920" y="365760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250520" y="14778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11680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1260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87892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2408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0320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6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659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46020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ax Heap With 9 Nod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binary tree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des that is also a max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463680" y="1454040"/>
            <a:ext cx="7530840" cy="3340080"/>
            <a:chOff x="463680" y="1454040"/>
            <a:chExt cx="7530840" cy="3340080"/>
          </a:xfrm>
        </p:grpSpPr>
        <p:sp>
          <p:nvSpPr>
            <p:cNvPr id="351" name=""/>
            <p:cNvSpPr/>
            <p:nvPr/>
          </p:nvSpPr>
          <p:spPr>
            <a:xfrm>
              <a:off x="41972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0638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4072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0731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2564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1879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550280" y="3282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63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606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2514240" y="1752480"/>
              <a:ext cx="16765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648320" y="1752480"/>
              <a:ext cx="182880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1371240" y="2819520"/>
              <a:ext cx="76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438280" y="281952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5562720" y="2895480"/>
              <a:ext cx="9144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781680" y="2819520"/>
              <a:ext cx="8384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762120" y="365760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447920" y="365760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250520" y="14778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11680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1260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87892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2408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60320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16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659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46020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Heap Heigh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a heap is a complete binary tree, the height of 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de heap i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log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(n+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1371600" y="528012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92280" y="5416560"/>
            <a:ext cx="444240" cy="44460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149480" y="5416560"/>
            <a:ext cx="444240" cy="44460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606680" y="5416560"/>
            <a:ext cx="444240" cy="44460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063880" y="5416560"/>
            <a:ext cx="444240" cy="44460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521080" y="5416560"/>
            <a:ext cx="444240" cy="44460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978280" y="5416560"/>
            <a:ext cx="444240" cy="44460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435480" y="5416560"/>
            <a:ext cx="444240" cy="44460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892680" y="5416560"/>
            <a:ext cx="444240" cy="44460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349880" y="5416560"/>
            <a:ext cx="444240" cy="44460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07080" y="5416560"/>
            <a:ext cx="444240" cy="44460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264280" y="5416560"/>
            <a:ext cx="444240" cy="44460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21480" y="5416560"/>
            <a:ext cx="444240" cy="44460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178680" y="5416560"/>
            <a:ext cx="444240" cy="44460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635880" y="5416560"/>
            <a:ext cx="444240" cy="44460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093080" y="5416560"/>
            <a:ext cx="444240" cy="44460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550280" y="5416560"/>
            <a:ext cx="444240" cy="44460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007480" y="5416560"/>
            <a:ext cx="444240" cy="44460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19320" y="5486400"/>
            <a:ext cx="304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676520" y="5486400"/>
            <a:ext cx="304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133720" y="5486400"/>
            <a:ext cx="304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590920" y="5486400"/>
            <a:ext cx="304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048120" y="5486400"/>
            <a:ext cx="304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505320" y="5486400"/>
            <a:ext cx="304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62520" y="5486400"/>
            <a:ext cx="304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419720" y="5486400"/>
            <a:ext cx="304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876920" y="5486400"/>
            <a:ext cx="304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219320" y="6019920"/>
            <a:ext cx="304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676520" y="6019920"/>
            <a:ext cx="304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133720" y="6019920"/>
            <a:ext cx="304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590920" y="6019920"/>
            <a:ext cx="304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048120" y="6019920"/>
            <a:ext cx="304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505320" y="6019920"/>
            <a:ext cx="304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62520" y="6019920"/>
            <a:ext cx="304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419720" y="6019920"/>
            <a:ext cx="304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876920" y="6019920"/>
            <a:ext cx="304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257800" y="6019920"/>
            <a:ext cx="533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62120" y="6019920"/>
            <a:ext cx="304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title"/>
          </p:nvPr>
        </p:nvSpPr>
        <p:spPr>
          <a:xfrm>
            <a:off x="-3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A Heap Is Efficiently Represented As An Array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463680" y="1454040"/>
            <a:ext cx="7530840" cy="3340080"/>
            <a:chOff x="463680" y="1454040"/>
            <a:chExt cx="7530840" cy="3340080"/>
          </a:xfrm>
        </p:grpSpPr>
        <p:sp>
          <p:nvSpPr>
            <p:cNvPr id="419" name=""/>
            <p:cNvSpPr/>
            <p:nvPr/>
          </p:nvSpPr>
          <p:spPr>
            <a:xfrm>
              <a:off x="41972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638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4072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0731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82564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1879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550280" y="3282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63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606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2514240" y="1752480"/>
              <a:ext cx="16765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648320" y="1752480"/>
              <a:ext cx="182880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1371240" y="2819520"/>
              <a:ext cx="76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438280" y="281952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5562720" y="2895480"/>
              <a:ext cx="9144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781680" y="2819520"/>
              <a:ext cx="8384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62120" y="365760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447920" y="365760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250520" y="14778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11680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1260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87892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2408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60320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16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659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46020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oving Up And Down A He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457200" y="1066680"/>
            <a:ext cx="7848720" cy="4207680"/>
            <a:chOff x="457200" y="1066680"/>
            <a:chExt cx="7848720" cy="4207680"/>
          </a:xfrm>
        </p:grpSpPr>
        <p:sp>
          <p:nvSpPr>
            <p:cNvPr id="447" name=""/>
            <p:cNvSpPr/>
            <p:nvPr/>
          </p:nvSpPr>
          <p:spPr>
            <a:xfrm>
              <a:off x="41972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0638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4072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0731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82564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1879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50280" y="3282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63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606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2514240" y="1752480"/>
              <a:ext cx="16765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648320" y="1752480"/>
              <a:ext cx="182880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1371240" y="2819520"/>
              <a:ext cx="76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438280" y="281952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5562720" y="2895480"/>
              <a:ext cx="9144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781680" y="2819520"/>
              <a:ext cx="8384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762120" y="365760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447920" y="365760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250520" y="14778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11680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1260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87892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2408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60320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16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659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46020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495680" y="1066680"/>
              <a:ext cx="381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133720" y="1981080"/>
              <a:ext cx="380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553080" y="1981080"/>
              <a:ext cx="381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990720" y="2819520"/>
              <a:ext cx="380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76720" y="2895480"/>
              <a:ext cx="380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876920" y="2895480"/>
              <a:ext cx="380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924680" y="2819520"/>
              <a:ext cx="381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57200" y="4876920"/>
              <a:ext cx="380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676520" y="4876920"/>
              <a:ext cx="380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utting An Element Into A Max He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binary tree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463680" y="1454040"/>
            <a:ext cx="7530840" cy="3340080"/>
            <a:chOff x="463680" y="1454040"/>
            <a:chExt cx="7530840" cy="3340080"/>
          </a:xfrm>
        </p:grpSpPr>
        <p:sp>
          <p:nvSpPr>
            <p:cNvPr id="485" name=""/>
            <p:cNvSpPr/>
            <p:nvPr/>
          </p:nvSpPr>
          <p:spPr>
            <a:xfrm>
              <a:off x="41972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0638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4072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0731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82564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1879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550280" y="3282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63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606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2514240" y="1752480"/>
              <a:ext cx="16765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648320" y="1752480"/>
              <a:ext cx="182880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1371240" y="2819520"/>
              <a:ext cx="76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438280" y="281952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5562720" y="2895480"/>
              <a:ext cx="9144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781680" y="2819520"/>
              <a:ext cx="8384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762120" y="365760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447920" y="365760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250520" y="14778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11680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1260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87892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2408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60320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16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659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46020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2438280" y="3733920"/>
            <a:ext cx="526680" cy="1060200"/>
            <a:chOff x="2438280" y="3733920"/>
            <a:chExt cx="526680" cy="1060200"/>
          </a:xfrm>
        </p:grpSpPr>
        <p:sp>
          <p:nvSpPr>
            <p:cNvPr id="512" name=""/>
            <p:cNvSpPr/>
            <p:nvPr/>
          </p:nvSpPr>
          <p:spPr>
            <a:xfrm>
              <a:off x="24912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438280" y="4349880"/>
              <a:ext cx="444600" cy="44424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>
              <a:off x="2736360" y="3733920"/>
              <a:ext cx="22860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utting An Element Into A Max He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elemen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250520" y="14778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1168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87892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utting An Element Into A Max He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elemen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1371240" y="2819520"/>
            <a:ext cx="7621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250520" y="14778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1168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895480" y="33526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lexity Of Operat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19320" y="1905120"/>
            <a:ext cx="64008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good implementations are heaps and leftist tr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Empty, size, and g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&gt; O(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 and remov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&gt; O(log n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whe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size of the priority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utting An Element Into A Max He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elemen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250520" y="14778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1168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514600" y="4419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utting An Element Into A Max He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elemen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250520" y="14778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87892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514600" y="4419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utting An Element Into A Max He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elemen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1168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87892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514600" y="4419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191120" y="1523880"/>
            <a:ext cx="83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utting An Element Into A Max He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binary tree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1168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87892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514600" y="4419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191120" y="1523880"/>
            <a:ext cx="83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435480" y="4349880"/>
            <a:ext cx="444240" cy="44424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200400" y="36576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utting An Element Into A Max He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elemen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1168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87892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514600" y="4419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191120" y="1523880"/>
            <a:ext cx="83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435480" y="4349880"/>
            <a:ext cx="444240" cy="44424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200400" y="36576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utting An Element Into A Max He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elemen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1168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514600" y="4419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191120" y="1523880"/>
            <a:ext cx="83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4354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200400" y="36576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utting An Element Into A Max He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elemen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514600" y="4419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191120" y="1523880"/>
            <a:ext cx="83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4354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200400" y="36576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87892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057400" y="2514600"/>
            <a:ext cx="76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lexity Of Pu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xity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log 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heap siz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463680" y="1454040"/>
            <a:ext cx="7530840" cy="3363120"/>
            <a:chOff x="463680" y="1454040"/>
            <a:chExt cx="7530840" cy="3363120"/>
          </a:xfrm>
        </p:grpSpPr>
        <p:sp>
          <p:nvSpPr>
            <p:cNvPr id="820" name=""/>
            <p:cNvSpPr/>
            <p:nvPr/>
          </p:nvSpPr>
          <p:spPr>
            <a:xfrm>
              <a:off x="41972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0638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4072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0731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82564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1879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550280" y="3282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63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606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2514240" y="1752480"/>
              <a:ext cx="16765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648320" y="1752480"/>
              <a:ext cx="182880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>
              <a:off x="1371240" y="2819520"/>
              <a:ext cx="76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438280" y="281952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5562720" y="2895480"/>
              <a:ext cx="9144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781680" y="2819520"/>
              <a:ext cx="8384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762120" y="365760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447920" y="365760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4884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1260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49768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2408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60320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16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659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46020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49768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444760" y="43498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2742840" y="3733920"/>
              <a:ext cx="22860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514600" y="4419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191120" y="1523880"/>
              <a:ext cx="838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4354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200400" y="3657600"/>
              <a:ext cx="4572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87892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057400" y="2514600"/>
              <a:ext cx="762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4724280" y="3733920"/>
            <a:ext cx="603000" cy="1136520"/>
            <a:chOff x="4724280" y="3733920"/>
            <a:chExt cx="603000" cy="1136520"/>
          </a:xfrm>
        </p:grpSpPr>
        <p:sp>
          <p:nvSpPr>
            <p:cNvPr id="855" name=""/>
            <p:cNvSpPr/>
            <p:nvPr/>
          </p:nvSpPr>
          <p:spPr>
            <a:xfrm>
              <a:off x="4724280" y="4426200"/>
              <a:ext cx="444600" cy="44424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5022360" y="3733920"/>
              <a:ext cx="30492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moving The Max Elemen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 element is in the ro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9" name=""/>
          <p:cNvGrpSpPr/>
          <p:nvPr/>
        </p:nvGrpSpPr>
        <p:grpSpPr>
          <a:xfrm>
            <a:off x="463680" y="1454040"/>
            <a:ext cx="7530840" cy="3363120"/>
            <a:chOff x="463680" y="1454040"/>
            <a:chExt cx="7530840" cy="3363120"/>
          </a:xfrm>
        </p:grpSpPr>
        <p:sp>
          <p:nvSpPr>
            <p:cNvPr id="860" name=""/>
            <p:cNvSpPr/>
            <p:nvPr/>
          </p:nvSpPr>
          <p:spPr>
            <a:xfrm>
              <a:off x="41972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0638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4072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0731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82564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1879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550280" y="3282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63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606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2514240" y="1752480"/>
              <a:ext cx="16765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648320" y="1752480"/>
              <a:ext cx="182880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1371240" y="2819520"/>
              <a:ext cx="76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438280" y="281952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5562720" y="2895480"/>
              <a:ext cx="9144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781680" y="2819520"/>
              <a:ext cx="8384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762120" y="365760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447920" y="365760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4884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1260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49768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2408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60320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16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659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46020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49768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444760" y="43498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2742840" y="3733920"/>
              <a:ext cx="22860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514600" y="4419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191120" y="1523880"/>
              <a:ext cx="838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4354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200400" y="3657600"/>
              <a:ext cx="4572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87892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057400" y="2514600"/>
              <a:ext cx="762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moving The Max Elemen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max element is remov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2514600" y="4419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4354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200400" y="36576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87892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2057400" y="2514600"/>
            <a:ext cx="76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pplicat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element key as prio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 elements to be sorted into a priority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act elements in priority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min priority queue is used, elements are extracted in ascending order of priority (or ke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max priority queue is used, elements are extracted in descending order of priority (or ke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moving The Max Elemen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 type="subTitle"/>
          </p:nvPr>
        </p:nvSpPr>
        <p:spPr>
          <a:xfrm>
            <a:off x="1371600" y="54100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p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514600" y="4419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435480" y="4349880"/>
            <a:ext cx="444240" cy="444240"/>
          </a:xfrm>
          <a:prstGeom prst="ellipse">
            <a:avLst/>
          </a:prstGeom>
          <a:solidFill>
            <a:srgbClr val="f0f36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287892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2057400" y="2514600"/>
            <a:ext cx="76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447920" y="6019920"/>
            <a:ext cx="6400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inser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o the hea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moving The Max Elemen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inser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o the hea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514600" y="4419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287892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2057400" y="2514600"/>
            <a:ext cx="76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moving The Max Elemen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inser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o the hea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2514600" y="4419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287892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4191120" y="1447920"/>
            <a:ext cx="914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moving The Max Elemen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inser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o the hea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514600" y="4419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1168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4191120" y="1447920"/>
            <a:ext cx="914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2895480" y="3352680"/>
            <a:ext cx="381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moving The Max Elemen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 elemen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2514600" y="4419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1168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191120" y="1447920"/>
            <a:ext cx="914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895480" y="3352680"/>
            <a:ext cx="381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moving The Max Elemen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max element is remov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514600" y="4419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21168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191120" y="1447920"/>
            <a:ext cx="914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895480" y="3352680"/>
            <a:ext cx="381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moving The Max Elemen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p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9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0f36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514600" y="4419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21168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191120" y="1447920"/>
            <a:ext cx="914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2895480" y="3352680"/>
            <a:ext cx="381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moving The Max Elemen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inser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21168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191120" y="1447920"/>
            <a:ext cx="914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2895480" y="3352680"/>
            <a:ext cx="381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moving The Max Elemen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inser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250520" y="14778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4191120" y="1447920"/>
            <a:ext cx="304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2895480" y="3352680"/>
            <a:ext cx="381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moving The Max Elemen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inser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4250520" y="14778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4191120" y="1447920"/>
            <a:ext cx="304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2133720" y="2438280"/>
            <a:ext cx="380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2954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rting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 five elements whose keys a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6, 8, 2, 4, 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a max priority que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t the five elements into a max priority que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five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ve max operations placing removed elements into the sorted array from right to lef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lexity Of Remove Max Elemen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xity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log 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6" name=""/>
          <p:cNvGrpSpPr/>
          <p:nvPr/>
        </p:nvGrpSpPr>
        <p:grpSpPr>
          <a:xfrm>
            <a:off x="463680" y="1447920"/>
            <a:ext cx="7530840" cy="3346200"/>
            <a:chOff x="463680" y="1447920"/>
            <a:chExt cx="7530840" cy="3346200"/>
          </a:xfrm>
        </p:grpSpPr>
        <p:sp>
          <p:nvSpPr>
            <p:cNvPr id="1247" name=""/>
            <p:cNvSpPr/>
            <p:nvPr/>
          </p:nvSpPr>
          <p:spPr>
            <a:xfrm>
              <a:off x="41972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20638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4072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10731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82564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1879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7550280" y="3282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63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606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 flipH="1">
              <a:off x="2514240" y="1752480"/>
              <a:ext cx="16765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648320" y="1752480"/>
              <a:ext cx="182880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 flipH="1">
              <a:off x="1371240" y="2819520"/>
              <a:ext cx="76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438280" y="281952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H="1">
              <a:off x="5562720" y="2895480"/>
              <a:ext cx="9144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781680" y="2819520"/>
              <a:ext cx="8384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 flipH="1">
              <a:off x="762120" y="365760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1447920" y="365760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1260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2408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760320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16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659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46020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250520" y="14778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191120" y="1447920"/>
              <a:ext cx="3045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133720" y="2438280"/>
              <a:ext cx="380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29548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After Putting Into Max Priority Queue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219320" y="4952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orted Arra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63880" y="1606680"/>
            <a:ext cx="4330440" cy="1587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2564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3548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4496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5444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26428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65280" y="1919160"/>
            <a:ext cx="363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955240" y="1919160"/>
            <a:ext cx="363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74560" y="2529000"/>
            <a:ext cx="363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26840" y="1919160"/>
            <a:ext cx="363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336480" y="2376360"/>
            <a:ext cx="363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629400" y="2133720"/>
            <a:ext cx="2286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Max Priority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After First Remove Max Oper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219320" y="4952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orted Arra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63880" y="1606680"/>
            <a:ext cx="4330440" cy="1587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2564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43548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04496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5444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6428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65280" y="1919160"/>
            <a:ext cx="363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174560" y="2529000"/>
            <a:ext cx="363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326840" y="1919160"/>
            <a:ext cx="363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36480" y="2376360"/>
            <a:ext cx="363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10080" y="4038480"/>
            <a:ext cx="60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2133720"/>
            <a:ext cx="2286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Max Priority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After Second Remove Max Oper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4952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orted Arra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63880" y="1606680"/>
            <a:ext cx="4330440" cy="1587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2564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3548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4496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5444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26428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74560" y="2529000"/>
            <a:ext cx="363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26840" y="1919160"/>
            <a:ext cx="363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336480" y="2376360"/>
            <a:ext cx="363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4038480"/>
            <a:ext cx="60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00600" y="4038480"/>
            <a:ext cx="609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629400" y="2133720"/>
            <a:ext cx="2286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Max Priority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dcterms:modified xsi:type="dcterms:W3CDTF">2004-08-05T16:28:13Z</dcterms:modified>
  <cp:revision>43</cp:revision>
  <dc:subject/>
  <dc:title>Data Representation Methods</dc:title>
</cp:coreProperties>
</file>