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CE9C-4716-4F35-A9D0-AD8C4C2F81E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clone using postorder traversal … clone the left subtree, clone the right subtree, clone the root in the visit st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e height using postorder traversal … determine the height of the left subtree, determine the height of the right subtree, in the visit step add 1 to the max of the already determined heights of the left and right subtr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e number of nodes using preorder, inorder, or postorder traversal … initialize a counter to 0, add 1 to the counter in the visit st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is the root of the subtree being traver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traversal, t starts at the root, moves to the left child b of the root, then to the left child d of b. When the traversal of the left subtree of b is complete, t, once again, points to the node b. The t moves into the right subtree of b. When the traversal of this right subtree is complete, t again points to b. Following this, t points to a. We see that t points to every node in the binary tree three times – once when you get to the node from its parent (or in the case of the root, t is initially at the root), once when you return from the left subtree of the node, and once when you return from the node’s right subtree. Of these three times that t points to a node, the node is visited the firs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AEA0-932B-41D7-82D7-14E519696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53B7-C731-48C5-917C-D7AD01F4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1DDF-227A-435E-9391-AE90967BC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DC82-F13F-418C-B004-E0A3A1A81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B020-5783-43D9-AD51-8F895E37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2C47-DD6C-4012-BC51-BAAFF90B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AC26-9475-4DC7-8E75-8A0DE307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0ECE-9FEC-4725-BEDF-23E417A0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A857-603C-473B-B86E-7B427569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F187-BB8F-4B98-9C81-41A10BEF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AE99-BFD3-46BA-AAD0-452ADD55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E29E-6D91-4186-BC4A-3852A984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A524-C5BD-42A3-91DB-7AA6C1187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Binary Tree Traversal Method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9" name="LEFTSPOT" descr=""/>
          <p:cNvPicPr/>
          <p:nvPr/>
        </p:nvPicPr>
        <p:blipFill>
          <a:blip r:embed="rId1"/>
          <a:stretch/>
        </p:blipFill>
        <p:spPr>
          <a:xfrm>
            <a:off x="6400800" y="76212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0" name="SPOTLIGH" descr=""/>
          <p:cNvPicPr/>
          <p:nvPr/>
        </p:nvPicPr>
        <p:blipFill>
          <a:blip r:embed="rId2"/>
          <a:stretch/>
        </p:blipFill>
        <p:spPr>
          <a:xfrm>
            <a:off x="1828800" y="762120"/>
            <a:ext cx="1189080" cy="1096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3123720"/>
            <a:ext cx="830556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traversal of a binary tree, each element of the binary tre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actly o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ing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is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n element, all action (make a clone, display, evaluate the operator, etc.) with respect to this element is ta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order By Projection (Squishing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143000" y="1371600"/>
            <a:ext cx="5562720" cy="3322800"/>
            <a:chOff x="1143000" y="1371600"/>
            <a:chExt cx="5562720" cy="3322800"/>
          </a:xfrm>
        </p:grpSpPr>
        <p:grpSp>
          <p:nvGrpSpPr>
            <p:cNvPr id="266" name=""/>
            <p:cNvGrpSpPr/>
            <p:nvPr/>
          </p:nvGrpSpPr>
          <p:grpSpPr>
            <a:xfrm>
              <a:off x="1600200" y="3429000"/>
              <a:ext cx="380880" cy="579600"/>
              <a:chOff x="1600200" y="3429000"/>
              <a:chExt cx="380880" cy="579600"/>
            </a:xfrm>
          </p:grpSpPr>
          <p:sp>
            <p:nvSpPr>
              <p:cNvPr id="267" name=""/>
              <p:cNvSpPr/>
              <p:nvPr/>
            </p:nvSpPr>
            <p:spPr>
              <a:xfrm>
                <a:off x="1600200" y="35053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600200" y="34290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1143000" y="4114800"/>
              <a:ext cx="380880" cy="579600"/>
              <a:chOff x="1143000" y="4114800"/>
              <a:chExt cx="380880" cy="579600"/>
            </a:xfrm>
          </p:grpSpPr>
          <p:sp>
            <p:nvSpPr>
              <p:cNvPr id="270" name=""/>
              <p:cNvSpPr/>
              <p:nvPr/>
            </p:nvSpPr>
            <p:spPr>
              <a:xfrm>
                <a:off x="114300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14300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2133720" y="4114800"/>
              <a:ext cx="380880" cy="579600"/>
              <a:chOff x="2133720" y="4114800"/>
              <a:chExt cx="380880" cy="579600"/>
            </a:xfrm>
          </p:grpSpPr>
          <p:sp>
            <p:nvSpPr>
              <p:cNvPr id="273" name=""/>
              <p:cNvSpPr/>
              <p:nvPr/>
            </p:nvSpPr>
            <p:spPr>
              <a:xfrm>
                <a:off x="213372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3372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 flipH="1">
              <a:off x="1447560" y="3809880"/>
              <a:ext cx="2286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981080" y="37339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581280" y="3352680"/>
              <a:ext cx="380880" cy="579600"/>
              <a:chOff x="3581280" y="3352680"/>
              <a:chExt cx="380880" cy="579600"/>
            </a:xfrm>
          </p:grpSpPr>
          <p:sp>
            <p:nvSpPr>
              <p:cNvPr id="278" name=""/>
              <p:cNvSpPr/>
              <p:nvPr/>
            </p:nvSpPr>
            <p:spPr>
              <a:xfrm>
                <a:off x="3581280" y="34290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581280" y="33526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4038480" y="4114800"/>
              <a:ext cx="380880" cy="579600"/>
              <a:chOff x="4038480" y="4114800"/>
              <a:chExt cx="380880" cy="579600"/>
            </a:xfrm>
          </p:grpSpPr>
          <p:sp>
            <p:nvSpPr>
              <p:cNvPr id="281" name=""/>
              <p:cNvSpPr/>
              <p:nvPr/>
            </p:nvSpPr>
            <p:spPr>
              <a:xfrm>
                <a:off x="403848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03848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3886200" y="37339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5943600" y="2438280"/>
              <a:ext cx="380880" cy="579600"/>
              <a:chOff x="5943600" y="2438280"/>
              <a:chExt cx="380880" cy="579600"/>
            </a:xfrm>
          </p:grpSpPr>
          <p:sp>
            <p:nvSpPr>
              <p:cNvPr id="285" name=""/>
              <p:cNvSpPr/>
              <p:nvPr/>
            </p:nvSpPr>
            <p:spPr>
              <a:xfrm>
                <a:off x="59436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9436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5486400" y="3124080"/>
              <a:ext cx="380880" cy="579600"/>
              <a:chOff x="5486400" y="3124080"/>
              <a:chExt cx="380880" cy="579600"/>
            </a:xfrm>
          </p:grpSpPr>
          <p:sp>
            <p:nvSpPr>
              <p:cNvPr id="288" name=""/>
              <p:cNvSpPr/>
              <p:nvPr/>
            </p:nvSpPr>
            <p:spPr>
              <a:xfrm>
                <a:off x="5486400" y="3200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486400" y="3124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5790960" y="281952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2743200" y="2438280"/>
              <a:ext cx="380880" cy="579600"/>
              <a:chOff x="2743200" y="2438280"/>
              <a:chExt cx="380880" cy="579600"/>
            </a:xfrm>
          </p:grpSpPr>
          <p:sp>
            <p:nvSpPr>
              <p:cNvPr id="292" name=""/>
              <p:cNvSpPr/>
              <p:nvPr/>
            </p:nvSpPr>
            <p:spPr>
              <a:xfrm>
                <a:off x="27432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7432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 flipH="1">
              <a:off x="1905120" y="2743200"/>
              <a:ext cx="83808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24080" y="2743200"/>
              <a:ext cx="5335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4419720" y="1371600"/>
              <a:ext cx="380880" cy="579600"/>
              <a:chOff x="4419720" y="1371600"/>
              <a:chExt cx="380880" cy="579600"/>
            </a:xfrm>
          </p:grpSpPr>
          <p:sp>
            <p:nvSpPr>
              <p:cNvPr id="297" name=""/>
              <p:cNvSpPr/>
              <p:nvPr/>
            </p:nvSpPr>
            <p:spPr>
              <a:xfrm>
                <a:off x="4419720" y="14479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419720" y="13716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 flipH="1">
              <a:off x="3048120" y="167652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24280" y="1752480"/>
              <a:ext cx="129564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419720" y="13716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432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9436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600200" y="34290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33526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486400" y="3124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143000" y="40384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33720" y="41148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114800" y="41148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5867280" y="3962520"/>
              <a:ext cx="380880" cy="579240"/>
              <a:chOff x="5867280" y="3962520"/>
              <a:chExt cx="380880" cy="579240"/>
            </a:xfrm>
          </p:grpSpPr>
          <p:sp>
            <p:nvSpPr>
              <p:cNvPr id="311" name=""/>
              <p:cNvSpPr/>
              <p:nvPr/>
            </p:nvSpPr>
            <p:spPr>
              <a:xfrm>
                <a:off x="5867280" y="40384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867280" y="39625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5715000" y="35812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943600" y="39625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066680" y="5486400"/>
            <a:ext cx="5486400" cy="657720"/>
            <a:chOff x="1066680" y="5486400"/>
            <a:chExt cx="5486400" cy="657720"/>
          </a:xfrm>
        </p:grpSpPr>
        <p:sp>
          <p:nvSpPr>
            <p:cNvPr id="316" name=""/>
            <p:cNvSpPr/>
            <p:nvPr/>
          </p:nvSpPr>
          <p:spPr>
            <a:xfrm>
              <a:off x="1066680" y="54864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0020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337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895480" y="54864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053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11480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495680" y="54864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486400" y="55627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4360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17220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1295280" y="1828800"/>
            <a:ext cx="5029200" cy="3581280"/>
            <a:chOff x="1295280" y="1828800"/>
            <a:chExt cx="5029200" cy="3581280"/>
          </a:xfrm>
        </p:grpSpPr>
        <p:sp>
          <p:nvSpPr>
            <p:cNvPr id="327" name=""/>
            <p:cNvSpPr/>
            <p:nvPr/>
          </p:nvSpPr>
          <p:spPr>
            <a:xfrm>
              <a:off x="6324480" y="2819520"/>
              <a:ext cx="0" cy="25905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095880" y="4419720"/>
              <a:ext cx="0" cy="9903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638680" y="3581280"/>
              <a:ext cx="0" cy="18288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648320" y="1828800"/>
              <a:ext cx="0" cy="35053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67080" y="4572000"/>
              <a:ext cx="0" cy="7621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33920" y="3809880"/>
              <a:ext cx="0" cy="15242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971800" y="2895480"/>
              <a:ext cx="0" cy="24386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286000" y="4572000"/>
              <a:ext cx="0" cy="7621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828800" y="3886200"/>
              <a:ext cx="0" cy="14479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95280" y="4572000"/>
              <a:ext cx="0" cy="7621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order Of Expression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447920" y="1143000"/>
            <a:ext cx="5715000" cy="3400920"/>
            <a:chOff x="1447920" y="1143000"/>
            <a:chExt cx="5715000" cy="3400920"/>
          </a:xfrm>
        </p:grpSpPr>
        <p:sp>
          <p:nvSpPr>
            <p:cNvPr id="339" name=""/>
            <p:cNvSpPr/>
            <p:nvPr/>
          </p:nvSpPr>
          <p:spPr>
            <a:xfrm>
              <a:off x="1905120" y="327672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05120" y="3200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447920" y="396252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47920" y="3809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438280" y="396252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438280" y="38862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1752120" y="3581280"/>
              <a:ext cx="2286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286000" y="35053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962520" y="3352680"/>
              <a:ext cx="380880" cy="381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962520" y="32767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505320" y="4038480"/>
              <a:ext cx="380880" cy="381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505320" y="3886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495680" y="4038480"/>
              <a:ext cx="381240" cy="381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956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3809520" y="365760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343400" y="35812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248520" y="228600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2209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791320" y="297180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91320" y="28195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781680" y="297180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781680" y="2895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6095520" y="259092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629400" y="251460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048120" y="228600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048120" y="2209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209320" y="2514600"/>
              <a:ext cx="83844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29000" y="2514600"/>
              <a:ext cx="60948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24280" y="121932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724280" y="11430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3352680" y="144792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029200" y="1523880"/>
              <a:ext cx="129528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228600" y="59436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s infix form of expression (sans parentheses)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1600200" y="1600200"/>
            <a:ext cx="5410080" cy="3581280"/>
            <a:chOff x="1600200" y="1600200"/>
            <a:chExt cx="5410080" cy="3581280"/>
          </a:xfrm>
        </p:grpSpPr>
        <p:sp>
          <p:nvSpPr>
            <p:cNvPr id="373" name=""/>
            <p:cNvSpPr/>
            <p:nvPr/>
          </p:nvSpPr>
          <p:spPr>
            <a:xfrm>
              <a:off x="6477120" y="2666880"/>
              <a:ext cx="0" cy="25146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943600" y="3352680"/>
              <a:ext cx="0" cy="18288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952880" y="1600200"/>
              <a:ext cx="0" cy="35053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724280" y="4419720"/>
              <a:ext cx="0" cy="7617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91120" y="3809880"/>
              <a:ext cx="0" cy="13716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276720" y="2666880"/>
              <a:ext cx="0" cy="24386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590920" y="4343400"/>
              <a:ext cx="0" cy="7621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133720" y="3657600"/>
              <a:ext cx="0" cy="14479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600200" y="4343400"/>
              <a:ext cx="0" cy="7621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733920" y="4419720"/>
              <a:ext cx="0" cy="7617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10280" y="3352680"/>
              <a:ext cx="0" cy="18288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1371600" y="5105520"/>
            <a:ext cx="5867280" cy="581400"/>
            <a:chOff x="1371600" y="5105520"/>
            <a:chExt cx="5867280" cy="581400"/>
          </a:xfrm>
        </p:grpSpPr>
        <p:sp>
          <p:nvSpPr>
            <p:cNvPr id="385" name=""/>
            <p:cNvSpPr/>
            <p:nvPr/>
          </p:nvSpPr>
          <p:spPr>
            <a:xfrm>
              <a:off x="5791320" y="51055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1371600" y="5105520"/>
              <a:ext cx="5867280" cy="581400"/>
              <a:chOff x="1371600" y="5105520"/>
              <a:chExt cx="5867280" cy="581400"/>
            </a:xfrm>
          </p:grpSpPr>
          <p:sp>
            <p:nvSpPr>
              <p:cNvPr id="387" name=""/>
              <p:cNvSpPr/>
              <p:nvPr/>
            </p:nvSpPr>
            <p:spPr>
              <a:xfrm>
                <a:off x="1371600" y="51055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905120" y="51055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438280" y="5105520"/>
                <a:ext cx="381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048120" y="51055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581280" y="5105520"/>
                <a:ext cx="381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495680" y="5105520"/>
                <a:ext cx="381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800600" y="51055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/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248520" y="51055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858000" y="51055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038480" y="5105520"/>
                <a:ext cx="381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ostorder Traversal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MS Mincho"/>
              </a:rPr>
              <a:t>public static v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postOrder(BinaryTreeNode 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MS Mincho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(t != nul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postOrder(t.leftChild);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postOrder(t.rightChild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MS Mincho"/>
              </a:rPr>
              <a:t>visit(t)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ostorder Example (visit = print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2743200" y="1371600"/>
            <a:ext cx="3962520" cy="1646280"/>
            <a:chOff x="2743200" y="1371600"/>
            <a:chExt cx="3962520" cy="1646280"/>
          </a:xfrm>
        </p:grpSpPr>
        <p:grpSp>
          <p:nvGrpSpPr>
            <p:cNvPr id="401" name=""/>
            <p:cNvGrpSpPr/>
            <p:nvPr/>
          </p:nvGrpSpPr>
          <p:grpSpPr>
            <a:xfrm>
              <a:off x="5943600" y="2438280"/>
              <a:ext cx="380880" cy="579600"/>
              <a:chOff x="5943600" y="2438280"/>
              <a:chExt cx="380880" cy="579600"/>
            </a:xfrm>
          </p:grpSpPr>
          <p:sp>
            <p:nvSpPr>
              <p:cNvPr id="402" name=""/>
              <p:cNvSpPr/>
              <p:nvPr/>
            </p:nvSpPr>
            <p:spPr>
              <a:xfrm>
                <a:off x="59436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9436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2743200" y="2438280"/>
              <a:ext cx="380880" cy="579600"/>
              <a:chOff x="2743200" y="2438280"/>
              <a:chExt cx="380880" cy="579600"/>
            </a:xfrm>
          </p:grpSpPr>
          <p:sp>
            <p:nvSpPr>
              <p:cNvPr id="405" name=""/>
              <p:cNvSpPr/>
              <p:nvPr/>
            </p:nvSpPr>
            <p:spPr>
              <a:xfrm>
                <a:off x="27432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7432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4419720" y="1371600"/>
              <a:ext cx="380880" cy="579600"/>
              <a:chOff x="4419720" y="1371600"/>
              <a:chExt cx="380880" cy="579600"/>
            </a:xfrm>
          </p:grpSpPr>
          <p:sp>
            <p:nvSpPr>
              <p:cNvPr id="408" name=""/>
              <p:cNvSpPr/>
              <p:nvPr/>
            </p:nvSpPr>
            <p:spPr>
              <a:xfrm>
                <a:off x="4419720" y="14479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419720" y="13716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 flipH="1">
              <a:off x="3048120" y="167652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724280" y="1752480"/>
              <a:ext cx="129564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419720" y="13716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7432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9436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4038480" y="35053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35053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648320" y="35053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ostorder Example (visit = print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1143000" y="1371600"/>
            <a:ext cx="5562720" cy="3322800"/>
            <a:chOff x="1143000" y="1371600"/>
            <a:chExt cx="5562720" cy="3322800"/>
          </a:xfrm>
        </p:grpSpPr>
        <p:grpSp>
          <p:nvGrpSpPr>
            <p:cNvPr id="420" name=""/>
            <p:cNvGrpSpPr/>
            <p:nvPr/>
          </p:nvGrpSpPr>
          <p:grpSpPr>
            <a:xfrm>
              <a:off x="1600200" y="3429000"/>
              <a:ext cx="380880" cy="579600"/>
              <a:chOff x="1600200" y="3429000"/>
              <a:chExt cx="380880" cy="579600"/>
            </a:xfrm>
          </p:grpSpPr>
          <p:sp>
            <p:nvSpPr>
              <p:cNvPr id="421" name=""/>
              <p:cNvSpPr/>
              <p:nvPr/>
            </p:nvSpPr>
            <p:spPr>
              <a:xfrm>
                <a:off x="1600200" y="35053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600200" y="34290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1143000" y="4114800"/>
              <a:ext cx="380880" cy="579600"/>
              <a:chOff x="1143000" y="4114800"/>
              <a:chExt cx="380880" cy="579600"/>
            </a:xfrm>
          </p:grpSpPr>
          <p:sp>
            <p:nvSpPr>
              <p:cNvPr id="424" name=""/>
              <p:cNvSpPr/>
              <p:nvPr/>
            </p:nvSpPr>
            <p:spPr>
              <a:xfrm>
                <a:off x="114300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14300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2133720" y="4114800"/>
              <a:ext cx="380880" cy="579600"/>
              <a:chOff x="2133720" y="4114800"/>
              <a:chExt cx="380880" cy="579600"/>
            </a:xfrm>
          </p:grpSpPr>
          <p:sp>
            <p:nvSpPr>
              <p:cNvPr id="427" name=""/>
              <p:cNvSpPr/>
              <p:nvPr/>
            </p:nvSpPr>
            <p:spPr>
              <a:xfrm>
                <a:off x="213372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13372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 flipH="1">
              <a:off x="1447560" y="3809880"/>
              <a:ext cx="2286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81080" y="37339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3581280" y="3352680"/>
              <a:ext cx="380880" cy="579600"/>
              <a:chOff x="3581280" y="3352680"/>
              <a:chExt cx="380880" cy="579600"/>
            </a:xfrm>
          </p:grpSpPr>
          <p:sp>
            <p:nvSpPr>
              <p:cNvPr id="432" name=""/>
              <p:cNvSpPr/>
              <p:nvPr/>
            </p:nvSpPr>
            <p:spPr>
              <a:xfrm>
                <a:off x="3581280" y="34290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581280" y="33526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4038480" y="4114800"/>
              <a:ext cx="380880" cy="579600"/>
              <a:chOff x="4038480" y="4114800"/>
              <a:chExt cx="380880" cy="579600"/>
            </a:xfrm>
          </p:grpSpPr>
          <p:sp>
            <p:nvSpPr>
              <p:cNvPr id="435" name=""/>
              <p:cNvSpPr/>
              <p:nvPr/>
            </p:nvSpPr>
            <p:spPr>
              <a:xfrm>
                <a:off x="403848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03848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3886200" y="37339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5943600" y="2438280"/>
              <a:ext cx="380880" cy="579600"/>
              <a:chOff x="5943600" y="2438280"/>
              <a:chExt cx="380880" cy="579600"/>
            </a:xfrm>
          </p:grpSpPr>
          <p:sp>
            <p:nvSpPr>
              <p:cNvPr id="439" name=""/>
              <p:cNvSpPr/>
              <p:nvPr/>
            </p:nvSpPr>
            <p:spPr>
              <a:xfrm>
                <a:off x="59436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9436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5486400" y="3124080"/>
              <a:ext cx="380880" cy="579600"/>
              <a:chOff x="5486400" y="3124080"/>
              <a:chExt cx="380880" cy="579600"/>
            </a:xfrm>
          </p:grpSpPr>
          <p:sp>
            <p:nvSpPr>
              <p:cNvPr id="442" name=""/>
              <p:cNvSpPr/>
              <p:nvPr/>
            </p:nvSpPr>
            <p:spPr>
              <a:xfrm>
                <a:off x="5486400" y="3200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486400" y="3124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 flipH="1">
              <a:off x="5790960" y="281952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5" name=""/>
            <p:cNvGrpSpPr/>
            <p:nvPr/>
          </p:nvGrpSpPr>
          <p:grpSpPr>
            <a:xfrm>
              <a:off x="2743200" y="2438280"/>
              <a:ext cx="380880" cy="579600"/>
              <a:chOff x="2743200" y="2438280"/>
              <a:chExt cx="380880" cy="579600"/>
            </a:xfrm>
          </p:grpSpPr>
          <p:sp>
            <p:nvSpPr>
              <p:cNvPr id="446" name=""/>
              <p:cNvSpPr/>
              <p:nvPr/>
            </p:nvSpPr>
            <p:spPr>
              <a:xfrm>
                <a:off x="27432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7432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 flipH="1">
              <a:off x="1905120" y="2743200"/>
              <a:ext cx="83808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124080" y="2743200"/>
              <a:ext cx="5335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4419720" y="1371600"/>
              <a:ext cx="380880" cy="579600"/>
              <a:chOff x="4419720" y="1371600"/>
              <a:chExt cx="380880" cy="579600"/>
            </a:xfrm>
          </p:grpSpPr>
          <p:sp>
            <p:nvSpPr>
              <p:cNvPr id="451" name=""/>
              <p:cNvSpPr/>
              <p:nvPr/>
            </p:nvSpPr>
            <p:spPr>
              <a:xfrm>
                <a:off x="4419720" y="14479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419720" y="13716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 flipH="1">
              <a:off x="3048120" y="167652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724280" y="1752480"/>
              <a:ext cx="129564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419720" y="13716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7432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9436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600200" y="34290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581280" y="33526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486400" y="3124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43000" y="40384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133720" y="41148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14800" y="41148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5867280" y="3962520"/>
              <a:ext cx="380880" cy="579240"/>
              <a:chOff x="5867280" y="3962520"/>
              <a:chExt cx="380880" cy="579240"/>
            </a:xfrm>
          </p:grpSpPr>
          <p:sp>
            <p:nvSpPr>
              <p:cNvPr id="465" name=""/>
              <p:cNvSpPr/>
              <p:nvPr/>
            </p:nvSpPr>
            <p:spPr>
              <a:xfrm>
                <a:off x="5867280" y="40384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867280" y="39625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>
              <a:off x="5715000" y="35812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943600" y="39625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6858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99072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2952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6002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90512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096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5146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1952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1240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4290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ostorder Of Expression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1447920" y="1143000"/>
            <a:ext cx="5715000" cy="3400920"/>
            <a:chOff x="1447920" y="1143000"/>
            <a:chExt cx="5715000" cy="3400920"/>
          </a:xfrm>
        </p:grpSpPr>
        <p:sp>
          <p:nvSpPr>
            <p:cNvPr id="481" name=""/>
            <p:cNvSpPr/>
            <p:nvPr/>
          </p:nvSpPr>
          <p:spPr>
            <a:xfrm>
              <a:off x="1905120" y="327672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905120" y="3200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447920" y="396252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447920" y="3809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438280" y="396252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438280" y="38862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1752120" y="3581280"/>
              <a:ext cx="2286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286000" y="35053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962520" y="3352680"/>
              <a:ext cx="380880" cy="381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962520" y="32767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505320" y="4038480"/>
              <a:ext cx="380880" cy="381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05320" y="3886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495680" y="4038480"/>
              <a:ext cx="381240" cy="381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4956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3809520" y="365760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343400" y="35812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248520" y="228600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248520" y="2209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791320" y="297180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791320" y="28195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781680" y="297180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781680" y="2895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6095520" y="259092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629400" y="251460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048120" y="228600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048120" y="2209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2209320" y="2514600"/>
              <a:ext cx="83844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429000" y="2514600"/>
              <a:ext cx="60948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724280" y="121932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724280" y="11430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3352680" y="144792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029200" y="1523880"/>
              <a:ext cx="129528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1523880" y="594360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s postfix form of express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7652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81080" y="51055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860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9092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895480" y="51055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0532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809880" y="51055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1148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41972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8006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raversal Applic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1143000" y="990720"/>
            <a:ext cx="5562720" cy="3322080"/>
            <a:chOff x="1143000" y="990720"/>
            <a:chExt cx="5562720" cy="3322080"/>
          </a:xfrm>
        </p:grpSpPr>
        <p:grpSp>
          <p:nvGrpSpPr>
            <p:cNvPr id="527" name=""/>
            <p:cNvGrpSpPr/>
            <p:nvPr/>
          </p:nvGrpSpPr>
          <p:grpSpPr>
            <a:xfrm>
              <a:off x="1600200" y="3047760"/>
              <a:ext cx="380880" cy="579240"/>
              <a:chOff x="1600200" y="3047760"/>
              <a:chExt cx="380880" cy="579240"/>
            </a:xfrm>
          </p:grpSpPr>
          <p:sp>
            <p:nvSpPr>
              <p:cNvPr id="528" name=""/>
              <p:cNvSpPr/>
              <p:nvPr/>
            </p:nvSpPr>
            <p:spPr>
              <a:xfrm>
                <a:off x="1600200" y="312372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600200" y="304776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1143000" y="3733560"/>
              <a:ext cx="380880" cy="579240"/>
              <a:chOff x="1143000" y="3733560"/>
              <a:chExt cx="380880" cy="579240"/>
            </a:xfrm>
          </p:grpSpPr>
          <p:sp>
            <p:nvSpPr>
              <p:cNvPr id="531" name=""/>
              <p:cNvSpPr/>
              <p:nvPr/>
            </p:nvSpPr>
            <p:spPr>
              <a:xfrm>
                <a:off x="1143000" y="380952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143000" y="373356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2133720" y="3733560"/>
              <a:ext cx="380880" cy="579240"/>
              <a:chOff x="2133720" y="3733560"/>
              <a:chExt cx="380880" cy="579240"/>
            </a:xfrm>
          </p:grpSpPr>
          <p:sp>
            <p:nvSpPr>
              <p:cNvPr id="534" name=""/>
              <p:cNvSpPr/>
              <p:nvPr/>
            </p:nvSpPr>
            <p:spPr>
              <a:xfrm>
                <a:off x="2133720" y="380952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133720" y="373356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6" name=""/>
            <p:cNvSpPr/>
            <p:nvPr/>
          </p:nvSpPr>
          <p:spPr>
            <a:xfrm flipH="1">
              <a:off x="1447560" y="342864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981080" y="3352680"/>
              <a:ext cx="30492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8" name=""/>
            <p:cNvGrpSpPr/>
            <p:nvPr/>
          </p:nvGrpSpPr>
          <p:grpSpPr>
            <a:xfrm>
              <a:off x="3581280" y="2971440"/>
              <a:ext cx="380880" cy="579240"/>
              <a:chOff x="3581280" y="2971440"/>
              <a:chExt cx="380880" cy="579240"/>
            </a:xfrm>
          </p:grpSpPr>
          <p:sp>
            <p:nvSpPr>
              <p:cNvPr id="539" name=""/>
              <p:cNvSpPr/>
              <p:nvPr/>
            </p:nvSpPr>
            <p:spPr>
              <a:xfrm>
                <a:off x="3581280" y="304740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581280" y="297144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4038480" y="3733560"/>
              <a:ext cx="380880" cy="579240"/>
              <a:chOff x="4038480" y="3733560"/>
              <a:chExt cx="380880" cy="579240"/>
            </a:xfrm>
          </p:grpSpPr>
          <p:sp>
            <p:nvSpPr>
              <p:cNvPr id="542" name=""/>
              <p:cNvSpPr/>
              <p:nvPr/>
            </p:nvSpPr>
            <p:spPr>
              <a:xfrm>
                <a:off x="4038480" y="380952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038480" y="373356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4" name=""/>
            <p:cNvSpPr/>
            <p:nvPr/>
          </p:nvSpPr>
          <p:spPr>
            <a:xfrm>
              <a:off x="3886200" y="3352680"/>
              <a:ext cx="30492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5" name=""/>
            <p:cNvGrpSpPr/>
            <p:nvPr/>
          </p:nvGrpSpPr>
          <p:grpSpPr>
            <a:xfrm>
              <a:off x="5943600" y="2057040"/>
              <a:ext cx="380880" cy="579240"/>
              <a:chOff x="5943600" y="2057040"/>
              <a:chExt cx="380880" cy="579240"/>
            </a:xfrm>
          </p:grpSpPr>
          <p:sp>
            <p:nvSpPr>
              <p:cNvPr id="546" name=""/>
              <p:cNvSpPr/>
              <p:nvPr/>
            </p:nvSpPr>
            <p:spPr>
              <a:xfrm>
                <a:off x="5943600" y="213300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943600" y="205704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5486400" y="2742840"/>
              <a:ext cx="380880" cy="579240"/>
              <a:chOff x="5486400" y="2742840"/>
              <a:chExt cx="380880" cy="579240"/>
            </a:xfrm>
          </p:grpSpPr>
          <p:sp>
            <p:nvSpPr>
              <p:cNvPr id="549" name=""/>
              <p:cNvSpPr/>
              <p:nvPr/>
            </p:nvSpPr>
            <p:spPr>
              <a:xfrm>
                <a:off x="5486400" y="281880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486400" y="274284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 flipH="1">
              <a:off x="5790960" y="2438280"/>
              <a:ext cx="22860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2743200" y="2057040"/>
              <a:ext cx="380880" cy="579240"/>
              <a:chOff x="2743200" y="2057040"/>
              <a:chExt cx="380880" cy="579240"/>
            </a:xfrm>
          </p:grpSpPr>
          <p:sp>
            <p:nvSpPr>
              <p:cNvPr id="553" name=""/>
              <p:cNvSpPr/>
              <p:nvPr/>
            </p:nvSpPr>
            <p:spPr>
              <a:xfrm>
                <a:off x="2743200" y="213300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743200" y="205704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 flipH="1">
              <a:off x="1905120" y="2361960"/>
              <a:ext cx="83808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124080" y="2361960"/>
              <a:ext cx="53352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4419720" y="990720"/>
              <a:ext cx="380880" cy="579240"/>
              <a:chOff x="4419720" y="990720"/>
              <a:chExt cx="380880" cy="579240"/>
            </a:xfrm>
          </p:grpSpPr>
          <p:sp>
            <p:nvSpPr>
              <p:cNvPr id="558" name=""/>
              <p:cNvSpPr/>
              <p:nvPr/>
            </p:nvSpPr>
            <p:spPr>
              <a:xfrm>
                <a:off x="4419720" y="10666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419720" y="9907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 flipH="1">
              <a:off x="3048120" y="1295280"/>
              <a:ext cx="137160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724280" y="1371240"/>
              <a:ext cx="129564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19720" y="99072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743200" y="20570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943600" y="20570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600200" y="30477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581280" y="29714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486400" y="27428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36572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133720" y="373356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14800" y="3733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5867280" y="3581280"/>
              <a:ext cx="380880" cy="578880"/>
              <a:chOff x="5867280" y="3581280"/>
              <a:chExt cx="380880" cy="578880"/>
            </a:xfrm>
          </p:grpSpPr>
          <p:sp>
            <p:nvSpPr>
              <p:cNvPr id="572" name=""/>
              <p:cNvSpPr/>
              <p:nvPr/>
            </p:nvSpPr>
            <p:spPr>
              <a:xfrm>
                <a:off x="5867280" y="3657240"/>
                <a:ext cx="380880" cy="3801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867280" y="3581280"/>
                <a:ext cx="380880" cy="57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>
              <a:off x="5715000" y="3200040"/>
              <a:ext cx="30492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943600" y="3581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457200" y="4495680"/>
            <a:ext cx="6477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a cl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he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number of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vel Ord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he tree ro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h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 != nu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put its children on a FIFO queu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a node from the FIFO queue and call i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// remove returns null when queue is emp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vel-Order Example (visit = print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143000" y="1371600"/>
            <a:ext cx="5562720" cy="3322800"/>
            <a:chOff x="1143000" y="1371600"/>
            <a:chExt cx="5562720" cy="3322800"/>
          </a:xfrm>
        </p:grpSpPr>
        <p:grpSp>
          <p:nvGrpSpPr>
            <p:cNvPr id="581" name=""/>
            <p:cNvGrpSpPr/>
            <p:nvPr/>
          </p:nvGrpSpPr>
          <p:grpSpPr>
            <a:xfrm>
              <a:off x="1600200" y="3429000"/>
              <a:ext cx="380880" cy="579600"/>
              <a:chOff x="1600200" y="3429000"/>
              <a:chExt cx="380880" cy="579600"/>
            </a:xfrm>
          </p:grpSpPr>
          <p:sp>
            <p:nvSpPr>
              <p:cNvPr id="582" name=""/>
              <p:cNvSpPr/>
              <p:nvPr/>
            </p:nvSpPr>
            <p:spPr>
              <a:xfrm>
                <a:off x="1600200" y="35053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600200" y="34290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1143000" y="4114800"/>
              <a:ext cx="380880" cy="579600"/>
              <a:chOff x="1143000" y="4114800"/>
              <a:chExt cx="380880" cy="579600"/>
            </a:xfrm>
          </p:grpSpPr>
          <p:sp>
            <p:nvSpPr>
              <p:cNvPr id="585" name=""/>
              <p:cNvSpPr/>
              <p:nvPr/>
            </p:nvSpPr>
            <p:spPr>
              <a:xfrm>
                <a:off x="114300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14300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2133720" y="4114800"/>
              <a:ext cx="380880" cy="579600"/>
              <a:chOff x="2133720" y="4114800"/>
              <a:chExt cx="380880" cy="579600"/>
            </a:xfrm>
          </p:grpSpPr>
          <p:sp>
            <p:nvSpPr>
              <p:cNvPr id="588" name=""/>
              <p:cNvSpPr/>
              <p:nvPr/>
            </p:nvSpPr>
            <p:spPr>
              <a:xfrm>
                <a:off x="213372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13372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" name=""/>
            <p:cNvSpPr/>
            <p:nvPr/>
          </p:nvSpPr>
          <p:spPr>
            <a:xfrm flipH="1">
              <a:off x="1447560" y="3809880"/>
              <a:ext cx="2286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981080" y="37339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2" name=""/>
            <p:cNvGrpSpPr/>
            <p:nvPr/>
          </p:nvGrpSpPr>
          <p:grpSpPr>
            <a:xfrm>
              <a:off x="3581280" y="3352680"/>
              <a:ext cx="380880" cy="579600"/>
              <a:chOff x="3581280" y="3352680"/>
              <a:chExt cx="380880" cy="579600"/>
            </a:xfrm>
          </p:grpSpPr>
          <p:sp>
            <p:nvSpPr>
              <p:cNvPr id="593" name=""/>
              <p:cNvSpPr/>
              <p:nvPr/>
            </p:nvSpPr>
            <p:spPr>
              <a:xfrm>
                <a:off x="3581280" y="34290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581280" y="33526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4038480" y="4114800"/>
              <a:ext cx="380880" cy="579600"/>
              <a:chOff x="4038480" y="4114800"/>
              <a:chExt cx="380880" cy="579600"/>
            </a:xfrm>
          </p:grpSpPr>
          <p:sp>
            <p:nvSpPr>
              <p:cNvPr id="596" name=""/>
              <p:cNvSpPr/>
              <p:nvPr/>
            </p:nvSpPr>
            <p:spPr>
              <a:xfrm>
                <a:off x="403848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03848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8" name=""/>
            <p:cNvSpPr/>
            <p:nvPr/>
          </p:nvSpPr>
          <p:spPr>
            <a:xfrm>
              <a:off x="3886200" y="37339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9" name=""/>
            <p:cNvGrpSpPr/>
            <p:nvPr/>
          </p:nvGrpSpPr>
          <p:grpSpPr>
            <a:xfrm>
              <a:off x="5943600" y="2438280"/>
              <a:ext cx="380880" cy="579600"/>
              <a:chOff x="5943600" y="2438280"/>
              <a:chExt cx="380880" cy="579600"/>
            </a:xfrm>
          </p:grpSpPr>
          <p:sp>
            <p:nvSpPr>
              <p:cNvPr id="600" name=""/>
              <p:cNvSpPr/>
              <p:nvPr/>
            </p:nvSpPr>
            <p:spPr>
              <a:xfrm>
                <a:off x="59436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9436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5486400" y="3124080"/>
              <a:ext cx="380880" cy="579600"/>
              <a:chOff x="5486400" y="3124080"/>
              <a:chExt cx="380880" cy="579600"/>
            </a:xfrm>
          </p:grpSpPr>
          <p:sp>
            <p:nvSpPr>
              <p:cNvPr id="603" name=""/>
              <p:cNvSpPr/>
              <p:nvPr/>
            </p:nvSpPr>
            <p:spPr>
              <a:xfrm>
                <a:off x="5486400" y="3200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486400" y="3124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5" name=""/>
            <p:cNvSpPr/>
            <p:nvPr/>
          </p:nvSpPr>
          <p:spPr>
            <a:xfrm flipH="1">
              <a:off x="5790960" y="281952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2743200" y="2438280"/>
              <a:ext cx="380880" cy="579600"/>
              <a:chOff x="2743200" y="2438280"/>
              <a:chExt cx="380880" cy="579600"/>
            </a:xfrm>
          </p:grpSpPr>
          <p:sp>
            <p:nvSpPr>
              <p:cNvPr id="607" name=""/>
              <p:cNvSpPr/>
              <p:nvPr/>
            </p:nvSpPr>
            <p:spPr>
              <a:xfrm>
                <a:off x="27432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7432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 flipH="1">
              <a:off x="1905120" y="2743200"/>
              <a:ext cx="83808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124080" y="2743200"/>
              <a:ext cx="5335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1" name=""/>
            <p:cNvGrpSpPr/>
            <p:nvPr/>
          </p:nvGrpSpPr>
          <p:grpSpPr>
            <a:xfrm>
              <a:off x="4419720" y="1371600"/>
              <a:ext cx="380880" cy="579600"/>
              <a:chOff x="4419720" y="1371600"/>
              <a:chExt cx="380880" cy="579600"/>
            </a:xfrm>
          </p:grpSpPr>
          <p:sp>
            <p:nvSpPr>
              <p:cNvPr id="612" name=""/>
              <p:cNvSpPr/>
              <p:nvPr/>
            </p:nvSpPr>
            <p:spPr>
              <a:xfrm>
                <a:off x="4419720" y="14479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419720" y="13716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 flipH="1">
              <a:off x="3048120" y="167652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724280" y="1752480"/>
              <a:ext cx="129564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419720" y="13716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7432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9436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600200" y="34290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581280" y="33526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486400" y="3124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143000" y="40384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133720" y="41148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114800" y="41148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5867280" y="3962520"/>
              <a:ext cx="380880" cy="579240"/>
              <a:chOff x="5867280" y="3962520"/>
              <a:chExt cx="380880" cy="579240"/>
            </a:xfrm>
          </p:grpSpPr>
          <p:sp>
            <p:nvSpPr>
              <p:cNvPr id="626" name=""/>
              <p:cNvSpPr/>
              <p:nvPr/>
            </p:nvSpPr>
            <p:spPr>
              <a:xfrm>
                <a:off x="5867280" y="40384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867280" y="39625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>
              <a:off x="5715000" y="35812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943600" y="39625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6858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99072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2952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6002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90512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096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5146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1952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1240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4290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ary Tree Construc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the elements in a binary tree are distin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you construct the binary tree from which a given traversal sequence ca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traversal sequence has more than one element, the binary tree is not uniquely def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the tree from which the sequence was obtained cannot be reconstructed uniqu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ary Tree Traversal Method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me Exampl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1676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ord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3886200" y="838080"/>
            <a:ext cx="1295280" cy="1189080"/>
            <a:chOff x="3886200" y="838080"/>
            <a:chExt cx="1295280" cy="1189080"/>
          </a:xfrm>
        </p:grpSpPr>
        <p:grpSp>
          <p:nvGrpSpPr>
            <p:cNvPr id="645" name=""/>
            <p:cNvGrpSpPr/>
            <p:nvPr/>
          </p:nvGrpSpPr>
          <p:grpSpPr>
            <a:xfrm>
              <a:off x="3886200" y="1447560"/>
              <a:ext cx="380880" cy="579600"/>
              <a:chOff x="3886200" y="1447560"/>
              <a:chExt cx="380880" cy="579600"/>
            </a:xfrm>
          </p:grpSpPr>
          <p:sp>
            <p:nvSpPr>
              <p:cNvPr id="646" name=""/>
              <p:cNvSpPr/>
              <p:nvPr/>
            </p:nvSpPr>
            <p:spPr>
              <a:xfrm>
                <a:off x="3886200" y="152388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886200" y="144756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4419720" y="838080"/>
              <a:ext cx="380880" cy="579600"/>
              <a:chOff x="4419720" y="838080"/>
              <a:chExt cx="380880" cy="579600"/>
            </a:xfrm>
          </p:grpSpPr>
          <p:sp>
            <p:nvSpPr>
              <p:cNvPr id="649" name=""/>
              <p:cNvSpPr/>
              <p:nvPr/>
            </p:nvSpPr>
            <p:spPr>
              <a:xfrm>
                <a:off x="4419720" y="914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419720" y="838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1" name=""/>
            <p:cNvSpPr/>
            <p:nvPr/>
          </p:nvSpPr>
          <p:spPr>
            <a:xfrm>
              <a:off x="4419720" y="83808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886200" y="1447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191120" y="1218960"/>
              <a:ext cx="3045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6629400" y="838080"/>
            <a:ext cx="1295280" cy="1189080"/>
            <a:chOff x="6629400" y="838080"/>
            <a:chExt cx="1295280" cy="1189080"/>
          </a:xfrm>
        </p:grpSpPr>
        <p:grpSp>
          <p:nvGrpSpPr>
            <p:cNvPr id="655" name=""/>
            <p:cNvGrpSpPr/>
            <p:nvPr/>
          </p:nvGrpSpPr>
          <p:grpSpPr>
            <a:xfrm>
              <a:off x="7162920" y="1447920"/>
              <a:ext cx="380880" cy="579240"/>
              <a:chOff x="7162920" y="1447920"/>
              <a:chExt cx="380880" cy="579240"/>
            </a:xfrm>
          </p:grpSpPr>
          <p:sp>
            <p:nvSpPr>
              <p:cNvPr id="656" name=""/>
              <p:cNvSpPr/>
              <p:nvPr/>
            </p:nvSpPr>
            <p:spPr>
              <a:xfrm>
                <a:off x="7162920" y="15238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162920" y="14479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6629400" y="838080"/>
              <a:ext cx="380880" cy="579600"/>
              <a:chOff x="6629400" y="838080"/>
              <a:chExt cx="380880" cy="579600"/>
            </a:xfrm>
          </p:grpSpPr>
          <p:sp>
            <p:nvSpPr>
              <p:cNvPr id="659" name=""/>
              <p:cNvSpPr/>
              <p:nvPr/>
            </p:nvSpPr>
            <p:spPr>
              <a:xfrm>
                <a:off x="6629400" y="914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629400" y="838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>
              <a:off x="6629400" y="838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162920" y="144792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934320" y="1219320"/>
              <a:ext cx="3808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838080" y="2286000"/>
            <a:ext cx="1676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ord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3962520" y="2286000"/>
            <a:ext cx="1295280" cy="1189080"/>
            <a:chOff x="3962520" y="2286000"/>
            <a:chExt cx="1295280" cy="1189080"/>
          </a:xfrm>
        </p:grpSpPr>
        <p:grpSp>
          <p:nvGrpSpPr>
            <p:cNvPr id="666" name=""/>
            <p:cNvGrpSpPr/>
            <p:nvPr/>
          </p:nvGrpSpPr>
          <p:grpSpPr>
            <a:xfrm>
              <a:off x="3962520" y="2895480"/>
              <a:ext cx="380880" cy="579600"/>
              <a:chOff x="3962520" y="2895480"/>
              <a:chExt cx="380880" cy="579600"/>
            </a:xfrm>
          </p:grpSpPr>
          <p:sp>
            <p:nvSpPr>
              <p:cNvPr id="667" name=""/>
              <p:cNvSpPr/>
              <p:nvPr/>
            </p:nvSpPr>
            <p:spPr>
              <a:xfrm>
                <a:off x="3962520" y="29718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962520" y="28954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4496040" y="2286000"/>
              <a:ext cx="380880" cy="579600"/>
              <a:chOff x="4496040" y="2286000"/>
              <a:chExt cx="380880" cy="579600"/>
            </a:xfrm>
          </p:grpSpPr>
          <p:sp>
            <p:nvSpPr>
              <p:cNvPr id="670" name=""/>
              <p:cNvSpPr/>
              <p:nvPr/>
            </p:nvSpPr>
            <p:spPr>
              <a:xfrm>
                <a:off x="4496040" y="23623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496040" y="22860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2" name=""/>
            <p:cNvSpPr/>
            <p:nvPr/>
          </p:nvSpPr>
          <p:spPr>
            <a:xfrm>
              <a:off x="4496040" y="22860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62520" y="28954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4267440" y="2666880"/>
              <a:ext cx="3045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6705720" y="2286000"/>
            <a:ext cx="1295280" cy="1189080"/>
            <a:chOff x="6705720" y="2286000"/>
            <a:chExt cx="1295280" cy="1189080"/>
          </a:xfrm>
        </p:grpSpPr>
        <p:grpSp>
          <p:nvGrpSpPr>
            <p:cNvPr id="676" name=""/>
            <p:cNvGrpSpPr/>
            <p:nvPr/>
          </p:nvGrpSpPr>
          <p:grpSpPr>
            <a:xfrm>
              <a:off x="7239240" y="2895840"/>
              <a:ext cx="380880" cy="579240"/>
              <a:chOff x="7239240" y="2895840"/>
              <a:chExt cx="380880" cy="579240"/>
            </a:xfrm>
          </p:grpSpPr>
          <p:sp>
            <p:nvSpPr>
              <p:cNvPr id="677" name=""/>
              <p:cNvSpPr/>
              <p:nvPr/>
            </p:nvSpPr>
            <p:spPr>
              <a:xfrm>
                <a:off x="7239240" y="297180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239240" y="289584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6705720" y="2286000"/>
              <a:ext cx="380880" cy="579600"/>
              <a:chOff x="6705720" y="2286000"/>
              <a:chExt cx="380880" cy="579600"/>
            </a:xfrm>
          </p:grpSpPr>
          <p:sp>
            <p:nvSpPr>
              <p:cNvPr id="680" name=""/>
              <p:cNvSpPr/>
              <p:nvPr/>
            </p:nvSpPr>
            <p:spPr>
              <a:xfrm>
                <a:off x="6705720" y="23623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705720" y="22860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>
              <a:off x="6705720" y="22860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39240" y="289584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010640" y="2667240"/>
              <a:ext cx="3808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762120" y="3733920"/>
            <a:ext cx="18288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rd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3886200" y="3733920"/>
            <a:ext cx="1295280" cy="1189080"/>
            <a:chOff x="3886200" y="3733920"/>
            <a:chExt cx="1295280" cy="1189080"/>
          </a:xfrm>
        </p:grpSpPr>
        <p:grpSp>
          <p:nvGrpSpPr>
            <p:cNvPr id="687" name=""/>
            <p:cNvGrpSpPr/>
            <p:nvPr/>
          </p:nvGrpSpPr>
          <p:grpSpPr>
            <a:xfrm>
              <a:off x="3886200" y="4343400"/>
              <a:ext cx="380880" cy="579600"/>
              <a:chOff x="3886200" y="4343400"/>
              <a:chExt cx="380880" cy="579600"/>
            </a:xfrm>
          </p:grpSpPr>
          <p:sp>
            <p:nvSpPr>
              <p:cNvPr id="688" name=""/>
              <p:cNvSpPr/>
              <p:nvPr/>
            </p:nvSpPr>
            <p:spPr>
              <a:xfrm>
                <a:off x="3886200" y="44197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886200" y="43434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4419720" y="3733920"/>
              <a:ext cx="380880" cy="579600"/>
              <a:chOff x="4419720" y="3733920"/>
              <a:chExt cx="380880" cy="579600"/>
            </a:xfrm>
          </p:grpSpPr>
          <p:sp>
            <p:nvSpPr>
              <p:cNvPr id="691" name=""/>
              <p:cNvSpPr/>
              <p:nvPr/>
            </p:nvSpPr>
            <p:spPr>
              <a:xfrm>
                <a:off x="4419720" y="381024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19720" y="373392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>
              <a:off x="4419720" y="373392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886200" y="43434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4191120" y="4114800"/>
              <a:ext cx="3045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6629400" y="3733920"/>
            <a:ext cx="1295280" cy="1189080"/>
            <a:chOff x="6629400" y="3733920"/>
            <a:chExt cx="1295280" cy="1189080"/>
          </a:xfrm>
        </p:grpSpPr>
        <p:grpSp>
          <p:nvGrpSpPr>
            <p:cNvPr id="697" name=""/>
            <p:cNvGrpSpPr/>
            <p:nvPr/>
          </p:nvGrpSpPr>
          <p:grpSpPr>
            <a:xfrm>
              <a:off x="7162920" y="4343760"/>
              <a:ext cx="380880" cy="579240"/>
              <a:chOff x="7162920" y="4343760"/>
              <a:chExt cx="380880" cy="579240"/>
            </a:xfrm>
          </p:grpSpPr>
          <p:sp>
            <p:nvSpPr>
              <p:cNvPr id="698" name=""/>
              <p:cNvSpPr/>
              <p:nvPr/>
            </p:nvSpPr>
            <p:spPr>
              <a:xfrm>
                <a:off x="7162920" y="441972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162920" y="434376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6629400" y="3733920"/>
              <a:ext cx="380880" cy="579600"/>
              <a:chOff x="6629400" y="3733920"/>
              <a:chExt cx="380880" cy="579600"/>
            </a:xfrm>
          </p:grpSpPr>
          <p:sp>
            <p:nvSpPr>
              <p:cNvPr id="701" name=""/>
              <p:cNvSpPr/>
              <p:nvPr/>
            </p:nvSpPr>
            <p:spPr>
              <a:xfrm>
                <a:off x="6629400" y="381024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629400" y="373392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3" name=""/>
            <p:cNvSpPr/>
            <p:nvPr/>
          </p:nvSpPr>
          <p:spPr>
            <a:xfrm>
              <a:off x="6629400" y="37339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162920" y="434376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934320" y="4115160"/>
              <a:ext cx="3808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838080" y="5181480"/>
            <a:ext cx="22100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ord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3962520" y="5181480"/>
            <a:ext cx="1295280" cy="1189080"/>
            <a:chOff x="3962520" y="5181480"/>
            <a:chExt cx="1295280" cy="1189080"/>
          </a:xfrm>
        </p:grpSpPr>
        <p:grpSp>
          <p:nvGrpSpPr>
            <p:cNvPr id="708" name=""/>
            <p:cNvGrpSpPr/>
            <p:nvPr/>
          </p:nvGrpSpPr>
          <p:grpSpPr>
            <a:xfrm>
              <a:off x="3962520" y="5790960"/>
              <a:ext cx="380880" cy="579600"/>
              <a:chOff x="3962520" y="5790960"/>
              <a:chExt cx="380880" cy="579600"/>
            </a:xfrm>
          </p:grpSpPr>
          <p:sp>
            <p:nvSpPr>
              <p:cNvPr id="709" name=""/>
              <p:cNvSpPr/>
              <p:nvPr/>
            </p:nvSpPr>
            <p:spPr>
              <a:xfrm>
                <a:off x="3962520" y="586728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962520" y="579096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4496040" y="5181480"/>
              <a:ext cx="380880" cy="579600"/>
              <a:chOff x="4496040" y="5181480"/>
              <a:chExt cx="380880" cy="579600"/>
            </a:xfrm>
          </p:grpSpPr>
          <p:sp>
            <p:nvSpPr>
              <p:cNvPr id="712" name=""/>
              <p:cNvSpPr/>
              <p:nvPr/>
            </p:nvSpPr>
            <p:spPr>
              <a:xfrm>
                <a:off x="4496040" y="52578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4496040" y="51814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4" name=""/>
            <p:cNvSpPr/>
            <p:nvPr/>
          </p:nvSpPr>
          <p:spPr>
            <a:xfrm>
              <a:off x="4496040" y="518148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962520" y="57909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4267440" y="5562360"/>
              <a:ext cx="3045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6705720" y="5181480"/>
            <a:ext cx="1295280" cy="1189080"/>
            <a:chOff x="6705720" y="5181480"/>
            <a:chExt cx="1295280" cy="1189080"/>
          </a:xfrm>
        </p:grpSpPr>
        <p:grpSp>
          <p:nvGrpSpPr>
            <p:cNvPr id="718" name=""/>
            <p:cNvGrpSpPr/>
            <p:nvPr/>
          </p:nvGrpSpPr>
          <p:grpSpPr>
            <a:xfrm>
              <a:off x="7239240" y="5791320"/>
              <a:ext cx="380880" cy="579240"/>
              <a:chOff x="7239240" y="5791320"/>
              <a:chExt cx="380880" cy="579240"/>
            </a:xfrm>
          </p:grpSpPr>
          <p:sp>
            <p:nvSpPr>
              <p:cNvPr id="719" name=""/>
              <p:cNvSpPr/>
              <p:nvPr/>
            </p:nvSpPr>
            <p:spPr>
              <a:xfrm>
                <a:off x="7239240" y="58672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239240" y="57913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6705720" y="5181480"/>
              <a:ext cx="380880" cy="579600"/>
              <a:chOff x="6705720" y="5181480"/>
              <a:chExt cx="380880" cy="579600"/>
            </a:xfrm>
          </p:grpSpPr>
          <p:sp>
            <p:nvSpPr>
              <p:cNvPr id="722" name=""/>
              <p:cNvSpPr/>
              <p:nvPr/>
            </p:nvSpPr>
            <p:spPr>
              <a:xfrm>
                <a:off x="6705720" y="52578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705720" y="51814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4" name=""/>
            <p:cNvSpPr/>
            <p:nvPr/>
          </p:nvSpPr>
          <p:spPr>
            <a:xfrm>
              <a:off x="6705720" y="51814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239240" y="579132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010640" y="5562720"/>
              <a:ext cx="3808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ary Tree Construc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n you construct the binary tree, given two traversal sequenc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pends on which two sequences are giv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eorder And Postord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ord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3886200" y="1371600"/>
            <a:ext cx="1295280" cy="1189080"/>
            <a:chOff x="3886200" y="1371600"/>
            <a:chExt cx="1295280" cy="1189080"/>
          </a:xfrm>
        </p:grpSpPr>
        <p:grpSp>
          <p:nvGrpSpPr>
            <p:cNvPr id="732" name=""/>
            <p:cNvGrpSpPr/>
            <p:nvPr/>
          </p:nvGrpSpPr>
          <p:grpSpPr>
            <a:xfrm>
              <a:off x="3886200" y="1981080"/>
              <a:ext cx="380880" cy="579600"/>
              <a:chOff x="3886200" y="1981080"/>
              <a:chExt cx="380880" cy="579600"/>
            </a:xfrm>
          </p:grpSpPr>
          <p:sp>
            <p:nvSpPr>
              <p:cNvPr id="733" name=""/>
              <p:cNvSpPr/>
              <p:nvPr/>
            </p:nvSpPr>
            <p:spPr>
              <a:xfrm>
                <a:off x="3886200" y="2057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3886200" y="1981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4419720" y="1371600"/>
              <a:ext cx="380880" cy="579600"/>
              <a:chOff x="4419720" y="1371600"/>
              <a:chExt cx="380880" cy="579600"/>
            </a:xfrm>
          </p:grpSpPr>
          <p:sp>
            <p:nvSpPr>
              <p:cNvPr id="736" name=""/>
              <p:cNvSpPr/>
              <p:nvPr/>
            </p:nvSpPr>
            <p:spPr>
              <a:xfrm>
                <a:off x="4419720" y="14479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419720" y="13716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8" name=""/>
            <p:cNvSpPr/>
            <p:nvPr/>
          </p:nvSpPr>
          <p:spPr>
            <a:xfrm>
              <a:off x="4419720" y="13716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886200" y="1981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4191120" y="1752480"/>
              <a:ext cx="3045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6629400" y="1371600"/>
            <a:ext cx="1295280" cy="1189080"/>
            <a:chOff x="6629400" y="1371600"/>
            <a:chExt cx="1295280" cy="1189080"/>
          </a:xfrm>
        </p:grpSpPr>
        <p:grpSp>
          <p:nvGrpSpPr>
            <p:cNvPr id="742" name=""/>
            <p:cNvGrpSpPr/>
            <p:nvPr/>
          </p:nvGrpSpPr>
          <p:grpSpPr>
            <a:xfrm>
              <a:off x="7162920" y="1981440"/>
              <a:ext cx="380880" cy="579240"/>
              <a:chOff x="7162920" y="1981440"/>
              <a:chExt cx="380880" cy="579240"/>
            </a:xfrm>
          </p:grpSpPr>
          <p:sp>
            <p:nvSpPr>
              <p:cNvPr id="743" name=""/>
              <p:cNvSpPr/>
              <p:nvPr/>
            </p:nvSpPr>
            <p:spPr>
              <a:xfrm>
                <a:off x="7162920" y="205740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162920" y="198144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6629400" y="1371600"/>
              <a:ext cx="380880" cy="579600"/>
              <a:chOff x="6629400" y="1371600"/>
              <a:chExt cx="380880" cy="579600"/>
            </a:xfrm>
          </p:grpSpPr>
          <p:sp>
            <p:nvSpPr>
              <p:cNvPr id="746" name=""/>
              <p:cNvSpPr/>
              <p:nvPr/>
            </p:nvSpPr>
            <p:spPr>
              <a:xfrm>
                <a:off x="6629400" y="14479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629400" y="13716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8" name=""/>
            <p:cNvSpPr/>
            <p:nvPr/>
          </p:nvSpPr>
          <p:spPr>
            <a:xfrm>
              <a:off x="6629400" y="13716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162920" y="198144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934320" y="1752840"/>
              <a:ext cx="3808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762120" y="1981080"/>
            <a:ext cx="2743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rd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04920" y="3200400"/>
            <a:ext cx="85341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order and postorder do not uniquely define a binary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 do preorder and level order (same exampl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 do postorder and level order (same exampl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order And Preord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ord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g d h b e i a f j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orde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= a b d g h e i c f 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 the preorder left to right using the inorder to separate left and right sub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root of the tree;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dhbe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in the left subtree;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j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in the right sub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86000" y="4495680"/>
            <a:ext cx="4572000" cy="1663560"/>
            <a:chOff x="2286000" y="4495680"/>
            <a:chExt cx="4572000" cy="1663560"/>
          </a:xfrm>
        </p:grpSpPr>
        <p:grpSp>
          <p:nvGrpSpPr>
            <p:cNvPr id="756" name=""/>
            <p:cNvGrpSpPr/>
            <p:nvPr/>
          </p:nvGrpSpPr>
          <p:grpSpPr>
            <a:xfrm>
              <a:off x="4267080" y="4495680"/>
              <a:ext cx="380880" cy="579600"/>
              <a:chOff x="4267080" y="4495680"/>
              <a:chExt cx="380880" cy="579600"/>
            </a:xfrm>
          </p:grpSpPr>
          <p:sp>
            <p:nvSpPr>
              <p:cNvPr id="757" name=""/>
              <p:cNvSpPr/>
              <p:nvPr/>
            </p:nvSpPr>
            <p:spPr>
              <a:xfrm>
                <a:off x="4267080" y="45720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267080" y="44956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9" name=""/>
            <p:cNvSpPr/>
            <p:nvPr/>
          </p:nvSpPr>
          <p:spPr>
            <a:xfrm flipH="1">
              <a:off x="2895480" y="480060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572000" y="4876920"/>
              <a:ext cx="129528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267080" y="44956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286000" y="56386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gdhbe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562720" y="56386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fj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order And Preord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order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 b d g h e i c f 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the next root; 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gd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re in the left subtree; 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e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re in the right subtre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1905120" y="838080"/>
            <a:ext cx="4572000" cy="1663560"/>
            <a:chOff x="1905120" y="838080"/>
            <a:chExt cx="4572000" cy="1663560"/>
          </a:xfrm>
        </p:grpSpPr>
        <p:grpSp>
          <p:nvGrpSpPr>
            <p:cNvPr id="767" name=""/>
            <p:cNvGrpSpPr/>
            <p:nvPr/>
          </p:nvGrpSpPr>
          <p:grpSpPr>
            <a:xfrm>
              <a:off x="3886200" y="838080"/>
              <a:ext cx="380880" cy="579600"/>
              <a:chOff x="3886200" y="838080"/>
              <a:chExt cx="380880" cy="579600"/>
            </a:xfrm>
          </p:grpSpPr>
          <p:sp>
            <p:nvSpPr>
              <p:cNvPr id="768" name=""/>
              <p:cNvSpPr/>
              <p:nvPr/>
            </p:nvSpPr>
            <p:spPr>
              <a:xfrm>
                <a:off x="3886200" y="914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886200" y="838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0" name=""/>
            <p:cNvSpPr/>
            <p:nvPr/>
          </p:nvSpPr>
          <p:spPr>
            <a:xfrm flipH="1">
              <a:off x="2514600" y="114300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191120" y="1219320"/>
              <a:ext cx="129528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886200" y="838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905120" y="19810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gdhbe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181840" y="19810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fj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1447920" y="4267080"/>
            <a:ext cx="4724280" cy="2273400"/>
            <a:chOff x="1447920" y="4267080"/>
            <a:chExt cx="4724280" cy="2273400"/>
          </a:xfrm>
        </p:grpSpPr>
        <p:grpSp>
          <p:nvGrpSpPr>
            <p:cNvPr id="776" name=""/>
            <p:cNvGrpSpPr/>
            <p:nvPr/>
          </p:nvGrpSpPr>
          <p:grpSpPr>
            <a:xfrm>
              <a:off x="3581280" y="4267080"/>
              <a:ext cx="380880" cy="579600"/>
              <a:chOff x="3581280" y="4267080"/>
              <a:chExt cx="380880" cy="579600"/>
            </a:xfrm>
          </p:grpSpPr>
          <p:sp>
            <p:nvSpPr>
              <p:cNvPr id="777" name=""/>
              <p:cNvSpPr/>
              <p:nvPr/>
            </p:nvSpPr>
            <p:spPr>
              <a:xfrm>
                <a:off x="3581280" y="4343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581280" y="4267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9" name=""/>
            <p:cNvSpPr/>
            <p:nvPr/>
          </p:nvSpPr>
          <p:spPr>
            <a:xfrm flipH="1">
              <a:off x="2209680" y="457200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886200" y="4648320"/>
              <a:ext cx="129528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581280" y="4267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447920" y="601992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gd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876920" y="54100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fj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4" name=""/>
            <p:cNvGrpSpPr/>
            <p:nvPr/>
          </p:nvGrpSpPr>
          <p:grpSpPr>
            <a:xfrm>
              <a:off x="1981080" y="5334120"/>
              <a:ext cx="380880" cy="579240"/>
              <a:chOff x="1981080" y="5334120"/>
              <a:chExt cx="380880" cy="579240"/>
            </a:xfrm>
          </p:grpSpPr>
          <p:sp>
            <p:nvSpPr>
              <p:cNvPr id="785" name=""/>
              <p:cNvSpPr/>
              <p:nvPr/>
            </p:nvSpPr>
            <p:spPr>
              <a:xfrm>
                <a:off x="1981080" y="54100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981080" y="53341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7" name=""/>
            <p:cNvSpPr/>
            <p:nvPr/>
          </p:nvSpPr>
          <p:spPr>
            <a:xfrm>
              <a:off x="1981080" y="53341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438280" y="601992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e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1752120" y="5791320"/>
              <a:ext cx="30492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286000" y="579132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order And Preord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838080" y="2819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order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 d g h e i c f 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the next root; 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in the left subtree; 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in the right subtre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1828800" y="685800"/>
            <a:ext cx="4724280" cy="2273040"/>
            <a:chOff x="1828800" y="685800"/>
            <a:chExt cx="4724280" cy="2273040"/>
          </a:xfrm>
        </p:grpSpPr>
        <p:grpSp>
          <p:nvGrpSpPr>
            <p:cNvPr id="794" name=""/>
            <p:cNvGrpSpPr/>
            <p:nvPr/>
          </p:nvGrpSpPr>
          <p:grpSpPr>
            <a:xfrm>
              <a:off x="3962160" y="685800"/>
              <a:ext cx="380880" cy="579240"/>
              <a:chOff x="3962160" y="685800"/>
              <a:chExt cx="380880" cy="579240"/>
            </a:xfrm>
          </p:grpSpPr>
          <p:sp>
            <p:nvSpPr>
              <p:cNvPr id="795" name=""/>
              <p:cNvSpPr/>
              <p:nvPr/>
            </p:nvSpPr>
            <p:spPr>
              <a:xfrm>
                <a:off x="3962160" y="76176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962160" y="68580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7" name=""/>
            <p:cNvSpPr/>
            <p:nvPr/>
          </p:nvSpPr>
          <p:spPr>
            <a:xfrm flipH="1">
              <a:off x="2590560" y="990360"/>
              <a:ext cx="137160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67080" y="1066680"/>
              <a:ext cx="129528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962160" y="6858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828800" y="243828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gd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257800" y="182844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fj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2" name=""/>
            <p:cNvGrpSpPr/>
            <p:nvPr/>
          </p:nvGrpSpPr>
          <p:grpSpPr>
            <a:xfrm>
              <a:off x="2361960" y="1752480"/>
              <a:ext cx="380880" cy="578880"/>
              <a:chOff x="2361960" y="1752480"/>
              <a:chExt cx="380880" cy="578880"/>
            </a:xfrm>
          </p:grpSpPr>
          <p:sp>
            <p:nvSpPr>
              <p:cNvPr id="803" name=""/>
              <p:cNvSpPr/>
              <p:nvPr/>
            </p:nvSpPr>
            <p:spPr>
              <a:xfrm>
                <a:off x="2361960" y="1828440"/>
                <a:ext cx="380880" cy="3801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361960" y="1752480"/>
                <a:ext cx="380880" cy="57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5" name=""/>
            <p:cNvSpPr/>
            <p:nvPr/>
          </p:nvSpPr>
          <p:spPr>
            <a:xfrm>
              <a:off x="2361960" y="17524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819160" y="24382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e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2133000" y="2209680"/>
              <a:ext cx="304920" cy="30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666880" y="2209680"/>
              <a:ext cx="304920" cy="38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1981080" y="4357800"/>
            <a:ext cx="4572000" cy="2349360"/>
            <a:chOff x="1981080" y="4357800"/>
            <a:chExt cx="4572000" cy="2349360"/>
          </a:xfrm>
        </p:grpSpPr>
        <p:grpSp>
          <p:nvGrpSpPr>
            <p:cNvPr id="810" name=""/>
            <p:cNvGrpSpPr/>
            <p:nvPr/>
          </p:nvGrpSpPr>
          <p:grpSpPr>
            <a:xfrm>
              <a:off x="4038480" y="4357800"/>
              <a:ext cx="380880" cy="579240"/>
              <a:chOff x="4038480" y="4357800"/>
              <a:chExt cx="380880" cy="579240"/>
            </a:xfrm>
          </p:grpSpPr>
          <p:sp>
            <p:nvSpPr>
              <p:cNvPr id="811" name=""/>
              <p:cNvSpPr/>
              <p:nvPr/>
            </p:nvSpPr>
            <p:spPr>
              <a:xfrm>
                <a:off x="4038480" y="443376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038480" y="435780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3" name=""/>
            <p:cNvSpPr/>
            <p:nvPr/>
          </p:nvSpPr>
          <p:spPr>
            <a:xfrm>
              <a:off x="4038480" y="43578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981080" y="60958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257800" y="487692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fj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6" name=""/>
            <p:cNvGrpSpPr/>
            <p:nvPr/>
          </p:nvGrpSpPr>
          <p:grpSpPr>
            <a:xfrm>
              <a:off x="2895480" y="4876920"/>
              <a:ext cx="380880" cy="579240"/>
              <a:chOff x="2895480" y="4876920"/>
              <a:chExt cx="380880" cy="579240"/>
            </a:xfrm>
          </p:grpSpPr>
          <p:sp>
            <p:nvSpPr>
              <p:cNvPr id="817" name=""/>
              <p:cNvSpPr/>
              <p:nvPr/>
            </p:nvSpPr>
            <p:spPr>
              <a:xfrm>
                <a:off x="2895480" y="49528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895480" y="48769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9" name=""/>
            <p:cNvSpPr/>
            <p:nvPr/>
          </p:nvSpPr>
          <p:spPr>
            <a:xfrm>
              <a:off x="2895480" y="48769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352680" y="556272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e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2666520" y="5334120"/>
              <a:ext cx="30492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200400" y="533412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3124080" y="4648320"/>
              <a:ext cx="91440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419720" y="4648320"/>
              <a:ext cx="10666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5" name=""/>
            <p:cNvGrpSpPr/>
            <p:nvPr/>
          </p:nvGrpSpPr>
          <p:grpSpPr>
            <a:xfrm>
              <a:off x="2438280" y="5562720"/>
              <a:ext cx="380880" cy="579240"/>
              <a:chOff x="2438280" y="5562720"/>
              <a:chExt cx="380880" cy="579240"/>
            </a:xfrm>
          </p:grpSpPr>
          <p:sp>
            <p:nvSpPr>
              <p:cNvPr id="826" name=""/>
              <p:cNvSpPr/>
              <p:nvPr/>
            </p:nvSpPr>
            <p:spPr>
              <a:xfrm>
                <a:off x="2438280" y="56386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438280" y="55627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8" name=""/>
            <p:cNvSpPr/>
            <p:nvPr/>
          </p:nvSpPr>
          <p:spPr>
            <a:xfrm>
              <a:off x="2438280" y="55627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2209320" y="6019920"/>
              <a:ext cx="30492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743200" y="6019920"/>
              <a:ext cx="30492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971800" y="6186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order And Postord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 postorder from right to left using inorder to separate left and right sub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order 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= g d h b e i a f j 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torder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 = g h d i e b j f c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e roo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dhbe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in left subtree;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j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in right sub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order And Level Ord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 level order from left to right using inorder to separate left and right sub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order 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= g d h b e i a f j 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vel order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 = a b c d e f g h i 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e roo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dhbe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in left subtree;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j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in right sub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eorder Traversal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MS Mincho"/>
              </a:rPr>
              <a:t>public static v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preOrder(BinaryTreeNode 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MS Mincho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(t != nul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MS Mincho"/>
              </a:rPr>
              <a:t>visit(t)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preOrder(t.leftChild);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preOrder(t.rightChild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eorder Example (visit = print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743200" y="1371600"/>
            <a:ext cx="3962520" cy="1646280"/>
            <a:chOff x="2743200" y="1371600"/>
            <a:chExt cx="3962520" cy="1646280"/>
          </a:xfrm>
        </p:grpSpPr>
        <p:grpSp>
          <p:nvGrpSpPr>
            <p:cNvPr id="58" name=""/>
            <p:cNvGrpSpPr/>
            <p:nvPr/>
          </p:nvGrpSpPr>
          <p:grpSpPr>
            <a:xfrm>
              <a:off x="5943600" y="2438280"/>
              <a:ext cx="380880" cy="579600"/>
              <a:chOff x="5943600" y="2438280"/>
              <a:chExt cx="380880" cy="579600"/>
            </a:xfrm>
          </p:grpSpPr>
          <p:sp>
            <p:nvSpPr>
              <p:cNvPr id="59" name=""/>
              <p:cNvSpPr/>
              <p:nvPr/>
            </p:nvSpPr>
            <p:spPr>
              <a:xfrm>
                <a:off x="59436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9436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2743200" y="2438280"/>
              <a:ext cx="380880" cy="579600"/>
              <a:chOff x="2743200" y="2438280"/>
              <a:chExt cx="380880" cy="579600"/>
            </a:xfrm>
          </p:grpSpPr>
          <p:sp>
            <p:nvSpPr>
              <p:cNvPr id="62" name=""/>
              <p:cNvSpPr/>
              <p:nvPr/>
            </p:nvSpPr>
            <p:spPr>
              <a:xfrm>
                <a:off x="27432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7432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4419720" y="1371600"/>
              <a:ext cx="380880" cy="579600"/>
              <a:chOff x="4419720" y="1371600"/>
              <a:chExt cx="380880" cy="579600"/>
            </a:xfrm>
          </p:grpSpPr>
          <p:sp>
            <p:nvSpPr>
              <p:cNvPr id="65" name=""/>
              <p:cNvSpPr/>
              <p:nvPr/>
            </p:nvSpPr>
            <p:spPr>
              <a:xfrm>
                <a:off x="4419720" y="14479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419720" y="13716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 flipH="1">
              <a:off x="3048120" y="167652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724280" y="1752480"/>
              <a:ext cx="129564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419720" y="13716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432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436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038480" y="35053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35053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48320" y="35053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eorder Example (visit = print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143000" y="1371600"/>
            <a:ext cx="5562720" cy="3322800"/>
            <a:chOff x="1143000" y="1371600"/>
            <a:chExt cx="5562720" cy="3322800"/>
          </a:xfrm>
        </p:grpSpPr>
        <p:grpSp>
          <p:nvGrpSpPr>
            <p:cNvPr id="77" name=""/>
            <p:cNvGrpSpPr/>
            <p:nvPr/>
          </p:nvGrpSpPr>
          <p:grpSpPr>
            <a:xfrm>
              <a:off x="1600200" y="3429000"/>
              <a:ext cx="380880" cy="579600"/>
              <a:chOff x="1600200" y="3429000"/>
              <a:chExt cx="380880" cy="579600"/>
            </a:xfrm>
          </p:grpSpPr>
          <p:sp>
            <p:nvSpPr>
              <p:cNvPr id="78" name=""/>
              <p:cNvSpPr/>
              <p:nvPr/>
            </p:nvSpPr>
            <p:spPr>
              <a:xfrm>
                <a:off x="1600200" y="35053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600200" y="34290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1143000" y="4114800"/>
              <a:ext cx="380880" cy="579600"/>
              <a:chOff x="1143000" y="4114800"/>
              <a:chExt cx="380880" cy="579600"/>
            </a:xfrm>
          </p:grpSpPr>
          <p:sp>
            <p:nvSpPr>
              <p:cNvPr id="81" name=""/>
              <p:cNvSpPr/>
              <p:nvPr/>
            </p:nvSpPr>
            <p:spPr>
              <a:xfrm>
                <a:off x="114300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14300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2133720" y="4114800"/>
              <a:ext cx="380880" cy="579600"/>
              <a:chOff x="2133720" y="4114800"/>
              <a:chExt cx="380880" cy="579600"/>
            </a:xfrm>
          </p:grpSpPr>
          <p:sp>
            <p:nvSpPr>
              <p:cNvPr id="84" name=""/>
              <p:cNvSpPr/>
              <p:nvPr/>
            </p:nvSpPr>
            <p:spPr>
              <a:xfrm>
                <a:off x="213372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13372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 flipH="1">
              <a:off x="1447560" y="3809880"/>
              <a:ext cx="2286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81080" y="37339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3581280" y="3352680"/>
              <a:ext cx="380880" cy="579600"/>
              <a:chOff x="3581280" y="3352680"/>
              <a:chExt cx="380880" cy="579600"/>
            </a:xfrm>
          </p:grpSpPr>
          <p:sp>
            <p:nvSpPr>
              <p:cNvPr id="89" name=""/>
              <p:cNvSpPr/>
              <p:nvPr/>
            </p:nvSpPr>
            <p:spPr>
              <a:xfrm>
                <a:off x="3581280" y="34290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581280" y="33526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4038480" y="4114800"/>
              <a:ext cx="380880" cy="579600"/>
              <a:chOff x="4038480" y="4114800"/>
              <a:chExt cx="380880" cy="579600"/>
            </a:xfrm>
          </p:grpSpPr>
          <p:sp>
            <p:nvSpPr>
              <p:cNvPr id="92" name=""/>
              <p:cNvSpPr/>
              <p:nvPr/>
            </p:nvSpPr>
            <p:spPr>
              <a:xfrm>
                <a:off x="403848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03848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3886200" y="37339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943600" y="2438280"/>
              <a:ext cx="380880" cy="579600"/>
              <a:chOff x="5943600" y="2438280"/>
              <a:chExt cx="380880" cy="579600"/>
            </a:xfrm>
          </p:grpSpPr>
          <p:sp>
            <p:nvSpPr>
              <p:cNvPr id="96" name=""/>
              <p:cNvSpPr/>
              <p:nvPr/>
            </p:nvSpPr>
            <p:spPr>
              <a:xfrm>
                <a:off x="59436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9436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5486400" y="3124080"/>
              <a:ext cx="380880" cy="579600"/>
              <a:chOff x="5486400" y="3124080"/>
              <a:chExt cx="380880" cy="579600"/>
            </a:xfrm>
          </p:grpSpPr>
          <p:sp>
            <p:nvSpPr>
              <p:cNvPr id="99" name=""/>
              <p:cNvSpPr/>
              <p:nvPr/>
            </p:nvSpPr>
            <p:spPr>
              <a:xfrm>
                <a:off x="5486400" y="3200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486400" y="3124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 flipH="1">
              <a:off x="5790960" y="281952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2743200" y="2438280"/>
              <a:ext cx="380880" cy="579600"/>
              <a:chOff x="2743200" y="2438280"/>
              <a:chExt cx="380880" cy="579600"/>
            </a:xfrm>
          </p:grpSpPr>
          <p:sp>
            <p:nvSpPr>
              <p:cNvPr id="103" name=""/>
              <p:cNvSpPr/>
              <p:nvPr/>
            </p:nvSpPr>
            <p:spPr>
              <a:xfrm>
                <a:off x="27432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7432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 flipH="1">
              <a:off x="1905120" y="2743200"/>
              <a:ext cx="83808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24080" y="2743200"/>
              <a:ext cx="5335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419720" y="1371600"/>
              <a:ext cx="380880" cy="579600"/>
              <a:chOff x="4419720" y="1371600"/>
              <a:chExt cx="380880" cy="579600"/>
            </a:xfrm>
          </p:grpSpPr>
          <p:sp>
            <p:nvSpPr>
              <p:cNvPr id="108" name=""/>
              <p:cNvSpPr/>
              <p:nvPr/>
            </p:nvSpPr>
            <p:spPr>
              <a:xfrm>
                <a:off x="4419720" y="14479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419720" y="13716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 flipH="1">
              <a:off x="3048120" y="167652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24280" y="1752480"/>
              <a:ext cx="129564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19720" y="13716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432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436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00200" y="34290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81280" y="33526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86400" y="3124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43000" y="40384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33720" y="41148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41148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5867280" y="3962520"/>
              <a:ext cx="380880" cy="579240"/>
              <a:chOff x="5867280" y="3962520"/>
              <a:chExt cx="380880" cy="579240"/>
            </a:xfrm>
          </p:grpSpPr>
          <p:sp>
            <p:nvSpPr>
              <p:cNvPr id="122" name=""/>
              <p:cNvSpPr/>
              <p:nvPr/>
            </p:nvSpPr>
            <p:spPr>
              <a:xfrm>
                <a:off x="5867280" y="40384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867280" y="39625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5715000" y="35812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943600" y="39625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6858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0512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290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eorder Of Expression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447920" y="1143000"/>
            <a:ext cx="5715000" cy="3400920"/>
            <a:chOff x="1447920" y="1143000"/>
            <a:chExt cx="5715000" cy="3400920"/>
          </a:xfrm>
        </p:grpSpPr>
        <p:sp>
          <p:nvSpPr>
            <p:cNvPr id="138" name=""/>
            <p:cNvSpPr/>
            <p:nvPr/>
          </p:nvSpPr>
          <p:spPr>
            <a:xfrm>
              <a:off x="1905120" y="327672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05120" y="3200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7920" y="396252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47920" y="3809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38280" y="396252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38280" y="38862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752120" y="3581280"/>
              <a:ext cx="2286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86000" y="35053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62520" y="3352680"/>
              <a:ext cx="380880" cy="381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32767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5320" y="4038480"/>
              <a:ext cx="380880" cy="381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95680" y="4038480"/>
              <a:ext cx="381240" cy="381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956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3809520" y="365760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43400" y="35812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48520" y="228600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48520" y="2209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91320" y="297180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91320" y="28195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81680" y="297180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781680" y="2895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6095520" y="259092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29400" y="251460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48120" y="228600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48120" y="2209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2209320" y="2514600"/>
              <a:ext cx="83844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29000" y="2514600"/>
              <a:ext cx="60948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724280" y="121932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1430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3352680" y="144792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29200" y="1523880"/>
              <a:ext cx="129528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1523880" y="594360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s prefix form of express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51055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9092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51055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004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0532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9880" y="51055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48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1972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006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order Traversal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MS Mincho"/>
              </a:rPr>
              <a:t>public static voi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inOrder(BinaryTreeNode 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MS Mincho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(t != nul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inOrder(t.leftChild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MS Mincho"/>
              </a:rPr>
              <a:t>visit(t)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inOrder(t.rightChild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order Example (visit = print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743200" y="1371600"/>
            <a:ext cx="3962520" cy="1646280"/>
            <a:chOff x="2743200" y="1371600"/>
            <a:chExt cx="3962520" cy="1646280"/>
          </a:xfrm>
        </p:grpSpPr>
        <p:grpSp>
          <p:nvGrpSpPr>
            <p:cNvPr id="186" name=""/>
            <p:cNvGrpSpPr/>
            <p:nvPr/>
          </p:nvGrpSpPr>
          <p:grpSpPr>
            <a:xfrm>
              <a:off x="5943600" y="2438280"/>
              <a:ext cx="380880" cy="579600"/>
              <a:chOff x="5943600" y="2438280"/>
              <a:chExt cx="380880" cy="579600"/>
            </a:xfrm>
          </p:grpSpPr>
          <p:sp>
            <p:nvSpPr>
              <p:cNvPr id="187" name=""/>
              <p:cNvSpPr/>
              <p:nvPr/>
            </p:nvSpPr>
            <p:spPr>
              <a:xfrm>
                <a:off x="59436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9436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2743200" y="2438280"/>
              <a:ext cx="380880" cy="579600"/>
              <a:chOff x="2743200" y="2438280"/>
              <a:chExt cx="380880" cy="579600"/>
            </a:xfrm>
          </p:grpSpPr>
          <p:sp>
            <p:nvSpPr>
              <p:cNvPr id="190" name=""/>
              <p:cNvSpPr/>
              <p:nvPr/>
            </p:nvSpPr>
            <p:spPr>
              <a:xfrm>
                <a:off x="27432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7432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4419720" y="1371600"/>
              <a:ext cx="380880" cy="579600"/>
              <a:chOff x="4419720" y="1371600"/>
              <a:chExt cx="380880" cy="579600"/>
            </a:xfrm>
          </p:grpSpPr>
          <p:sp>
            <p:nvSpPr>
              <p:cNvPr id="193" name=""/>
              <p:cNvSpPr/>
              <p:nvPr/>
            </p:nvSpPr>
            <p:spPr>
              <a:xfrm>
                <a:off x="4419720" y="14479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419720" y="13716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 flipH="1">
              <a:off x="3048120" y="167652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724280" y="1752480"/>
              <a:ext cx="129564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19720" y="13716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7432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436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038480" y="35053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35053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48320" y="35053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order Example (visit = print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143000" y="1371600"/>
            <a:ext cx="5562720" cy="3322800"/>
            <a:chOff x="1143000" y="1371600"/>
            <a:chExt cx="5562720" cy="3322800"/>
          </a:xfrm>
        </p:grpSpPr>
        <p:grpSp>
          <p:nvGrpSpPr>
            <p:cNvPr id="205" name=""/>
            <p:cNvGrpSpPr/>
            <p:nvPr/>
          </p:nvGrpSpPr>
          <p:grpSpPr>
            <a:xfrm>
              <a:off x="1600200" y="3429000"/>
              <a:ext cx="380880" cy="579600"/>
              <a:chOff x="1600200" y="3429000"/>
              <a:chExt cx="380880" cy="579600"/>
            </a:xfrm>
          </p:grpSpPr>
          <p:sp>
            <p:nvSpPr>
              <p:cNvPr id="206" name=""/>
              <p:cNvSpPr/>
              <p:nvPr/>
            </p:nvSpPr>
            <p:spPr>
              <a:xfrm>
                <a:off x="1600200" y="35053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600200" y="34290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1143000" y="4114800"/>
              <a:ext cx="380880" cy="579600"/>
              <a:chOff x="1143000" y="4114800"/>
              <a:chExt cx="380880" cy="579600"/>
            </a:xfrm>
          </p:grpSpPr>
          <p:sp>
            <p:nvSpPr>
              <p:cNvPr id="209" name=""/>
              <p:cNvSpPr/>
              <p:nvPr/>
            </p:nvSpPr>
            <p:spPr>
              <a:xfrm>
                <a:off x="114300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14300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2133720" y="4114800"/>
              <a:ext cx="380880" cy="579600"/>
              <a:chOff x="2133720" y="4114800"/>
              <a:chExt cx="380880" cy="579600"/>
            </a:xfrm>
          </p:grpSpPr>
          <p:sp>
            <p:nvSpPr>
              <p:cNvPr id="212" name=""/>
              <p:cNvSpPr/>
              <p:nvPr/>
            </p:nvSpPr>
            <p:spPr>
              <a:xfrm>
                <a:off x="213372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13372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 flipH="1">
              <a:off x="1447560" y="3809880"/>
              <a:ext cx="2286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81080" y="37339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3581280" y="3352680"/>
              <a:ext cx="380880" cy="579600"/>
              <a:chOff x="3581280" y="3352680"/>
              <a:chExt cx="380880" cy="579600"/>
            </a:xfrm>
          </p:grpSpPr>
          <p:sp>
            <p:nvSpPr>
              <p:cNvPr id="217" name=""/>
              <p:cNvSpPr/>
              <p:nvPr/>
            </p:nvSpPr>
            <p:spPr>
              <a:xfrm>
                <a:off x="3581280" y="34290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581280" y="33526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038480" y="4114800"/>
              <a:ext cx="380880" cy="579600"/>
              <a:chOff x="4038480" y="4114800"/>
              <a:chExt cx="380880" cy="579600"/>
            </a:xfrm>
          </p:grpSpPr>
          <p:sp>
            <p:nvSpPr>
              <p:cNvPr id="220" name=""/>
              <p:cNvSpPr/>
              <p:nvPr/>
            </p:nvSpPr>
            <p:spPr>
              <a:xfrm>
                <a:off x="403848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03848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886200" y="37339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5943600" y="2438280"/>
              <a:ext cx="380880" cy="579600"/>
              <a:chOff x="5943600" y="2438280"/>
              <a:chExt cx="380880" cy="579600"/>
            </a:xfrm>
          </p:grpSpPr>
          <p:sp>
            <p:nvSpPr>
              <p:cNvPr id="224" name=""/>
              <p:cNvSpPr/>
              <p:nvPr/>
            </p:nvSpPr>
            <p:spPr>
              <a:xfrm>
                <a:off x="59436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9436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486400" y="3124080"/>
              <a:ext cx="380880" cy="579600"/>
              <a:chOff x="5486400" y="3124080"/>
              <a:chExt cx="380880" cy="579600"/>
            </a:xfrm>
          </p:grpSpPr>
          <p:sp>
            <p:nvSpPr>
              <p:cNvPr id="227" name=""/>
              <p:cNvSpPr/>
              <p:nvPr/>
            </p:nvSpPr>
            <p:spPr>
              <a:xfrm>
                <a:off x="5486400" y="3200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486400" y="3124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 flipH="1">
              <a:off x="5790960" y="281952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2743200" y="2438280"/>
              <a:ext cx="380880" cy="579600"/>
              <a:chOff x="2743200" y="2438280"/>
              <a:chExt cx="380880" cy="579600"/>
            </a:xfrm>
          </p:grpSpPr>
          <p:sp>
            <p:nvSpPr>
              <p:cNvPr id="231" name=""/>
              <p:cNvSpPr/>
              <p:nvPr/>
            </p:nvSpPr>
            <p:spPr>
              <a:xfrm>
                <a:off x="27432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7432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 flipH="1">
              <a:off x="1905120" y="2743200"/>
              <a:ext cx="83808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24080" y="2743200"/>
              <a:ext cx="5335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4419720" y="1371600"/>
              <a:ext cx="380880" cy="579600"/>
              <a:chOff x="4419720" y="1371600"/>
              <a:chExt cx="380880" cy="579600"/>
            </a:xfrm>
          </p:grpSpPr>
          <p:sp>
            <p:nvSpPr>
              <p:cNvPr id="236" name=""/>
              <p:cNvSpPr/>
              <p:nvPr/>
            </p:nvSpPr>
            <p:spPr>
              <a:xfrm>
                <a:off x="4419720" y="14479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419720" y="13716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 flipH="1">
              <a:off x="3048120" y="167652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24280" y="1752480"/>
              <a:ext cx="129564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19720" y="13716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432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436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600200" y="34290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581280" y="33526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486400" y="3124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43000" y="40384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1148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114800" y="41148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5867280" y="3962520"/>
              <a:ext cx="380880" cy="579240"/>
              <a:chOff x="5867280" y="3962520"/>
              <a:chExt cx="380880" cy="579240"/>
            </a:xfrm>
          </p:grpSpPr>
          <p:sp>
            <p:nvSpPr>
              <p:cNvPr id="250" name=""/>
              <p:cNvSpPr/>
              <p:nvPr/>
            </p:nvSpPr>
            <p:spPr>
              <a:xfrm>
                <a:off x="5867280" y="40384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67280" y="39625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5715000" y="35812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43600" y="39625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6858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9072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952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002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90512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096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1952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290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4-08-05T16:19:34Z</dcterms:modified>
  <cp:revision>356</cp:revision>
  <dc:subject/>
  <dc:title>Data Representation Methods</dc:title>
</cp:coreProperties>
</file>