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wmf" ContentType="image/x-wmf"/>
  <Override PartName="/ppt/media/image5.gif" ContentType="image/gi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72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99480" y="4408200"/>
            <a:ext cx="559548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aflop computer the 32yr time becomes approx 10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complexity: programming complexity, debugging complexity, complexity of compreh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F75-1A18-471F-B8A6-B7ECE14A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BA8-291C-403B-8EDB-76051962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606A-08DB-4C15-97B3-A289BF68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7DE-716C-49A4-B476-E79E2A88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8DB6-9A22-44E0-BF07-F3A70C79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D203-64A1-4D2C-8675-960372D8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C2F3-1E8E-48A0-ADB2-B4B4E886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71DD-C822-495B-B7C1-6E39C356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2A74-587B-4F84-9CDD-5D4FF24F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BD5E-E087-4FF3-94BC-3CF8DBE7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8667-BC4E-450F-9EB9-F6A66F4A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ADDC-750D-4B69-A7C6-BD2B948F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49E3-F7DF-4862-990F-880D2115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4F4D-E6EB-4066-AC8E-8DCF0D41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A175-8ADD-4656-8B36-268C55C0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2780-0D25-4181-B5B0-833869A9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7087-F1C4-49FD-90C2-FAB58B84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98A-559B-43DC-9626-0402C36E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34B-77BE-416E-8AB9-E462DA78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34A-DDA5-4B20-9A53-39C475BF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9E5-7C24-407A-BF75-F74E34DE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AA6-C49C-46F6-9EF7-019B5454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949-CC49-443D-B749-6ED01216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044-1243-4105-80B9-D4D27683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48680"/>
            <a:chOff x="0" y="4206960"/>
            <a:chExt cx="9166320" cy="284868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0" y="6624720"/>
              <a:ext cx="9132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b6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C8CF-64E1-4EDD-85DF-8E6225BBD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2120"/>
            <a:chOff x="0" y="533520"/>
            <a:chExt cx="9177480" cy="652212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0" y="6624720"/>
              <a:ext cx="9132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eb6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556F-092D-425F-9774-24CC76900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BV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57200" cy="446040"/>
          </a:xfrm>
          <a:prstGeom prst="rect">
            <a:avLst/>
          </a:prstGeom>
          <a:ln w="0">
            <a:noFill/>
          </a:ln>
        </p:spPr>
      </p:pic>
      <p:pic>
        <p:nvPicPr>
          <p:cNvPr id="147" name="BV" descr=""/>
          <p:cNvPicPr/>
          <p:nvPr/>
        </p:nvPicPr>
        <p:blipFill>
          <a:blip r:embed="rId2"/>
          <a:stretch/>
        </p:blipFill>
        <p:spPr>
          <a:xfrm>
            <a:off x="6324480" y="762120"/>
            <a:ext cx="457200" cy="4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ep is an amount of computing that does not depend on the instance characteristic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adds, 100 subtracts, 1000 multi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l be counted as a single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adds cannot be counted as 1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952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         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695600"/>
            <a:ext cx="77724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        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1143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/e isn’t always 0 o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x = MyMath.sum(a, 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n is the instance characte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s/e count of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952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         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95600"/>
            <a:ext cx="77724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         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6600" y="1143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114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3429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2i + 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count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count for body of for loop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1+2+3+…+n-1) + 3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n-1)n + 3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n-1)(n+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Asymptotic Complexity of 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lexity of 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r number of operations does not exce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any input of siz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itably larg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ly, the worst-case time is Theta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the best-case is Theta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worst-case time is expected to quadruple each ti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ou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lexity of 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o much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lgorithm pract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Practical Complexiti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/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98760" y="2211480"/>
          <a:ext cx="6207120" cy="405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2211480"/>
                    <a:ext cx="620712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mpractical Complexiti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ructions/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838160" y="2203560"/>
          <a:ext cx="6218280" cy="39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8160" y="2203560"/>
                    <a:ext cx="621828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lexity 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/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a particular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number of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tic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Faster Computer Vs Better Algorithm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ic improvement more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hardware impr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hare" descr=""/>
          <p:cNvPicPr/>
          <p:nvPr/>
        </p:nvPicPr>
        <p:blipFill>
          <a:blip r:embed="rId1"/>
          <a:stretch/>
        </p:blipFill>
        <p:spPr>
          <a:xfrm>
            <a:off x="6553080" y="990720"/>
            <a:ext cx="1543320" cy="1474560"/>
          </a:xfrm>
          <a:prstGeom prst="rect">
            <a:avLst/>
          </a:prstGeom>
          <a:ln w="0">
            <a:noFill/>
          </a:ln>
        </p:spPr>
      </p:pic>
      <p:pic>
        <p:nvPicPr>
          <p:cNvPr id="201" name="snail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365040" cy="36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n instance characteristic … n, n = a.length for insertion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count as a function of this instance character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comparisons are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ompares depend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]s and t as well as on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-case count = maximum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-case count = minimum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orst-Case 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733920"/>
            <a:ext cx="77724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[1, 2, 3, 4] and t = 0 =&gt; 4 comp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[1,2,3,…,i] and t = 0 =&gt; i comp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orst-Case 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1; i &lt; n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038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mpares = 1 + 2 + 3 + … + (n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360" y="472428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n-1)n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Agam</dc:creator>
  <dc:description/>
  <dc:language>en-US</dc:language>
  <cp:lastModifiedBy>sahni</cp:lastModifiedBy>
  <dcterms:modified xsi:type="dcterms:W3CDTF">2004-08-05T13:26:25Z</dcterms:modified>
  <cp:revision>28</cp:revision>
  <dc:subject/>
  <dc:title>Complexity of Insertion Sort</dc:title>
</cp:coreProperties>
</file>