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9132-FC84-4E4B-A641-831E5B6D65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ins may be sorted or unsorted (the text uses sorted chai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ut that increases the number of pairs in the table involves an unsuccessful search followed by the addition of an element. An unsuccessful remove is essentially an unsuccessful search. A successful remove must also go to the end of the cluster and so is like an unsuccessful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381-3496-4D0B-8093-8D968617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C78-58C8-4B49-B46A-7F7CC81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1DE-3956-4807-93A7-6CABB1BA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8C4-9956-4797-A30E-FA4EB3EE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A4C-6A7D-4A1F-A27E-7D7EA1FB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89D-C5AD-432F-BDA9-9898BFB1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C72-A140-4450-B5D3-6B77AD37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470-96C9-4AC9-BD79-8799E981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76E-490F-4C00-BBFB-9374E30E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033-AFCF-4622-93E0-9037B641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977-490E-44A2-B92B-CDCCD149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49D-6CFD-48D2-A056-35B3AFA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5FAD-BF5B-4099-AF44-4017DAFD7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verflow Hand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flow occurs when the home bucket for a new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handle overflows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he hash table in some systematic fashion for a bucket that is not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robing (linear open address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ic pro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pro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overflows by permitting each bucket to keep a list of all pairs for which it is the home bu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 linear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3204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resizing of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loading density exceeds threshol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/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ur example), rehash into a table of approximately twice the current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tabl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maximum number of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ing densit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4/5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 &gt;= 5/4*1000 = 12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qual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be a prime number or an odd number with no prime divisors small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List Of Synony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ucket keeps a linear list of all pairs for which it is the home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ar list may or may not be sorted by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ar list may be an array linear list or a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57200" y="1600200"/>
            <a:ext cx="2895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pairs whose keys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, 12, 34, 29, 28, 11, 23, 7, 0, 33, 30,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buck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 key %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7200" y="5335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rte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343400" y="0"/>
            <a:ext cx="4260960" cy="6553080"/>
            <a:chOff x="4343400" y="0"/>
            <a:chExt cx="4260960" cy="6553080"/>
          </a:xfrm>
        </p:grpSpPr>
        <p:sp>
          <p:nvSpPr>
            <p:cNvPr id="613" name=""/>
            <p:cNvSpPr/>
            <p:nvPr/>
          </p:nvSpPr>
          <p:spPr>
            <a:xfrm>
              <a:off x="5035680" y="82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35680" y="463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35680" y="844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35680" y="1225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35680" y="1606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95680" y="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19720" y="1523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21480" y="82440"/>
              <a:ext cx="44424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78680" y="824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11840" y="82440"/>
              <a:ext cx="44460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69040" y="82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81480" y="228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24480" y="228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3568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3568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3568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3568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35680" y="3511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95680" y="304812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8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21480" y="2368440"/>
              <a:ext cx="44424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78680" y="23684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1840" y="2368440"/>
              <a:ext cx="44460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69040" y="2368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2514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24480" y="2514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21480" y="274968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78680" y="274968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81480" y="28954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5680" y="3830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5680" y="42116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21480" y="421164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43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78680" y="421164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11840" y="421164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69040" y="421164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24480" y="4357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54840" y="421164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2040" y="421164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15200" y="43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5680" y="459252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5680" y="4973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5680" y="53546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5680" y="573552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35680" y="6116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43400" y="4495680"/>
              <a:ext cx="99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3400" y="6033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21480" y="457848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78680" y="45784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11840" y="457848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69040" y="457848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81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24480" y="4724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21480" y="497376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78680" y="49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81480" y="5119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21480" y="611676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81480" y="6262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78680" y="6116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1500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91320" y="22860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05720" y="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0572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057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1500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720" y="22860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91320" y="2666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91320" y="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15000" y="6019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15000" y="4876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487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chain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~ 1 + alpha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alph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l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~ 1 + alpha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gt;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ROBOT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960480" cy="1885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Hash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nitia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divisor = 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lt;= 0.7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loading density exceeds max permissible density, rehash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ewB = 2b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JAVA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5605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Get And Pu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visor =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umber of buckets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ome bucket = key %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3048120"/>
            <a:ext cx="7772400" cy="838080"/>
            <a:chOff x="685800" y="3048120"/>
            <a:chExt cx="7772400" cy="838080"/>
          </a:xfrm>
        </p:grpSpPr>
        <p:sp>
          <p:nvSpPr>
            <p:cNvPr id="55" name=""/>
            <p:cNvSpPr/>
            <p:nvPr/>
          </p:nvSpPr>
          <p:spPr>
            <a:xfrm>
              <a:off x="685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3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57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6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5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72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9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86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01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176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46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3048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pairs whose keys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, 12, 34, 29, 28, 11, 23, 7, 0, 33, 30,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Remo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1600200"/>
            <a:ext cx="7848720" cy="840600"/>
            <a:chOff x="685800" y="1600200"/>
            <a:chExt cx="7848720" cy="840600"/>
          </a:xfrm>
        </p:grpSpPr>
        <p:grpSp>
          <p:nvGrpSpPr>
            <p:cNvPr id="93" name=""/>
            <p:cNvGrpSpPr/>
            <p:nvPr/>
          </p:nvGrpSpPr>
          <p:grpSpPr>
            <a:xfrm>
              <a:off x="685800" y="1600200"/>
              <a:ext cx="7772400" cy="838080"/>
              <a:chOff x="685800" y="1600200"/>
              <a:chExt cx="7772400" cy="838080"/>
            </a:xfrm>
          </p:grpSpPr>
          <p:sp>
            <p:nvSpPr>
              <p:cNvPr id="94" name=""/>
              <p:cNvSpPr/>
              <p:nvPr/>
            </p:nvSpPr>
            <p:spPr>
              <a:xfrm>
                <a:off x="685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43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0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57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14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71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29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86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43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00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57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15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72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29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86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43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01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176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1460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340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1600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24680" y="1600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42900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150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6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010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438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09480" y="3581280"/>
            <a:ext cx="7848720" cy="840960"/>
            <a:chOff x="609480" y="3581280"/>
            <a:chExt cx="7848720" cy="840960"/>
          </a:xfrm>
        </p:grpSpPr>
        <p:sp>
          <p:nvSpPr>
            <p:cNvPr id="129" name=""/>
            <p:cNvSpPr/>
            <p:nvPr/>
          </p:nvSpPr>
          <p:spPr>
            <a:xfrm>
              <a:off x="609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40384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5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53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7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24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70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581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48720" y="358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5268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1992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0880" y="4876920"/>
            <a:ext cx="78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5638680"/>
            <a:ext cx="7848720" cy="840960"/>
            <a:chOff x="609480" y="5638680"/>
            <a:chExt cx="7848720" cy="840960"/>
          </a:xfrm>
        </p:grpSpPr>
        <p:sp>
          <p:nvSpPr>
            <p:cNvPr id="164" name=""/>
            <p:cNvSpPr/>
            <p:nvPr/>
          </p:nvSpPr>
          <p:spPr>
            <a:xfrm>
              <a:off x="609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3880" y="60958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95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2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98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7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8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53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4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708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2680" y="6019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80" y="6019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02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9880" y="6019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6019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24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674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remove(34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5800" y="990720"/>
            <a:ext cx="7848720" cy="840600"/>
            <a:chOff x="685800" y="990720"/>
            <a:chExt cx="7848720" cy="840600"/>
          </a:xfrm>
        </p:grpSpPr>
        <p:grpSp>
          <p:nvGrpSpPr>
            <p:cNvPr id="200" name=""/>
            <p:cNvGrpSpPr/>
            <p:nvPr/>
          </p:nvGrpSpPr>
          <p:grpSpPr>
            <a:xfrm>
              <a:off x="685800" y="990720"/>
              <a:ext cx="7772400" cy="838080"/>
              <a:chOff x="685800" y="990720"/>
              <a:chExt cx="7772400" cy="838080"/>
            </a:xfrm>
          </p:grpSpPr>
          <p:sp>
            <p:nvSpPr>
              <p:cNvPr id="201" name=""/>
              <p:cNvSpPr/>
              <p:nvPr/>
            </p:nvSpPr>
            <p:spPr>
              <a:xfrm>
                <a:off x="685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43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00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57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14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71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29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86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43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00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57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15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72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29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86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43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01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176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146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34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72200" y="990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2468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429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5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8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5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866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62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19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193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1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38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00200" y="1371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09480" y="3962520"/>
            <a:ext cx="7848720" cy="840600"/>
            <a:chOff x="609480" y="3962520"/>
            <a:chExt cx="7848720" cy="840600"/>
          </a:xfrm>
        </p:grpSpPr>
        <p:sp>
          <p:nvSpPr>
            <p:cNvPr id="236" name=""/>
            <p:cNvSpPr/>
            <p:nvPr/>
          </p:nvSpPr>
          <p:spPr>
            <a:xfrm>
              <a:off x="609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441972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23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1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38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09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67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1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5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3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10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7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24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8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670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4872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4343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992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30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4343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102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9880" y="4343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43000" y="43434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24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74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09480" y="5029200"/>
            <a:ext cx="7848720" cy="840600"/>
            <a:chOff x="609480" y="5029200"/>
            <a:chExt cx="7848720" cy="840600"/>
          </a:xfrm>
        </p:grpSpPr>
        <p:sp>
          <p:nvSpPr>
            <p:cNvPr id="271" name=""/>
            <p:cNvSpPr/>
            <p:nvPr/>
          </p:nvSpPr>
          <p:spPr>
            <a:xfrm>
              <a:off x="609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3880" y="54864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1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38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95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52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98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67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1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8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58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3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10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4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08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487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52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1992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30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38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102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4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3000" y="54100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24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674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6680" y="5410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5800" y="1981080"/>
            <a:ext cx="7848720" cy="840960"/>
            <a:chOff x="685800" y="1981080"/>
            <a:chExt cx="7848720" cy="840960"/>
          </a:xfrm>
        </p:grpSpPr>
        <p:sp>
          <p:nvSpPr>
            <p:cNvPr id="306" name=""/>
            <p:cNvSpPr/>
            <p:nvPr/>
          </p:nvSpPr>
          <p:spPr>
            <a:xfrm>
              <a:off x="685800" y="24382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0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14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9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86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3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00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57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15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72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86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43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1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146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34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72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46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00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58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29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15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86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862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193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01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38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002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remove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990720"/>
            <a:ext cx="7848720" cy="840600"/>
            <a:chOff x="685800" y="990720"/>
            <a:chExt cx="7848720" cy="840600"/>
          </a:xfrm>
        </p:grpSpPr>
        <p:grpSp>
          <p:nvGrpSpPr>
            <p:cNvPr id="342" name=""/>
            <p:cNvGrpSpPr/>
            <p:nvPr/>
          </p:nvGrpSpPr>
          <p:grpSpPr>
            <a:xfrm>
              <a:off x="685800" y="990720"/>
              <a:ext cx="7772400" cy="838080"/>
              <a:chOff x="685800" y="990720"/>
              <a:chExt cx="7772400" cy="838080"/>
            </a:xfrm>
          </p:grpSpPr>
          <p:sp>
            <p:nvSpPr>
              <p:cNvPr id="343" name=""/>
              <p:cNvSpPr/>
              <p:nvPr/>
            </p:nvSpPr>
            <p:spPr>
              <a:xfrm>
                <a:off x="685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43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00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57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14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71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29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6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3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00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57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15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72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29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86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43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001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176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146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434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2200" y="990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92468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429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95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58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15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866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862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19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193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01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00200" y="1371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85800" y="1981080"/>
            <a:ext cx="7848720" cy="840960"/>
            <a:chOff x="685800" y="1981080"/>
            <a:chExt cx="7848720" cy="840960"/>
          </a:xfrm>
        </p:grpSpPr>
        <p:sp>
          <p:nvSpPr>
            <p:cNvPr id="378" name=""/>
            <p:cNvSpPr/>
            <p:nvPr/>
          </p:nvSpPr>
          <p:spPr>
            <a:xfrm>
              <a:off x="685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3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00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57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14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1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29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86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3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0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15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72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24382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86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3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01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46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434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72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46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2900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958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9400" y="236232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86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7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93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01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38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002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85800" y="3962520"/>
            <a:ext cx="7848720" cy="840600"/>
            <a:chOff x="685800" y="3962520"/>
            <a:chExt cx="7848720" cy="840600"/>
          </a:xfrm>
        </p:grpSpPr>
        <p:sp>
          <p:nvSpPr>
            <p:cNvPr id="413" name=""/>
            <p:cNvSpPr/>
            <p:nvPr/>
          </p:nvSpPr>
          <p:spPr>
            <a:xfrm>
              <a:off x="685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43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57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146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6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43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06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15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72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29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441972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43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01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1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34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722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58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150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86600" y="43434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8620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193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010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438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85800" y="4800600"/>
            <a:ext cx="7848720" cy="840600"/>
            <a:chOff x="685800" y="4800600"/>
            <a:chExt cx="7848720" cy="840600"/>
          </a:xfrm>
        </p:grpSpPr>
        <p:sp>
          <p:nvSpPr>
            <p:cNvPr id="448" name=""/>
            <p:cNvSpPr/>
            <p:nvPr/>
          </p:nvSpPr>
          <p:spPr>
            <a:xfrm>
              <a:off x="685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43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00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57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14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71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3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0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57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15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72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29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86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52578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01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1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3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46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900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5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58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150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51814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862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197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193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866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0200" y="5181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85800" y="5715000"/>
            <a:ext cx="7848720" cy="840600"/>
            <a:chOff x="685800" y="5715000"/>
            <a:chExt cx="7848720" cy="840600"/>
          </a:xfrm>
        </p:grpSpPr>
        <p:sp>
          <p:nvSpPr>
            <p:cNvPr id="483" name=""/>
            <p:cNvSpPr/>
            <p:nvPr/>
          </p:nvSpPr>
          <p:spPr>
            <a:xfrm>
              <a:off x="685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43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00200" y="61722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57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14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29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862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3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00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57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15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722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29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86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43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01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1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43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722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2468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2900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588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294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86600" y="6095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862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197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193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01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66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43800" y="6095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 Of Linear Prob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get/put/remove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pairs in the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appens when all pairs are in the sam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3skel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1851120" cy="145116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685800" y="2819520"/>
            <a:ext cx="7848720" cy="840600"/>
            <a:chOff x="685800" y="2819520"/>
            <a:chExt cx="7848720" cy="840600"/>
          </a:xfrm>
        </p:grpSpPr>
        <p:grpSp>
          <p:nvGrpSpPr>
            <p:cNvPr id="521" name=""/>
            <p:cNvGrpSpPr/>
            <p:nvPr/>
          </p:nvGrpSpPr>
          <p:grpSpPr>
            <a:xfrm>
              <a:off x="685800" y="2819520"/>
              <a:ext cx="7772400" cy="838080"/>
              <a:chOff x="685800" y="2819520"/>
              <a:chExt cx="7772400" cy="83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685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43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00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57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4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71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29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86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43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00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57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715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172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629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86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543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001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176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146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434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172200" y="2819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924680" y="28195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34290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58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294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58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5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866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862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197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193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01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438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002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2895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= loading density = (number of pairs)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lpha = 12/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cted number of buckets examined in a successful search 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cted number of buckets examined in a unsuccessful search 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put and remove govern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ROBOT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960480" cy="1886040"/>
          </a:xfrm>
          <a:prstGeom prst="rect">
            <a:avLst/>
          </a:prstGeom>
          <a:ln w="0">
            <a:noFill/>
          </a:ln>
        </p:spPr>
      </p:pic>
      <p:grpSp>
        <p:nvGrpSpPr>
          <p:cNvPr id="559" name=""/>
          <p:cNvGrpSpPr/>
          <p:nvPr/>
        </p:nvGrpSpPr>
        <p:grpSpPr>
          <a:xfrm>
            <a:off x="380880" y="1981080"/>
            <a:ext cx="7848720" cy="840600"/>
            <a:chOff x="380880" y="1981080"/>
            <a:chExt cx="7848720" cy="840600"/>
          </a:xfrm>
        </p:grpSpPr>
        <p:grpSp>
          <p:nvGrpSpPr>
            <p:cNvPr id="560" name=""/>
            <p:cNvGrpSpPr/>
            <p:nvPr/>
          </p:nvGrpSpPr>
          <p:grpSpPr>
            <a:xfrm>
              <a:off x="380880" y="1981080"/>
              <a:ext cx="7772400" cy="838080"/>
              <a:chOff x="380880" y="1981080"/>
              <a:chExt cx="7772400" cy="838080"/>
            </a:xfrm>
          </p:grpSpPr>
          <p:sp>
            <p:nvSpPr>
              <p:cNvPr id="561" name=""/>
              <p:cNvSpPr/>
              <p:nvPr/>
            </p:nvSpPr>
            <p:spPr>
              <a:xfrm>
                <a:off x="380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38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95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52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09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66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24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81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038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495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52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10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7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24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781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238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96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684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0968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3848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728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19760" y="1981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12408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9096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44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08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816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812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1480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440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388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95280" y="2361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 &lt;= alpha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ROBOT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960480" cy="188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8" name=""/>
          <p:cNvGraphicFramePr/>
          <p:nvPr/>
        </p:nvGraphicFramePr>
        <p:xfrm>
          <a:off x="1447920" y="2878200"/>
          <a:ext cx="6858000" cy="397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878200"/>
                    <a:ext cx="685800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15000" y="41911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lpha &lt;= 0.75 is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requirements are given, determine maximum permissible loading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a successful search to make 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 (expec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&lt;= 18/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an unsuccessful search to make 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s (expected).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alpha)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&lt;= 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lpha &lt;= min{18/19, 4/5} = 4/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5:20:33Z</dcterms:modified>
  <cp:revision>294</cp:revision>
  <dc:subject/>
  <dc:title>Data Representation Methods</dc:title>
</cp:coreProperties>
</file>