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95DF-37E7-4903-BE92-5B8E320F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1FB6-4D7A-4CF6-8EDA-38771FB7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069A-CCFF-4043-9038-35E3F6A2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CA76-DED6-4B20-9DC6-A1316374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0225-0E59-4A01-956E-76010AED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B56C-5835-46A8-9403-A6623236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14A7-1F86-49A4-B224-BE7504FB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E9E3-F0C0-4687-87FF-D07B04FD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198B-08CC-4D79-82F2-878514DC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7EAA-C9BC-4237-9196-4D9BEBBC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06C-70BF-4834-936E-6A268233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DF0A-FCD1-4F2F-9702-4D38AF09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531F-2632-4DD7-8B47-86C4C3EB7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 1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4-08-05T15:17:06Z</dcterms:modified>
  <cp:revision>270</cp:revision>
  <dc:subject/>
  <dc:title>Data Representation Methods</dc:title>
</cp:coreProperties>
</file>