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5EFB17-A430-49C7-B0AD-BB216556DA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Pascal and Fortran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, for our example the difference in space overhead between the two representation methods is small, 20 bytes, the space overhead for the row-major scheme is 12 bytes regardless of the number of rows in the array. In the array of arrays scheme, the space overhead is 8 * (r+1) bytes. So the overhead for an array with 10000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80008 bytes when the array of array scheme is used and only 12 bytes when the row-major schem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 Matrix uses the row-major representation of a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 considers several kinds of special matrices—diagonal, tridiagonal, lower triangular, upper triangular, and symmetric. Applications are given in the text and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D array that is used to store the lower triangle is y, then following the above mapping y[i] = i +1 . y[] = {1, 2, 3, 4, …, 1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the irregular array mapping of a lower triangular matrix we are able to use conventional Java syntax to access elements, but for large n, the space overhead is quite a bit more than when the row-major mapping into a 1D array is used. The row-major mapping requires you to develop a formula to access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#bytes/element of array? Excluded in above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eparate arrays are x, x[0], x[1], and x[2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B95-0236-4797-96A3-DAB939FD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25D-D3E1-4CAD-9EE8-28B2820E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C8A-82E7-4A4C-B3CB-34956E5C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94F-79E6-45F8-9854-F83C1BE0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C76-6A21-425B-9B1E-ABC0651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3C9-3897-4142-9A6D-EC79182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6BF-FD71-4F39-A616-E9D49A38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8FA-CC4E-46C5-9667-48195A4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C4C-C850-4FFA-95B0-60BAA040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AEC-8F24-4CDE-9514-C0F4686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AB4-05EE-4507-90E3-A4E68EF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5B8-7BCF-4ACC-A92A-4D9754C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BBE-C9EC-4C07-95B8-24F902FA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resentation is called th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rray-of-arr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ntiguous memory of size 3, 4, 4, and 4 for the 4 1D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emory block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s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96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3 x 4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ecting elements by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ow elements are collected from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collected from top to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[]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a, b, c, d, e, f, g, h, i, j, k, l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5943600"/>
            <a:ext cx="7385040" cy="403560"/>
            <a:chOff x="762120" y="5943600"/>
            <a:chExt cx="7385040" cy="403560"/>
          </a:xfrm>
        </p:grpSpPr>
        <p:sp>
          <p:nvSpPr>
            <p:cNvPr id="230" name=""/>
            <p:cNvSpPr/>
            <p:nvPr/>
          </p:nvSpPr>
          <p:spPr>
            <a:xfrm>
              <a:off x="762120" y="594972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1960" y="594360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593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0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2160" y="594972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26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1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97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5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64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930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ocating Element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 x[i][j]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to the left of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to the lef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[i][j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pped to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+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1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520" y="1447920"/>
            <a:ext cx="7461000" cy="930600"/>
            <a:chOff x="533520" y="1447920"/>
            <a:chExt cx="7461000" cy="9306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974960"/>
              <a:ext cx="7385040" cy="403560"/>
              <a:chOff x="609480" y="1974960"/>
              <a:chExt cx="7385040" cy="40356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9810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9320" y="197496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066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2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9520" y="198108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00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8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070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528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737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04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33520" y="1447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23880" y="1447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1447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colum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rows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ngth 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9640" y="1981080"/>
            <a:ext cx="7454880" cy="397440"/>
            <a:chOff x="539640" y="1981080"/>
            <a:chExt cx="7454880" cy="397440"/>
          </a:xfrm>
        </p:grpSpPr>
        <p:sp>
          <p:nvSpPr>
            <p:cNvPr id="266" name=""/>
            <p:cNvSpPr/>
            <p:nvPr/>
          </p:nvSpPr>
          <p:spPr>
            <a:xfrm>
              <a:off x="5396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66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733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198108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00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70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37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404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advanta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contiguous memory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ecting elements by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column elements are collected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 are collected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a, e, i, b, f, j, c, g, k, d, h, 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values. Has rows and columns, but numbering begins at 1 rather tha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j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 2D array to represent a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comings Of Using A 2D Array For A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 are off by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rrays do not support matrix operation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rans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2D arrays. Can’t d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–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*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in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cla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object-oriented support of all matrix operations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on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21932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1143000"/>
            <a:ext cx="129564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 diagonal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agonal elements in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iagonal elements ar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iagonal only 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1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03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= [a, b, c, d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into contiguous memory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44560" y="1219320"/>
            <a:ext cx="7302600" cy="1365120"/>
            <a:chOff x="844560" y="1219320"/>
            <a:chExt cx="7302600" cy="1365120"/>
          </a:xfrm>
        </p:grpSpPr>
        <p:sp>
          <p:nvSpPr>
            <p:cNvPr id="54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7428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93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2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37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14600" y="2590560"/>
            <a:ext cx="1066680" cy="1052640"/>
            <a:chOff x="2514600" y="2590560"/>
            <a:chExt cx="1066680" cy="1052640"/>
          </a:xfrm>
        </p:grpSpPr>
        <p:sp>
          <p:nvSpPr>
            <p:cNvPr id="76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5562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cation(x[i]) = start +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wer Triangular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either on or below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rt of lower triangle if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g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in lower triangle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+ 2 + … + n = n(n+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only the lower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1981080"/>
            <a:ext cx="58676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Of Arrays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4495680"/>
            <a:ext cx="88394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rregular 2-D array … length of rows is not required to b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01760" y="1295280"/>
            <a:ext cx="3026880" cy="3194280"/>
            <a:chOff x="1301760" y="1295280"/>
            <a:chExt cx="3026880" cy="3194280"/>
          </a:xfrm>
        </p:grpSpPr>
        <p:sp>
          <p:nvSpPr>
            <p:cNvPr id="299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02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2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834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26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3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1760" y="38163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9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056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1144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2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1148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260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348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472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5600" y="399240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reating And Using An Irregular Arra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declare a two-dimensional array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and allocate the desired number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][] irregularArray =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umberOfRows]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now allocate space for the elements in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0; i &lt; numberOfRow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i] =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w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ize[i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use the array like any regula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2][3]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4][6] = irregularArray[2][3]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Array[1][1] +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p Lower Triangular Array Into A 1D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ow-major order, but omit terms that are not part of the lower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, 2, 3, 4, 5, 6, 7, 8, 9,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dex Of Element [i][j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is: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eceded by row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that precede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+ 2 + 3 + … + i-1 = i(i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(i-1)/2 + j 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1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47920" y="1676520"/>
            <a:ext cx="5854680" cy="784800"/>
            <a:chOff x="1447920" y="1676520"/>
            <a:chExt cx="5854680" cy="784800"/>
          </a:xfrm>
        </p:grpSpPr>
        <p:grpSp>
          <p:nvGrpSpPr>
            <p:cNvPr id="335" name=""/>
            <p:cNvGrpSpPr/>
            <p:nvPr/>
          </p:nvGrpSpPr>
          <p:grpSpPr>
            <a:xfrm>
              <a:off x="1523880" y="2057400"/>
              <a:ext cx="5778720" cy="403920"/>
              <a:chOff x="1523880" y="2057400"/>
              <a:chExt cx="5778720" cy="403920"/>
            </a:xfrm>
          </p:grpSpPr>
          <p:sp>
            <p:nvSpPr>
              <p:cNvPr id="336" name=""/>
              <p:cNvSpPr/>
              <p:nvPr/>
            </p:nvSpPr>
            <p:spPr>
              <a:xfrm>
                <a:off x="1523880" y="2070000"/>
                <a:ext cx="444600" cy="3747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5238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1080" y="2063880"/>
                <a:ext cx="4572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810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2063880"/>
                <a:ext cx="60984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1460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481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465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1480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609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8148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485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4479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051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772400" cy="28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 bytes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x.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space needed for the element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44560" y="1219320"/>
            <a:ext cx="7302600" cy="2423880"/>
            <a:chOff x="844560" y="1219320"/>
            <a:chExt cx="7302600" cy="2423880"/>
          </a:xfrm>
        </p:grpSpPr>
        <p:sp>
          <p:nvSpPr>
            <p:cNvPr id="82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0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34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14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78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of a 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t [][]a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shown as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590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12408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733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7772400" cy="28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2D array as a 1D arra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= [row0, row1, row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0 = [a,b, c, 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1 = [e, f, g, 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2 = [i, j, k, l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ore 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219320"/>
            <a:ext cx="77724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, b, c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, f, g,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, j, k,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Java, C, and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length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0].length =  x[1].length = x[2].length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28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overhead for 4 1D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 *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number of rows + 1) x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62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4-08-05T14:40:23Z</dcterms:modified>
  <cp:revision>38</cp:revision>
  <dc:subject/>
  <dc:title>Data Representation Methods</dc:title>
</cp:coreProperties>
</file>