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8.gif" ContentType="image/gif"/>
  <Override PartName="/ppt/media/image11.gif" ContentType="image/gif"/>
  <Override PartName="/ppt/media/image14.png" ContentType="image/png"/>
  <Override PartName="/ppt/media/image16.png" ContentType="image/png"/>
  <Override PartName="/ppt/media/image13.gif" ContentType="image/gif"/>
  <Override PartName="/ppt/media/image1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drumroll.wav" ContentType="audio/x-wav"/>
  <Override PartName="/ppt/media/image12.gif" ContentType="image/gif"/>
  <Override PartName="/ppt/media/image15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319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86920" y="70344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8"/>
          </p:nvPr>
        </p:nvSpPr>
        <p:spPr>
          <a:xfrm>
            <a:off x="-360" y="881532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9"/>
          </p:nvPr>
        </p:nvSpPr>
        <p:spPr>
          <a:xfrm>
            <a:off x="3962520" y="8815320"/>
            <a:ext cx="30319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E4FF6C-F187-4547-B1F8-44F6FBC3F52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ctly speaking, nondecreasing order: 2, 2, 3, 6, 8, 8,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5 are simple (conceptually and to program). First 4 done in chapters 2 and 3. Shaker sort and shell sort are in the enrichment section of the text’s Web site. The remaining three are done in the algorithm design chapters of the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: Streets in a city. Mapqu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: Do something with the data. Add a new street. Close a street. Make a street one way. Find route from your home to nearest gas station. Input/output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representation: simple variables…int, fl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 variables… int [], float [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to be studied in this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…sequence of steps that results in the performance of a specific task (find nearest gas station to hom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do in this course will be used in most of the follow-up courses you will take. Essential to become expert in what we do this semester. Else, you will be handicapped in later courses. Foundation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review … 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ance Analysis … 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ymptotic complexity … 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follow guidelines and submission procedures. Else there will be cha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74B-EBB7-4FC2-95A1-3533DA9A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C42-5CDA-439B-AE02-A9ED59BE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38D-04FF-46A8-9492-27940C40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AD3-E1E3-4006-9C42-FC65C7A7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98D3-F04C-499D-A33D-D99202A2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B677-2D21-4CBC-B354-5716E56C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DC80-D228-49F6-A350-2062BAA0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5557-ABEF-4CBE-B7C2-A2B77D67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729F-912B-45B2-AD2D-A2A539C3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7230-E7D4-4E6A-B653-B7E85DBA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AA68-A14C-4723-95B7-2B8AC2D5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332-BD30-4A25-B0C4-7624ECEE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8E96-0B35-459C-BEA9-D2161305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2587-6374-4555-BC3A-90268249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4822-AC23-4F1B-8AD8-75001060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19F5-4890-4F37-B8E1-3D86268E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4127-4413-4AB6-AD5B-35076DCD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D3B-9AD2-47A9-9662-EE62AD11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210-D18F-47A5-8956-0E241E7E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2C1-758A-4E94-84EB-4054C517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E08-F5C1-4641-BCF1-DAB3FD33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150-2987-424C-82A9-8659E9FA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04C-800D-4533-89EC-304C7BED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305-A00C-4538-96B1-650B017A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840"/>
            <a:chOff x="0" y="4206960"/>
            <a:chExt cx="9166320" cy="285084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b6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FDB0-01C3-456D-9654-9E6CABA46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2120"/>
            <a:chOff x="0" y="533520"/>
            <a:chExt cx="9177480" cy="652212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0" y="6624720"/>
              <a:ext cx="9132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eb6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8E8C-1831-4A94-B9D6-7E8426FA4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welcome4" descr=""/>
          <p:cNvPicPr/>
          <p:nvPr/>
        </p:nvPicPr>
        <p:blipFill>
          <a:blip r:embed="rId1"/>
          <a:stretch/>
        </p:blipFill>
        <p:spPr>
          <a:xfrm>
            <a:off x="3276720" y="533520"/>
            <a:ext cx="2639880" cy="434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Data Structures, Algorithms, &amp;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taj Sah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welcome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2971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Organization of Tex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 … Chapters 1-4,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… Chapters 5-17, Data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 … Chapters 18-22,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hapter … concepts +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RGCHRT2" descr=""/>
          <p:cNvPicPr/>
          <p:nvPr/>
        </p:nvPicPr>
        <p:blipFill>
          <a:blip r:embed="rId1"/>
          <a:stretch/>
        </p:blipFill>
        <p:spPr>
          <a:xfrm>
            <a:off x="7543800" y="914400"/>
            <a:ext cx="331920" cy="331920"/>
          </a:xfrm>
          <a:prstGeom prst="rect">
            <a:avLst/>
          </a:prstGeom>
          <a:ln w="0">
            <a:noFill/>
          </a:ln>
        </p:spPr>
      </p:pic>
      <p:pic>
        <p:nvPicPr>
          <p:cNvPr id="204" name="ORGCHRT2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33192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rad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or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rades (Rough Cutoffs)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 &gt;= 8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+ &gt;= 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&gt;= 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+ &gt;=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 &gt;= 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+ &gt;= 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  &gt;=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e a[0], a[1], …, a[n-1] into ascending order. When done,  a[0] &lt;= a[1] &lt;= … &lt;= a[n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, 6, 9, 4, 3 =&gt; 3, 4, 6, 8,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ort Method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ker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 An Eleme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orted list/sequence, insert a new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3, 6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3, 5, 6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 an Eleme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6, 9, 14   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ser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new element (5) and last one (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14 right to get 3, 6, 9, 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9 right to get 3, 6, 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6 right to get 3, , 6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5 to get 3, 5, 6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 An Eleme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insert t into a[0:i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t j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 (j = i - 1; j &gt;= 0 &amp;&amp; t &lt; a[j]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[j + 1] = 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a sequence of siz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edly insert remaining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7, 3, 5, 6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7 and insert 3 =&gt; 3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5 =&gt; 3, 5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6 =&gt; 3, 5, 6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1 =&gt; 1, 3, 5, 6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p Art Sourc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ww.barryscli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ww.livinggraphic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ww.rad.kum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ww.graphicmap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code to insert com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1; i &lt; a.length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/ insert a[i] into a[0:i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 t = 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 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 (j = i - 1; j &gt;= 0 &amp;&amp; t &lt; a[j]; j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[j + 1] = a[j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[j + 1] = 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hat The Course Is Abou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tructures is concerned with the representation and manipulation of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grams manipulat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all programs represent data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anipulation requires an algorith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CE2" descr=""/>
          <p:cNvPicPr/>
          <p:nvPr/>
        </p:nvPicPr>
        <p:blipFill>
          <a:blip r:embed="rId1"/>
          <a:stretch/>
        </p:blipFill>
        <p:spPr>
          <a:xfrm>
            <a:off x="7807320" y="457200"/>
            <a:ext cx="1336680" cy="99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hat The Course Is Abou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design methods needed to develop programs that do the data mani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9480" y="3048120"/>
            <a:ext cx="7772400" cy="1885680"/>
            <a:chOff x="609480" y="3048120"/>
            <a:chExt cx="7772400" cy="1885680"/>
          </a:xfrm>
        </p:grpSpPr>
        <p:sp>
          <p:nvSpPr>
            <p:cNvPr id="163" name=""/>
            <p:cNvSpPr/>
            <p:nvPr/>
          </p:nvSpPr>
          <p:spPr>
            <a:xfrm>
              <a:off x="609480" y="3048120"/>
              <a:ext cx="7772400" cy="18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 study of data structures and algorithms is fundamental to Computer Scienc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WHACKER" descr=""/>
            <p:cNvPicPr/>
            <p:nvPr/>
          </p:nvPicPr>
          <p:blipFill>
            <a:blip r:embed="rId1"/>
            <a:stretch/>
          </p:blipFill>
          <p:spPr>
            <a:xfrm>
              <a:off x="838080" y="4267080"/>
              <a:ext cx="365400" cy="36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CE2" descr=""/>
          <p:cNvPicPr/>
          <p:nvPr/>
        </p:nvPicPr>
        <p:blipFill>
          <a:blip r:embed="rId2"/>
          <a:stretch/>
        </p:blipFill>
        <p:spPr>
          <a:xfrm>
            <a:off x="7807320" y="457200"/>
            <a:ext cx="133668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Prerequisit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590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ptotic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Oh, Theta, and Omega no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JAVA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56016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eb Sit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cise.ufl.edu/~sahni/cop35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WWW1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606240" cy="571680"/>
          </a:xfrm>
          <a:prstGeom prst="rect">
            <a:avLst/>
          </a:prstGeom>
          <a:ln w="0">
            <a:noFill/>
          </a:ln>
        </p:spPr>
      </p:pic>
      <p:pic>
        <p:nvPicPr>
          <p:cNvPr id="174" name="WWW1" descr=""/>
          <p:cNvPicPr/>
          <p:nvPr/>
        </p:nvPicPr>
        <p:blipFill>
          <a:blip r:embed="rId2"/>
          <a:stretch/>
        </p:blipFill>
        <p:spPr>
          <a:xfrm>
            <a:off x="2133720" y="685800"/>
            <a:ext cx="606240" cy="57168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762120" y="4572000"/>
            <a:ext cx="7772400" cy="925560"/>
            <a:chOff x="762120" y="4572000"/>
            <a:chExt cx="7772400" cy="925560"/>
          </a:xfrm>
        </p:grpSpPr>
        <p:sp>
          <p:nvSpPr>
            <p:cNvPr id="176" name=""/>
            <p:cNvSpPr/>
            <p:nvPr/>
          </p:nvSpPr>
          <p:spPr>
            <a:xfrm>
              <a:off x="762120" y="4647960"/>
              <a:ext cx="7772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3399"/>
                </a:buClr>
                <a:buSzPct val="75000"/>
                <a:buFont typeface="Monotype Sorts" charset="2"/>
                <a:buChar char="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y office data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MOVE16" descr=""/>
            <p:cNvPicPr/>
            <p:nvPr/>
          </p:nvPicPr>
          <p:blipFill>
            <a:blip r:embed="rId3"/>
            <a:stretch/>
          </p:blipFill>
          <p:spPr>
            <a:xfrm>
              <a:off x="4952880" y="4572000"/>
              <a:ext cx="1143000" cy="92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"/>
          <p:cNvGrpSpPr/>
          <p:nvPr/>
        </p:nvGrpSpPr>
        <p:grpSpPr>
          <a:xfrm>
            <a:off x="685800" y="2514600"/>
            <a:ext cx="7464600" cy="1600200"/>
            <a:chOff x="685800" y="2514600"/>
            <a:chExt cx="7464600" cy="1600200"/>
          </a:xfrm>
        </p:grpSpPr>
        <p:sp>
          <p:nvSpPr>
            <p:cNvPr id="179" name=""/>
            <p:cNvSpPr/>
            <p:nvPr/>
          </p:nvSpPr>
          <p:spPr>
            <a:xfrm>
              <a:off x="685800" y="2514600"/>
              <a:ext cx="69343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3399"/>
                </a:buClr>
                <a:buSzPct val="75000"/>
                <a:buFont typeface="Monotype Sorts" charset="2"/>
                <a:buChar char="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andouts, syllabus, text, source codes, exercise solutions, lectures, assignments, past exams, past exam solutions, TAs, etc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PRINTR01" descr=""/>
            <p:cNvPicPr/>
            <p:nvPr/>
          </p:nvPicPr>
          <p:blipFill>
            <a:blip r:embed="rId4"/>
            <a:stretch/>
          </p:blipFill>
          <p:spPr>
            <a:xfrm>
              <a:off x="7772400" y="3124080"/>
              <a:ext cx="378000" cy="33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Assignment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82" name="WWW1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606240" cy="571680"/>
          </a:xfrm>
          <a:prstGeom prst="rect">
            <a:avLst/>
          </a:prstGeom>
          <a:ln w="0">
            <a:noFill/>
          </a:ln>
        </p:spPr>
      </p:pic>
      <p:pic>
        <p:nvPicPr>
          <p:cNvPr id="183" name="WWW1" descr=""/>
          <p:cNvPicPr/>
          <p:nvPr/>
        </p:nvPicPr>
        <p:blipFill>
          <a:blip r:embed="rId2"/>
          <a:stretch/>
        </p:blipFill>
        <p:spPr>
          <a:xfrm>
            <a:off x="2133720" y="685800"/>
            <a:ext cx="606240" cy="57168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685800" y="2819520"/>
            <a:ext cx="7772400" cy="3009600"/>
            <a:chOff x="685800" y="2819520"/>
            <a:chExt cx="7772400" cy="3009600"/>
          </a:xfrm>
        </p:grpSpPr>
        <p:grpSp>
          <p:nvGrpSpPr>
            <p:cNvPr id="185" name=""/>
            <p:cNvGrpSpPr/>
            <p:nvPr/>
          </p:nvGrpSpPr>
          <p:grpSpPr>
            <a:xfrm>
              <a:off x="685800" y="2819520"/>
              <a:ext cx="7772400" cy="3009600"/>
              <a:chOff x="685800" y="2819520"/>
              <a:chExt cx="7772400" cy="30096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685800" y="2819520"/>
                <a:ext cx="7772400" cy="1259280"/>
                <a:chOff x="685800" y="2819520"/>
                <a:chExt cx="7772400" cy="12592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85800" y="2819520"/>
                  <a:ext cx="7772400" cy="6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003399"/>
                    </a:buClr>
                    <a:buSzPct val="75000"/>
                    <a:buFont typeface="Monotype Sorts" charset="2"/>
                    <a:buChar char="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Do Assignment 0 by next week.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003399"/>
                    </a:buClr>
                    <a:buSzPct val="75000"/>
                    <a:buFont typeface="Monotype Sorts" charset="2"/>
                    <a:buChar char="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8" name="HACKER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81080" y="3580560"/>
                  <a:ext cx="549360" cy="49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COMPIMAN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81280" y="3580560"/>
                  <a:ext cx="549360" cy="49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BOOK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86400" y="3580560"/>
                  <a:ext cx="365040" cy="331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1" name="computer0" descr=""/>
              <p:cNvPicPr/>
              <p:nvPr/>
            </p:nvPicPr>
            <p:blipFill>
              <a:blip r:embed="rId6"/>
              <a:stretch/>
            </p:blipFill>
            <p:spPr>
              <a:xfrm>
                <a:off x="1600200" y="4203000"/>
                <a:ext cx="1714680" cy="155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computer0" descr=""/>
              <p:cNvPicPr/>
              <p:nvPr/>
            </p:nvPicPr>
            <p:blipFill>
              <a:blip r:embed="rId7"/>
              <a:stretch/>
            </p:blipFill>
            <p:spPr>
              <a:xfrm>
                <a:off x="4419720" y="4272480"/>
                <a:ext cx="1714320" cy="155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3" name="WHACKER" descr=""/>
            <p:cNvPicPr/>
            <p:nvPr/>
          </p:nvPicPr>
          <p:blipFill>
            <a:blip r:embed="rId8"/>
            <a:stretch/>
          </p:blipFill>
          <p:spPr>
            <a:xfrm>
              <a:off x="3962520" y="4825800"/>
              <a:ext cx="36504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685800" y="1600200"/>
            <a:ext cx="70866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proced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ownload and use instru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Java 1.2 or hig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ProgramIndex.htm, AllNames.html and other html files produced by Javadoc for Java c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Discussion Section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828800"/>
            <a:ext cx="777240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an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 will answer your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 will go through a few exercises from th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 lists what is done in each meeting of the discussion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TEACHER2" descr=""/>
          <p:cNvPicPr/>
          <p:nvPr/>
        </p:nvPicPr>
        <p:blipFill>
          <a:blip r:embed="rId1"/>
          <a:stretch/>
        </p:blipFill>
        <p:spPr>
          <a:xfrm>
            <a:off x="7467480" y="914400"/>
            <a:ext cx="365400" cy="320760"/>
          </a:xfrm>
          <a:prstGeom prst="rect">
            <a:avLst/>
          </a:prstGeom>
          <a:ln w="0">
            <a:noFill/>
          </a:ln>
        </p:spPr>
      </p:pic>
      <p:pic>
        <p:nvPicPr>
          <p:cNvPr id="200" name="TEACHER3" descr=""/>
          <p:cNvPicPr/>
          <p:nvPr/>
        </p:nvPicPr>
        <p:blipFill>
          <a:blip r:embed="rId2"/>
          <a:stretch/>
        </p:blipFill>
        <p:spPr>
          <a:xfrm>
            <a:off x="1523880" y="838080"/>
            <a:ext cx="35424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gam</dc:creator>
  <dc:description/>
  <dc:language>en-US</dc:language>
  <cp:lastModifiedBy>sahni</cp:lastModifiedBy>
  <dcterms:modified xsi:type="dcterms:W3CDTF">2004-08-05T13:18:48Z</dcterms:modified>
  <cp:revision>45</cp:revision>
  <dc:subject/>
  <dc:title>Training</dc:title>
</cp:coreProperties>
</file>