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F94-025B-44F6-B033-0741404B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2517-0384-4DF0-B2DD-07C83194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3A8-C59D-4405-8BB7-7BB3A83C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92A-A480-46F8-90B2-59050FF2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EE6-35E7-4B46-89DE-21ECF788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562-A4B8-43C6-A693-A0541319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B46-F461-49CF-B61F-5C30C0EF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C6BB-AB4F-457F-8830-AA8A68EE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B72-4681-40DC-9B16-FF671092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6D7-BF4F-42F6-A29E-26048FD6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FBD-4E81-425D-9D2E-052852AD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3521-1EC6-4F9F-8F06-D3A4FA5F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4265-D053-4B80-8C05-48B130C97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Sept. 23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B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:15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FREE FOOD!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sored by IEEE and H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National Instruments"/>
          <p:cNvPicPr/>
          <p:nvPr/>
        </p:nvPicPr>
        <p:blipFill>
          <a:blip r:embed="rId1"/>
          <a:stretch/>
        </p:blipFill>
        <p:spPr>
          <a:xfrm>
            <a:off x="2590920" y="304920"/>
            <a:ext cx="426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9:53:34Z</dcterms:created>
  <dc:creator>monica</dc:creator>
  <dc:description/>
  <dc:language>en-US</dc:language>
  <cp:lastModifiedBy>monica</cp:lastModifiedBy>
  <dcterms:modified xsi:type="dcterms:W3CDTF">2002-09-16T19:54:30Z</dcterms:modified>
  <cp:revision>2</cp:revision>
  <dc:subject/>
  <dc:title>    Information Session Monday Sept. 23rd NEB 100 6:15 pm  -FREE FOOD!-     </dc:title>
</cp:coreProperties>
</file>