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b7a5"/>
              </a:gs>
              <a:gs pos="100000">
                <a:srgbClr val="003b3b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grpSp>
          <p:nvGrpSpPr>
            <p:cNvPr id="2" name=""/>
            <p:cNvGrpSpPr/>
            <p:nvPr/>
          </p:nvGrpSpPr>
          <p:grpSpPr>
            <a:xfrm>
              <a:off x="0" y="0"/>
              <a:ext cx="9132840" cy="6845400"/>
              <a:chOff x="0" y="0"/>
              <a:chExt cx="9132840" cy="6845400"/>
            </a:xfrm>
          </p:grpSpPr>
          <p:sp>
            <p:nvSpPr>
              <p:cNvPr id="3" name=""/>
              <p:cNvSpPr/>
              <p:nvPr/>
            </p:nvSpPr>
            <p:spPr>
              <a:xfrm flipH="1">
                <a:off x="0" y="0"/>
                <a:ext cx="642960" cy="72396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0" y="0"/>
                <a:ext cx="1150920" cy="129528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0" y="0"/>
                <a:ext cx="1676520" cy="188604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0" y="0"/>
                <a:ext cx="2166840" cy="243828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0" y="0"/>
                <a:ext cx="2674800" cy="300996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0" y="0"/>
                <a:ext cx="3200400" cy="360036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0" y="0"/>
                <a:ext cx="3726000" cy="419112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0" y="0"/>
                <a:ext cx="4267080" cy="480060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0" y="0"/>
                <a:ext cx="4757760" cy="535320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0" y="0"/>
                <a:ext cx="5300640" cy="596268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0" y="0"/>
                <a:ext cx="5824440" cy="655308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282600" y="0"/>
                <a:ext cx="608472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790560" y="0"/>
                <a:ext cx="608508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1314360" y="0"/>
                <a:ext cx="608508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1789200" y="0"/>
                <a:ext cx="608472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>
                <a:off x="2314440" y="0"/>
                <a:ext cx="608508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2811600" y="6480"/>
                <a:ext cx="6078240" cy="683892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3843360" y="895320"/>
                <a:ext cx="5289480" cy="595008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flipH="1">
                <a:off x="4317840" y="1428840"/>
                <a:ext cx="4815000" cy="541656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flipH="1">
                <a:off x="4808520" y="1981080"/>
                <a:ext cx="4324320" cy="486432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>
                <a:off x="5316480" y="2552760"/>
                <a:ext cx="3816360" cy="429264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flipH="1">
                <a:off x="5859360" y="3162240"/>
                <a:ext cx="3273480" cy="368316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>
                <a:off x="6400800" y="3772080"/>
                <a:ext cx="2732040" cy="307332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flipH="1">
                <a:off x="6908760" y="4343400"/>
                <a:ext cx="2224080" cy="250200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flipH="1">
                <a:off x="7434360" y="4933800"/>
                <a:ext cx="1698480" cy="191160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H="1">
                <a:off x="7924680" y="5486400"/>
                <a:ext cx="1208160" cy="135900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>
                <a:off x="8399520" y="6019920"/>
                <a:ext cx="733320" cy="82548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flipH="1">
                <a:off x="8872560" y="6553080"/>
                <a:ext cx="260280" cy="29232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flipH="1">
                <a:off x="0" y="0"/>
                <a:ext cx="203040" cy="22860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flipH="1">
                <a:off x="3363840" y="361800"/>
                <a:ext cx="5762520" cy="648360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b7a5"/>
                </a:gs>
              </a:gsLst>
              <a:lin ang="5400000"/>
            </a:gradFill>
            <a:ln w="12600">
              <a:solidFill>
                <a:srgbClr val="d6009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b7a5"/>
              </a:gs>
              <a:gs pos="100000">
                <a:srgbClr val="003b3b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grpSp>
          <p:nvGrpSpPr>
            <p:cNvPr id="72" name=""/>
            <p:cNvGrpSpPr/>
            <p:nvPr/>
          </p:nvGrpSpPr>
          <p:grpSpPr>
            <a:xfrm>
              <a:off x="0" y="0"/>
              <a:ext cx="9132840" cy="6845400"/>
              <a:chOff x="0" y="0"/>
              <a:chExt cx="9132840" cy="6845400"/>
            </a:xfrm>
          </p:grpSpPr>
          <p:sp>
            <p:nvSpPr>
              <p:cNvPr id="73" name=""/>
              <p:cNvSpPr/>
              <p:nvPr/>
            </p:nvSpPr>
            <p:spPr>
              <a:xfrm flipH="1">
                <a:off x="0" y="0"/>
                <a:ext cx="642960" cy="72396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0" y="0"/>
                <a:ext cx="1150920" cy="129528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0" y="0"/>
                <a:ext cx="1676520" cy="188604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0" y="0"/>
                <a:ext cx="2166840" cy="243828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0" y="0"/>
                <a:ext cx="2674800" cy="300996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0" y="0"/>
                <a:ext cx="3200400" cy="360036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0" y="0"/>
                <a:ext cx="3726000" cy="419112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0" y="0"/>
                <a:ext cx="4267080" cy="480060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0" y="0"/>
                <a:ext cx="4757760" cy="535320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0" y="0"/>
                <a:ext cx="5300640" cy="596268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0" y="0"/>
                <a:ext cx="5824440" cy="655308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282600" y="0"/>
                <a:ext cx="608472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790560" y="0"/>
                <a:ext cx="608508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1314360" y="0"/>
                <a:ext cx="608508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1789200" y="0"/>
                <a:ext cx="608472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2314440" y="0"/>
                <a:ext cx="608508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2811600" y="6480"/>
                <a:ext cx="6078240" cy="683892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3843360" y="895320"/>
                <a:ext cx="5289480" cy="595008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4317840" y="1428840"/>
                <a:ext cx="4815000" cy="541656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4808520" y="1981080"/>
                <a:ext cx="4324320" cy="486432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5316480" y="2552760"/>
                <a:ext cx="3816360" cy="429264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5859360" y="3162240"/>
                <a:ext cx="3273480" cy="368316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6400800" y="3772080"/>
                <a:ext cx="2732040" cy="307332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6908760" y="4343400"/>
                <a:ext cx="2224080" cy="250200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7434360" y="4933800"/>
                <a:ext cx="1698480" cy="191160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924680" y="5486400"/>
                <a:ext cx="1208160" cy="135900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8399520" y="6019920"/>
                <a:ext cx="733320" cy="82548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8872560" y="6553080"/>
                <a:ext cx="260280" cy="29232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0" y="0"/>
                <a:ext cx="203040" cy="22860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3363840" y="361800"/>
                <a:ext cx="5762520" cy="6483600"/>
              </a:xfrm>
              <a:prstGeom prst="line">
                <a:avLst/>
              </a:prstGeom>
              <a:ln w="12600">
                <a:solidFill>
                  <a:srgbClr val="003b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457200" y="1600200"/>
              <a:ext cx="8229600" cy="4191120"/>
            </a:xfrm>
            <a:prstGeom prst="rect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b7a5"/>
                </a:gs>
              </a:gsLst>
              <a:lin ang="5400000"/>
            </a:gradFill>
            <a:ln w="12600">
              <a:solidFill>
                <a:srgbClr val="d6009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335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  <a:ea typeface="Times New Roman"/>
              </a:rPr>
              <a:t>Exam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153280" cy="38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99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ample tests on Web 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99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cur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99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wo methods -- public instance method and a private static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99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municate with the private method via parameters, return value and static vari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99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page 478, size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  <a:ea typeface="Times New Roman"/>
              </a:rPr>
              <a:t>Exam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09480" y="1676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tic int cou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ublic int size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unt = 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eorder(theAdd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turn cou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  <a:ea typeface="Times New Roman"/>
              </a:rPr>
              <a:t>Exam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n’t need to know anything about passing a method as a parame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eikh Agam Sahni</dc:creator>
  <dc:description/>
  <dc:language>en-US</dc:language>
  <cp:lastModifiedBy>Sheikh Agam Sahni</cp:lastModifiedBy>
  <cp:revision>0</cp:revision>
  <dc:subject/>
  <dc:title>Exam 2</dc:title>
</cp:coreProperties>
</file>