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95A-7600-4287-B91E-3D953305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39C-76B9-4F48-9D29-804A00F8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26A-9719-4831-9E1D-4982E726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2D6-51C9-49BC-8B43-C06EC491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4CB-1060-47E8-97BC-1AAC92B8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B11-AD93-48E3-9547-E2E925E4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BB0-0702-4FB9-B5A4-F697D7EB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40C-7B4E-4DF0-999F-2CD41CC1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128-DD69-4EEA-8241-BB94F032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39E-413F-4A90-8892-86C2FC86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23B-52F8-4CDE-A80F-F4106DA8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7BC-1865-4AEA-A7D9-50353162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60EB-671C-4437-81B6-83211B9A3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1 … Wednesday, Sept 16, Periods E2 and E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 2333, 2334, 2336, 2342, 2346, 23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bulletin board for section to room m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ecture on Wednesday Period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’s lecture will be taped Thursday Period 4 in CSE 22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16:05:40Z</dcterms:created>
  <dc:creator>Preferred Customer</dc:creator>
  <dc:description/>
  <dc:language>en-US</dc:language>
  <cp:lastModifiedBy>Preferred Customer</cp:lastModifiedBy>
  <dcterms:modified xsi:type="dcterms:W3CDTF">2001-09-24T14:15:26Z</dcterms:modified>
  <cp:revision>3</cp:revision>
  <dc:subject/>
  <dc:title>Announcements</dc:title>
</cp:coreProperties>
</file>