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C6E-091E-4301-AA7C-C9FEC641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DFF-B315-41BC-8665-FBB6499F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49A-2191-4E82-A118-8F81BCF1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A29-1FDB-4AEF-8713-C729D5AD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CA0-73A9-4951-A97E-82582EE3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E08-0EA4-491B-ACD8-C1A0F78C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705-D1E2-404C-B595-890F1E5F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9C9-8886-405B-89EE-D84675F1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680-9E02-45A0-8A0A-1C1826B0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6D4-E704-4750-95BC-F87CC42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BF6-5BA6-487B-A1DE-EC38365F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DAB-A8D7-42CE-BCCE-80AAAF87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A1ED-D020-46AF-9969-324ABE6E9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" descr=""/>
          <p:cNvPicPr/>
          <p:nvPr/>
        </p:nvPicPr>
        <p:blipFill>
          <a:blip r:embed="rId1"/>
          <a:stretch/>
        </p:blipFill>
        <p:spPr>
          <a:xfrm>
            <a:off x="2000160" y="233280"/>
            <a:ext cx="514368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ing of 10/10 lecture on 10/9 Period 4, CSE 12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ing of 10/17 lecture on 10/16 Period 4, CSE 12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Preferred Customer</cp:lastModifiedBy>
  <dcterms:modified xsi:type="dcterms:W3CDTF">2001-10-08T14:07:14Z</dcterms:modified>
  <cp:revision>8</cp:revision>
  <dc:subject/>
  <dc:title>Announcements</dc:title>
</cp:coreProperties>
</file>