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0274-0386-4CE3-8922-8606AC242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3BBD-F089-4C07-A877-E2E22C48F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B04D-6538-423B-9D32-BE7856A12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211B-B0A3-429C-A77B-D077A483C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577F-73BF-4ED8-BA7A-850F14FC2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07D5-5B51-472E-BA2A-2A4DFB9E7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8161-2CE7-4CA4-8EA9-C078E95B2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D579-57DE-42C0-B0A2-F81B1681B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BDD0-720D-484B-AABA-235FD6E0D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DA56-D8C6-4A4B-9074-B17BD7C64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6060-45A3-42D6-BBC4-DCEF17600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E61F-AD5C-40A0-8D6A-6287B9C94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DA954-FD1F-4D52-B77B-30F6DE1B18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nounc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 2 has been grad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lecture Wednesd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ignment 4 due Wednesd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ignment 5 will be posted Monday and will be due 12/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cture 41 will be taped and put on Internet. Optio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2T16:05:40Z</dcterms:created>
  <dc:creator>Preferred Customer</dc:creator>
  <dc:description/>
  <dc:language>en-US</dc:language>
  <cp:lastModifiedBy>Preferred Customer</cp:lastModifiedBy>
  <dcterms:modified xsi:type="dcterms:W3CDTF">2001-11-14T14:28:06Z</dcterms:modified>
  <cp:revision>4</cp:revision>
  <dc:subject/>
  <dc:title>Announcements</dc:title>
</cp:coreProperties>
</file>