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5B5-566D-4D7A-83FF-7B0D0D15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0E4-7774-4481-B11F-1FBD778F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BC8-CF45-468A-875C-C856DD81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D02-10B8-49DC-B457-293C6B28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A9B-D7AD-43B0-86B8-D8C74954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9CA-A371-406A-B89D-01D1BAF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6D2-BEA8-4B8C-AF0A-69BBFD6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085-2854-4395-8D73-2EF0820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D21-1A3A-4A7D-B17E-A866C90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CF5-1099-45C7-848C-CCF3507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A9D-B56E-43D0-98C2-834BFD6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9C2-9241-46C8-A4B4-8529AD0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B2A-252C-4433-BCA2-713FA0238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1 average 61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 average 83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remaining assignment and exam scores to historic aver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o some form of extrapolation from Exam 2 &amp;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opcroft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6244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2:15:38Z</dcterms:created>
  <dc:creator>sahni</dc:creator>
  <dc:description/>
  <dc:language>en-US</dc:language>
  <cp:lastModifiedBy>sahni</cp:lastModifiedBy>
  <dcterms:modified xsi:type="dcterms:W3CDTF">2003-10-10T14:08:30Z</dcterms:modified>
  <cp:revision>5</cp:revision>
  <dc:subject/>
  <dc:title>Announcements</dc:title>
</cp:coreProperties>
</file>