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F29-28B8-4830-A62F-26C14794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359-C895-41A4-B368-C5B780AA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753-8EBB-4209-B84A-E56A169F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556-2656-457B-A2BD-B52F6E7C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F56-AECD-4FDB-BF35-3558879A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674-BC09-47A3-9C24-964E559E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553-4082-4A6D-A6BD-AE6CEDED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C303-62FE-40FA-AF78-799F81F2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ADF-BEC8-4B3D-B7A4-3C3372CD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8D52-A001-48AF-BE92-922C84DD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6BA-34FB-46ED-942C-F4517380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59D-44E9-43C2-B1EC-724A4679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AF6D-CFC7-4296-BEF5-68BD42C36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 2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M Day—Monday Oct.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 lecture on Web site (Lec 1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back during class Mon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1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46818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2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472284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3" descr=""/>
          <p:cNvPicPr/>
          <p:nvPr/>
        </p:nvPicPr>
        <p:blipFill>
          <a:blip r:embed="rId1"/>
          <a:stretch/>
        </p:blipFill>
        <p:spPr>
          <a:xfrm>
            <a:off x="2362320" y="266760"/>
            <a:ext cx="495936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2:15:38Z</dcterms:created>
  <dc:creator>sahni</dc:creator>
  <dc:description/>
  <dc:language>en-US</dc:language>
  <cp:lastModifiedBy>sahni</cp:lastModifiedBy>
  <dcterms:modified xsi:type="dcterms:W3CDTF">2003-10-03T12:15:48Z</dcterms:modified>
  <cp:revision>1</cp:revision>
  <dc:subject/>
  <dc:title>Announcements</dc:title>
</cp:coreProperties>
</file>