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4ECD-FECA-41C9-BE90-7B1E4148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2E3F-1BC8-44E6-AB8C-F05F718E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99C-47CD-4643-8D23-93AB3A08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03A-227C-42DB-875E-B4AA85D3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8D1D-3B23-497E-A14E-91288045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790-9B84-47A5-B538-932981EA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6E0D-7E62-4196-9511-6FA963E4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013-71BC-48C8-ACDC-D49EAB5C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53F5-DF26-474E-B29B-CFDAC00E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DDF-7079-4993-9093-415C7053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8777-F1A3-4BAA-95B3-C0E3AA36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CE9-E816-4390-9642-08E66EB7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48FB-5EEB-44B0-B850-57DA9D611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 1 conflic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darshan Narasimhan narasim@cise.ufl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ment 1 posted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ssions electronically checked for similar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16:05:40Z</dcterms:created>
  <dc:creator>Preferred Customer</dc:creator>
  <dc:description/>
  <dc:language>en-US</dc:language>
  <cp:lastModifiedBy>sahni</cp:lastModifiedBy>
  <dcterms:modified xsi:type="dcterms:W3CDTF">2003-09-09T17:54:26Z</dcterms:modified>
  <cp:revision>4</cp:revision>
  <dc:subject/>
  <dc:title>Announcements</dc:title>
</cp:coreProperties>
</file>