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40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302724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7480" y="-1440"/>
            <a:ext cx="30276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9360" y="701280"/>
            <a:ext cx="4626000" cy="3467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17120"/>
            <a:ext cx="302724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7480" y="8817120"/>
            <a:ext cx="30276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F369E-22C7-43B0-A2D3-9DD676593BF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sldImg"/>
          </p:nvPr>
        </p:nvSpPr>
        <p:spPr>
          <a:xfrm>
            <a:off x="1181160" y="701640"/>
            <a:ext cx="4622760" cy="3467160"/>
          </a:xfrm>
          <a:prstGeom prst="rect">
            <a:avLst/>
          </a:prstGeom>
          <a:ln w="0">
            <a:noFill/>
          </a:ln>
        </p:spPr>
      </p:sp>
      <p:sp>
        <p:nvSpPr>
          <p:cNvPr id="73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en you move forward on an x =1 branch, add to a variable that keeps track of the sum of the subset represented by the node. When you move back on an x = 1 branch, subtract. Moving in either direction along an x = 0 branch requires no add/subtract. When you reach a node with the desired sum, terminate. When you reach a node whose sum exceeds the desired sum, backtrack; do not move into this nodes subtrees. When you  make a right child move see if the desired sum is attainable by adding in all remaining integers; for this keep another variable that gives you the sum of the remaining integer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81160" y="701640"/>
            <a:ext cx="4622760" cy="346716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ee organizations in which nonleaf nodes represent members of the solution space are also possi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8DC0-14B1-4595-AC2E-E5086C442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44E2-DABF-452F-891D-172648E3A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3DDD-01D0-449A-B833-6B0089640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7FE6-B355-4144-A89A-53F0B1591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321B-FF48-4E98-8A28-62B4FFEFB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A456-579E-44F1-980F-D69F7B6DC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4B24-740C-4148-869A-933819F6E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74E4-9B47-486E-B184-A055A99E5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C6C6-77BC-4B2A-87FD-165C7EBBF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612E-8843-4B24-9A09-0CFD82A89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02BA-165C-4AA5-998C-1A2BE100B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4016-280D-4092-8DB8-BE06449F0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00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EF2EB-7B83-49BD-9E23-D6B7442CA5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1.gif"/><Relationship Id="rId4" Type="http://schemas.openxmlformats.org/officeDocument/2006/relationships/image" Target="../media/image2.gif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9066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acktracking And Branch And Bound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49" name="SPOTLIGH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1189080" cy="1096920"/>
          </a:xfrm>
          <a:prstGeom prst="rect">
            <a:avLst/>
          </a:prstGeom>
          <a:ln w="0">
            <a:noFill/>
          </a:ln>
        </p:spPr>
      </p:pic>
      <p:pic>
        <p:nvPicPr>
          <p:cNvPr id="50" name="LEFTSPOT" descr=""/>
          <p:cNvPicPr/>
          <p:nvPr/>
        </p:nvPicPr>
        <p:blipFill>
          <a:blip r:embed="rId2"/>
          <a:stretch/>
        </p:blipFill>
        <p:spPr>
          <a:xfrm>
            <a:off x="7543800" y="1371600"/>
            <a:ext cx="1189080" cy="1096920"/>
          </a:xfrm>
          <a:prstGeom prst="rect">
            <a:avLst/>
          </a:prstGeom>
          <a:ln w="0">
            <a:noFill/>
          </a:ln>
        </p:spPr>
      </p:pic>
      <p:pic>
        <p:nvPicPr>
          <p:cNvPr id="51" name="SPOTLIGH" descr=""/>
          <p:cNvPicPr/>
          <p:nvPr/>
        </p:nvPicPr>
        <p:blipFill>
          <a:blip r:embed="rId3"/>
          <a:stretch/>
        </p:blipFill>
        <p:spPr>
          <a:xfrm>
            <a:off x="2743200" y="1371600"/>
            <a:ext cx="1189080" cy="1096920"/>
          </a:xfrm>
          <a:prstGeom prst="rect">
            <a:avLst/>
          </a:prstGeom>
          <a:ln w="0">
            <a:noFill/>
          </a:ln>
        </p:spPr>
      </p:pic>
      <p:pic>
        <p:nvPicPr>
          <p:cNvPr id="52" name="LEFTSPOT" descr=""/>
          <p:cNvPicPr/>
          <p:nvPr/>
        </p:nvPicPr>
        <p:blipFill>
          <a:blip r:embed="rId4"/>
          <a:stretch/>
        </p:blipFill>
        <p:spPr>
          <a:xfrm>
            <a:off x="5257800" y="1371600"/>
            <a:ext cx="1189080" cy="10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acktracking Depth-First Search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197240" y="1378080"/>
            <a:ext cx="216000" cy="2156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2285640" y="1600200"/>
            <a:ext cx="198108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9840" y="2901960"/>
            <a:ext cx="21600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86000" y="1676520"/>
            <a:ext cx="106668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419720" y="1600200"/>
            <a:ext cx="205740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7280" y="2901960"/>
            <a:ext cx="21564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257800" y="1600200"/>
            <a:ext cx="106668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1066680" y="3124080"/>
            <a:ext cx="106704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996840" y="4197240"/>
            <a:ext cx="21600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3520" y="3276720"/>
            <a:ext cx="106668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286000" y="3124080"/>
            <a:ext cx="99072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206880" y="4121280"/>
            <a:ext cx="215640" cy="2156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895480" y="3276720"/>
            <a:ext cx="106704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5562720" y="3124080"/>
            <a:ext cx="83808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416560" y="4044960"/>
            <a:ext cx="21600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952880" y="3200400"/>
            <a:ext cx="106704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629400" y="3124080"/>
            <a:ext cx="9907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626240" y="3968640"/>
            <a:ext cx="21600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238880" y="3124080"/>
            <a:ext cx="106704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533160" y="4419720"/>
            <a:ext cx="53316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87360" y="5111640"/>
            <a:ext cx="21600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143000" y="441972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454040" y="5111640"/>
            <a:ext cx="21600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2666880" y="4343400"/>
            <a:ext cx="60984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597040" y="5111640"/>
            <a:ext cx="21600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352680" y="4343400"/>
            <a:ext cx="45720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740040" y="5111640"/>
            <a:ext cx="21600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H="1">
            <a:off x="5029200" y="4267080"/>
            <a:ext cx="4572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883040" y="5111640"/>
            <a:ext cx="21600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562720" y="4267080"/>
            <a:ext cx="53316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026040" y="5111640"/>
            <a:ext cx="21600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7238880" y="4191120"/>
            <a:ext cx="45720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169040" y="5111640"/>
            <a:ext cx="21600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848720" y="4191120"/>
            <a:ext cx="60948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8312040" y="5111640"/>
            <a:ext cx="21600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82440" y="5334120"/>
            <a:ext cx="8750520" cy="755640"/>
            <a:chOff x="82440" y="5334120"/>
            <a:chExt cx="8750520" cy="755640"/>
          </a:xfrm>
        </p:grpSpPr>
        <p:sp>
          <p:nvSpPr>
            <p:cNvPr id="304" name=""/>
            <p:cNvSpPr/>
            <p:nvPr/>
          </p:nvSpPr>
          <p:spPr>
            <a:xfrm>
              <a:off x="8244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1596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22544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75896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36844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90196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51144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04496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65444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18796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79744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33096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94044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47396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808344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861696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>
              <a:off x="151920" y="5334120"/>
              <a:ext cx="3049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33520" y="5334120"/>
              <a:ext cx="15228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H="1">
              <a:off x="1371240" y="5334120"/>
              <a:ext cx="15228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600200" y="5334120"/>
              <a:ext cx="22860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H="1">
              <a:off x="2514240" y="5334120"/>
              <a:ext cx="15228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43200" y="5334120"/>
              <a:ext cx="22860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>
              <a:off x="3657240" y="5334120"/>
              <a:ext cx="15228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886200" y="5334120"/>
              <a:ext cx="22860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4723920" y="5334120"/>
              <a:ext cx="22860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029200" y="5334120"/>
              <a:ext cx="3049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5866920" y="5334120"/>
              <a:ext cx="22860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172200" y="5334120"/>
              <a:ext cx="3049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7009920" y="5334120"/>
              <a:ext cx="22860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315200" y="5334120"/>
              <a:ext cx="3049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8152920" y="5334120"/>
              <a:ext cx="22860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8458200" y="5334120"/>
              <a:ext cx="3049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6" name=""/>
          <p:cNvSpPr/>
          <p:nvPr/>
        </p:nvSpPr>
        <p:spPr>
          <a:xfrm>
            <a:off x="615960" y="5873760"/>
            <a:ext cx="216000" cy="2160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197240" y="1378080"/>
            <a:ext cx="216000" cy="21564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139840" y="2901960"/>
            <a:ext cx="216000" cy="2160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996840" y="4197240"/>
            <a:ext cx="216000" cy="2160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87360" y="5111640"/>
            <a:ext cx="216000" cy="2160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acktracking Depth-First Search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197240" y="1378080"/>
            <a:ext cx="216000" cy="2156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2285640" y="1600200"/>
            <a:ext cx="198108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139840" y="2901960"/>
            <a:ext cx="21600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286000" y="1676520"/>
            <a:ext cx="106668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19720" y="1600200"/>
            <a:ext cx="205740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407280" y="2901960"/>
            <a:ext cx="21564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257800" y="1600200"/>
            <a:ext cx="106668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H="1">
            <a:off x="1066680" y="3124080"/>
            <a:ext cx="106704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996840" y="4197240"/>
            <a:ext cx="21600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33520" y="3276720"/>
            <a:ext cx="106668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286000" y="3124080"/>
            <a:ext cx="99072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206880" y="4121280"/>
            <a:ext cx="215640" cy="2156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895480" y="3276720"/>
            <a:ext cx="106704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5562720" y="3124080"/>
            <a:ext cx="83808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416560" y="4044960"/>
            <a:ext cx="21600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952880" y="3200400"/>
            <a:ext cx="106704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629400" y="3124080"/>
            <a:ext cx="9907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626240" y="3968640"/>
            <a:ext cx="21600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238880" y="3124080"/>
            <a:ext cx="106704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533160" y="4419720"/>
            <a:ext cx="53316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87360" y="5111640"/>
            <a:ext cx="21600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143000" y="441972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454040" y="5111640"/>
            <a:ext cx="21600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H="1">
            <a:off x="2666880" y="4343400"/>
            <a:ext cx="60984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597040" y="5111640"/>
            <a:ext cx="21600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352680" y="4343400"/>
            <a:ext cx="45720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740040" y="5111640"/>
            <a:ext cx="21600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H="1">
            <a:off x="5029200" y="4267080"/>
            <a:ext cx="4572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883040" y="5111640"/>
            <a:ext cx="21600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562720" y="4267080"/>
            <a:ext cx="53316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026040" y="5111640"/>
            <a:ext cx="21600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7238880" y="4191120"/>
            <a:ext cx="45720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7169040" y="5111640"/>
            <a:ext cx="21600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7848720" y="4191120"/>
            <a:ext cx="60948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8312040" y="5111640"/>
            <a:ext cx="21600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7" name=""/>
          <p:cNvGrpSpPr/>
          <p:nvPr/>
        </p:nvGrpSpPr>
        <p:grpSpPr>
          <a:xfrm>
            <a:off x="82440" y="5334120"/>
            <a:ext cx="8750520" cy="755640"/>
            <a:chOff x="82440" y="5334120"/>
            <a:chExt cx="8750520" cy="755640"/>
          </a:xfrm>
        </p:grpSpPr>
        <p:sp>
          <p:nvSpPr>
            <p:cNvPr id="378" name=""/>
            <p:cNvSpPr/>
            <p:nvPr/>
          </p:nvSpPr>
          <p:spPr>
            <a:xfrm>
              <a:off x="8244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1596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22544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75896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36844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90196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51144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04496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65444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18796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79744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33096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94044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47396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808344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861696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H="1">
              <a:off x="151920" y="5334120"/>
              <a:ext cx="3049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33520" y="5334120"/>
              <a:ext cx="15228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H="1">
              <a:off x="1371240" y="5334120"/>
              <a:ext cx="15228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00200" y="5334120"/>
              <a:ext cx="22860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>
              <a:off x="2514240" y="5334120"/>
              <a:ext cx="15228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743200" y="5334120"/>
              <a:ext cx="22860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>
              <a:off x="3657240" y="5334120"/>
              <a:ext cx="15228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886200" y="5334120"/>
              <a:ext cx="22860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H="1">
              <a:off x="4723920" y="5334120"/>
              <a:ext cx="22860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029200" y="5334120"/>
              <a:ext cx="3049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H="1">
              <a:off x="5866920" y="5334120"/>
              <a:ext cx="22860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172200" y="5334120"/>
              <a:ext cx="3049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7009920" y="5334120"/>
              <a:ext cx="22860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315200" y="5334120"/>
              <a:ext cx="3049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flipH="1">
              <a:off x="8152920" y="5334120"/>
              <a:ext cx="22860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8458200" y="5334120"/>
              <a:ext cx="3049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0" name=""/>
          <p:cNvSpPr/>
          <p:nvPr/>
        </p:nvSpPr>
        <p:spPr>
          <a:xfrm>
            <a:off x="4197240" y="1378080"/>
            <a:ext cx="216000" cy="21564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139840" y="2901960"/>
            <a:ext cx="216000" cy="2160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996840" y="4197240"/>
            <a:ext cx="216000" cy="2160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87360" y="5111640"/>
            <a:ext cx="216000" cy="2160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87360" y="5111640"/>
            <a:ext cx="21600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454040" y="5111640"/>
            <a:ext cx="216000" cy="2160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225440" y="5873760"/>
            <a:ext cx="216000" cy="2160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acktracking Depth-First Search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197240" y="1378080"/>
            <a:ext cx="216000" cy="2156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>
            <a:off x="2285640" y="1600200"/>
            <a:ext cx="198108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139840" y="2901960"/>
            <a:ext cx="21600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286000" y="1676520"/>
            <a:ext cx="106668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419720" y="1600200"/>
            <a:ext cx="205740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407280" y="2901960"/>
            <a:ext cx="21564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257800" y="1600200"/>
            <a:ext cx="106668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flipH="1">
            <a:off x="1066680" y="3124080"/>
            <a:ext cx="106704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996840" y="4197240"/>
            <a:ext cx="21600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33520" y="3276720"/>
            <a:ext cx="106668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286000" y="3124080"/>
            <a:ext cx="99072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206880" y="4121280"/>
            <a:ext cx="215640" cy="2156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895480" y="3276720"/>
            <a:ext cx="106704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H="1">
            <a:off x="5562720" y="3124080"/>
            <a:ext cx="83808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16560" y="4044960"/>
            <a:ext cx="21600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52880" y="3200400"/>
            <a:ext cx="106704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629400" y="3124080"/>
            <a:ext cx="9907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7626240" y="3968640"/>
            <a:ext cx="21600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7238880" y="3124080"/>
            <a:ext cx="106704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flipH="1">
            <a:off x="533160" y="4419720"/>
            <a:ext cx="53316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87360" y="5111640"/>
            <a:ext cx="21600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143000" y="441972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454040" y="5111640"/>
            <a:ext cx="21600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2666880" y="4343400"/>
            <a:ext cx="60984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597040" y="5111640"/>
            <a:ext cx="21600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352680" y="4343400"/>
            <a:ext cx="45720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740040" y="5111640"/>
            <a:ext cx="21600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flipH="1">
            <a:off x="5029200" y="4267080"/>
            <a:ext cx="4572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883040" y="5111640"/>
            <a:ext cx="21600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562720" y="4267080"/>
            <a:ext cx="53316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026040" y="5111640"/>
            <a:ext cx="21600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 flipH="1">
            <a:off x="7238880" y="4191120"/>
            <a:ext cx="45720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169040" y="5111640"/>
            <a:ext cx="21600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7848720" y="4191120"/>
            <a:ext cx="60948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8312040" y="5111640"/>
            <a:ext cx="21600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82440" y="5334120"/>
            <a:ext cx="8750520" cy="755640"/>
            <a:chOff x="82440" y="5334120"/>
            <a:chExt cx="8750520" cy="755640"/>
          </a:xfrm>
        </p:grpSpPr>
        <p:sp>
          <p:nvSpPr>
            <p:cNvPr id="454" name=""/>
            <p:cNvSpPr/>
            <p:nvPr/>
          </p:nvSpPr>
          <p:spPr>
            <a:xfrm>
              <a:off x="8244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1596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22544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75896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36844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90196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51144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04496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65444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18796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79744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33096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94044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47396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08344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861696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 flipH="1">
              <a:off x="151920" y="5334120"/>
              <a:ext cx="3049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33520" y="5334120"/>
              <a:ext cx="15228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 flipH="1">
              <a:off x="1371240" y="5334120"/>
              <a:ext cx="15228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600200" y="5334120"/>
              <a:ext cx="22860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flipH="1">
              <a:off x="2514240" y="5334120"/>
              <a:ext cx="15228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743200" y="5334120"/>
              <a:ext cx="22860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 flipH="1">
              <a:off x="3657240" y="5334120"/>
              <a:ext cx="15228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886200" y="5334120"/>
              <a:ext cx="22860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 flipH="1">
              <a:off x="4723920" y="5334120"/>
              <a:ext cx="22860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029200" y="5334120"/>
              <a:ext cx="3049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 flipH="1">
              <a:off x="5866920" y="5334120"/>
              <a:ext cx="22860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172200" y="5334120"/>
              <a:ext cx="3049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flipH="1">
              <a:off x="7009920" y="5334120"/>
              <a:ext cx="22860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315200" y="5334120"/>
              <a:ext cx="3049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 flipH="1">
              <a:off x="8152920" y="5334120"/>
              <a:ext cx="22860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8458200" y="5334120"/>
              <a:ext cx="3049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6" name=""/>
          <p:cNvSpPr/>
          <p:nvPr/>
        </p:nvSpPr>
        <p:spPr>
          <a:xfrm>
            <a:off x="4197240" y="1378080"/>
            <a:ext cx="216000" cy="21564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139840" y="2901960"/>
            <a:ext cx="216000" cy="2160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996840" y="4197240"/>
            <a:ext cx="216000" cy="2160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1454040" y="5111640"/>
            <a:ext cx="216000" cy="2160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758960" y="5873760"/>
            <a:ext cx="216000" cy="2160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acktracking Depth-First Search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197240" y="1378080"/>
            <a:ext cx="216000" cy="2156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 flipH="1">
            <a:off x="2285640" y="1600200"/>
            <a:ext cx="198108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139840" y="2901960"/>
            <a:ext cx="21600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286000" y="1676520"/>
            <a:ext cx="106668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419720" y="1600200"/>
            <a:ext cx="205740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407280" y="2901960"/>
            <a:ext cx="21564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257800" y="1600200"/>
            <a:ext cx="106668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1066680" y="3124080"/>
            <a:ext cx="106704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996840" y="4197240"/>
            <a:ext cx="21600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33520" y="3276720"/>
            <a:ext cx="106668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286000" y="3124080"/>
            <a:ext cx="99072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206880" y="4121280"/>
            <a:ext cx="215640" cy="2156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895480" y="3276720"/>
            <a:ext cx="106704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 flipH="1">
            <a:off x="5562720" y="3124080"/>
            <a:ext cx="83808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416560" y="4044960"/>
            <a:ext cx="21600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4952880" y="3200400"/>
            <a:ext cx="106704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629400" y="3124080"/>
            <a:ext cx="9907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626240" y="3968640"/>
            <a:ext cx="21600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38880" y="3124080"/>
            <a:ext cx="106704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H="1">
            <a:off x="533160" y="4419720"/>
            <a:ext cx="53316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87360" y="5111640"/>
            <a:ext cx="21600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143000" y="441972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454040" y="5111640"/>
            <a:ext cx="21600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 flipH="1">
            <a:off x="2666880" y="4343400"/>
            <a:ext cx="60984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2597040" y="5111640"/>
            <a:ext cx="21600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352680" y="4343400"/>
            <a:ext cx="45720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740040" y="5111640"/>
            <a:ext cx="21600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 flipH="1">
            <a:off x="5029200" y="4267080"/>
            <a:ext cx="4572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4883040" y="5111640"/>
            <a:ext cx="21600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5562720" y="4267080"/>
            <a:ext cx="53316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026040" y="5111640"/>
            <a:ext cx="21600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 flipH="1">
            <a:off x="7238880" y="4191120"/>
            <a:ext cx="45720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7169040" y="5111640"/>
            <a:ext cx="21600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7848720" y="4191120"/>
            <a:ext cx="60948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8312040" y="5111640"/>
            <a:ext cx="21600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7" name=""/>
          <p:cNvGrpSpPr/>
          <p:nvPr/>
        </p:nvGrpSpPr>
        <p:grpSpPr>
          <a:xfrm>
            <a:off x="82440" y="5334120"/>
            <a:ext cx="8750520" cy="755640"/>
            <a:chOff x="82440" y="5334120"/>
            <a:chExt cx="8750520" cy="755640"/>
          </a:xfrm>
        </p:grpSpPr>
        <p:sp>
          <p:nvSpPr>
            <p:cNvPr id="528" name=""/>
            <p:cNvSpPr/>
            <p:nvPr/>
          </p:nvSpPr>
          <p:spPr>
            <a:xfrm>
              <a:off x="8244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1596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22544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75896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36844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90196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51144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04496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65444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18796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79744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33096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94044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47396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808344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861696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 flipH="1">
              <a:off x="151920" y="5334120"/>
              <a:ext cx="3049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533520" y="5334120"/>
              <a:ext cx="15228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H="1">
              <a:off x="1371240" y="5334120"/>
              <a:ext cx="15228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1600200" y="5334120"/>
              <a:ext cx="22860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 flipH="1">
              <a:off x="2514240" y="5334120"/>
              <a:ext cx="15228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2743200" y="5334120"/>
              <a:ext cx="22860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 flipH="1">
              <a:off x="3657240" y="5334120"/>
              <a:ext cx="15228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886200" y="5334120"/>
              <a:ext cx="22860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flipH="1">
              <a:off x="4723920" y="5334120"/>
              <a:ext cx="22860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29200" y="5334120"/>
              <a:ext cx="3049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 flipH="1">
              <a:off x="5866920" y="5334120"/>
              <a:ext cx="22860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172200" y="5334120"/>
              <a:ext cx="3049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 flipH="1">
              <a:off x="7009920" y="5334120"/>
              <a:ext cx="22860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7315200" y="5334120"/>
              <a:ext cx="3049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H="1">
              <a:off x="8152920" y="5334120"/>
              <a:ext cx="22860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8458200" y="5334120"/>
              <a:ext cx="3049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0" name=""/>
          <p:cNvSpPr/>
          <p:nvPr/>
        </p:nvSpPr>
        <p:spPr>
          <a:xfrm>
            <a:off x="4197240" y="1378080"/>
            <a:ext cx="216000" cy="21564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9840" y="2901960"/>
            <a:ext cx="216000" cy="2160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996840" y="4197240"/>
            <a:ext cx="216000" cy="2160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1454040" y="5111640"/>
            <a:ext cx="216000" cy="2160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1454040" y="5111640"/>
            <a:ext cx="21600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996840" y="4197240"/>
            <a:ext cx="21600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206880" y="4121280"/>
            <a:ext cx="215640" cy="21564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597040" y="5111640"/>
            <a:ext cx="216000" cy="2160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2368440" y="5873760"/>
            <a:ext cx="216000" cy="2160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O(2</a:t>
            </a:r>
            <a:r>
              <a:rPr b="0" lang="en-US" sz="4000" spc="-1" strike="noStrike" baseline="30000">
                <a:solidFill>
                  <a:srgbClr val="000099"/>
                </a:solidFill>
                <a:latin typeface="Times New Roman"/>
              </a:rPr>
              <a:t>n</a:t>
            </a: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) Subet Sum &amp; Bounding Function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82440" y="1378080"/>
            <a:ext cx="8750520" cy="4711680"/>
            <a:chOff x="82440" y="1378080"/>
            <a:chExt cx="8750520" cy="4711680"/>
          </a:xfrm>
        </p:grpSpPr>
        <p:sp>
          <p:nvSpPr>
            <p:cNvPr id="571" name=""/>
            <p:cNvSpPr/>
            <p:nvPr/>
          </p:nvSpPr>
          <p:spPr>
            <a:xfrm>
              <a:off x="4197240" y="1378080"/>
              <a:ext cx="216000" cy="2156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 flipH="1">
              <a:off x="2285640" y="1600200"/>
              <a:ext cx="1981080" cy="129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2139840" y="29019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286000" y="1676520"/>
              <a:ext cx="1066680" cy="64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x</a:t>
              </a:r>
              <a:r>
                <a:rPr b="0" lang="en-US" sz="3200" spc="-1" strike="noStrike" baseline="-25000">
                  <a:solidFill>
                    <a:srgbClr val="ff0033"/>
                  </a:solidFill>
                  <a:latin typeface="Times New Roman"/>
                </a:rPr>
                <a:t>1</a:t>
              </a: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=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4419720" y="1600200"/>
              <a:ext cx="2057400" cy="129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407280" y="2901960"/>
              <a:ext cx="21564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257800" y="1600200"/>
              <a:ext cx="1066680" cy="64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x</a:t>
              </a:r>
              <a:r>
                <a:rPr b="0" lang="en-US" sz="3200" spc="-1" strike="noStrike" baseline="-25000">
                  <a:solidFill>
                    <a:srgbClr val="ff0033"/>
                  </a:solidFill>
                  <a:latin typeface="Times New Roman"/>
                </a:rPr>
                <a:t>1</a:t>
              </a: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= 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 flipH="1">
              <a:off x="1066680" y="3124080"/>
              <a:ext cx="1067040" cy="1067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996840" y="419724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533520" y="3276720"/>
              <a:ext cx="1066680" cy="64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x</a:t>
              </a:r>
              <a:r>
                <a:rPr b="0" lang="en-US" sz="3200" spc="-1" strike="noStrike" baseline="-25000">
                  <a:solidFill>
                    <a:srgbClr val="ff0033"/>
                  </a:solidFill>
                  <a:latin typeface="Times New Roman"/>
                </a:rPr>
                <a:t>2</a:t>
              </a: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=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2286000" y="3124080"/>
              <a:ext cx="990720" cy="99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206880" y="4121280"/>
              <a:ext cx="215640" cy="2156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2895480" y="3276720"/>
              <a:ext cx="1067040" cy="64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x</a:t>
              </a:r>
              <a:r>
                <a:rPr b="0" lang="en-US" sz="3200" spc="-1" strike="noStrike" baseline="-25000">
                  <a:solidFill>
                    <a:srgbClr val="ff0033"/>
                  </a:solidFill>
                  <a:latin typeface="Times New Roman"/>
                </a:rPr>
                <a:t>2</a:t>
              </a: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= 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 flipH="1">
              <a:off x="5562720" y="3124080"/>
              <a:ext cx="83808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416560" y="40449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4952880" y="3200400"/>
              <a:ext cx="1067040" cy="64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x</a:t>
              </a:r>
              <a:r>
                <a:rPr b="0" lang="en-US" sz="3200" spc="-1" strike="noStrike" baseline="-25000">
                  <a:solidFill>
                    <a:srgbClr val="ff0033"/>
                  </a:solidFill>
                  <a:latin typeface="Times New Roman"/>
                </a:rPr>
                <a:t>2</a:t>
              </a: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=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629400" y="3124080"/>
              <a:ext cx="990720" cy="83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7626240" y="396864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7238880" y="3124080"/>
              <a:ext cx="1067040" cy="64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x</a:t>
              </a:r>
              <a:r>
                <a:rPr b="0" lang="en-US" sz="3200" spc="-1" strike="noStrike" baseline="-25000">
                  <a:solidFill>
                    <a:srgbClr val="ff0033"/>
                  </a:solidFill>
                  <a:latin typeface="Times New Roman"/>
                </a:rPr>
                <a:t>2</a:t>
              </a: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= 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 flipH="1">
              <a:off x="533160" y="4419720"/>
              <a:ext cx="53316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87360" y="511164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1143000" y="4419720"/>
              <a:ext cx="38088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1454040" y="511164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H="1">
              <a:off x="2666880" y="4343400"/>
              <a:ext cx="60984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2597040" y="511164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3352680" y="4343400"/>
              <a:ext cx="45720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3740040" y="511164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 flipH="1">
              <a:off x="5029200" y="4267080"/>
              <a:ext cx="457200" cy="83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4883040" y="511164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5562720" y="4267080"/>
              <a:ext cx="533160" cy="83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026040" y="511164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flipH="1">
              <a:off x="7238880" y="4191120"/>
              <a:ext cx="45720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169040" y="511164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848720" y="4191120"/>
              <a:ext cx="60948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8312040" y="511164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6" name=""/>
            <p:cNvGrpSpPr/>
            <p:nvPr/>
          </p:nvGrpSpPr>
          <p:grpSpPr>
            <a:xfrm>
              <a:off x="82440" y="5334120"/>
              <a:ext cx="8750520" cy="755640"/>
              <a:chOff x="82440" y="5334120"/>
              <a:chExt cx="8750520" cy="755640"/>
            </a:xfrm>
          </p:grpSpPr>
          <p:sp>
            <p:nvSpPr>
              <p:cNvPr id="607" name=""/>
              <p:cNvSpPr/>
              <p:nvPr/>
            </p:nvSpPr>
            <p:spPr>
              <a:xfrm>
                <a:off x="82440" y="5873760"/>
                <a:ext cx="216000" cy="21600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615960" y="5873760"/>
                <a:ext cx="216000" cy="21600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1225440" y="5873760"/>
                <a:ext cx="216000" cy="21600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1758960" y="5873760"/>
                <a:ext cx="216000" cy="21600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2368440" y="5873760"/>
                <a:ext cx="216000" cy="21600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2901960" y="5873760"/>
                <a:ext cx="216000" cy="21600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3511440" y="5873760"/>
                <a:ext cx="216000" cy="21600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4044960" y="5873760"/>
                <a:ext cx="216000" cy="21600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4654440" y="5873760"/>
                <a:ext cx="216000" cy="21600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5187960" y="5873760"/>
                <a:ext cx="216000" cy="21600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5797440" y="5873760"/>
                <a:ext cx="216000" cy="21600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6330960" y="5873760"/>
                <a:ext cx="216000" cy="21600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6940440" y="5873760"/>
                <a:ext cx="216000" cy="21600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7473960" y="5873760"/>
                <a:ext cx="216000" cy="21600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8083440" y="5873760"/>
                <a:ext cx="216000" cy="21600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8616960" y="5873760"/>
                <a:ext cx="216000" cy="21600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flipH="1">
                <a:off x="151920" y="5334120"/>
                <a:ext cx="304920" cy="53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533520" y="5334120"/>
                <a:ext cx="152280" cy="53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flipH="1">
                <a:off x="1371240" y="5334120"/>
                <a:ext cx="152280" cy="53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1600200" y="5334120"/>
                <a:ext cx="228600" cy="53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flipH="1">
                <a:off x="2514240" y="5334120"/>
                <a:ext cx="152280" cy="53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2743200" y="5334120"/>
                <a:ext cx="228600" cy="53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flipH="1">
                <a:off x="3657240" y="5334120"/>
                <a:ext cx="152280" cy="53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3886200" y="5334120"/>
                <a:ext cx="228600" cy="53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flipH="1">
                <a:off x="4723920" y="5334120"/>
                <a:ext cx="228600" cy="53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5029200" y="5334120"/>
                <a:ext cx="304920" cy="53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flipH="1">
                <a:off x="5866920" y="5334120"/>
                <a:ext cx="228600" cy="53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6172200" y="5334120"/>
                <a:ext cx="304920" cy="53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flipH="1">
                <a:off x="7009920" y="5334120"/>
                <a:ext cx="228600" cy="53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7315200" y="5334120"/>
                <a:ext cx="304920" cy="53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flipH="1">
                <a:off x="8152920" y="5334120"/>
                <a:ext cx="228600" cy="53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8458200" y="5334120"/>
                <a:ext cx="304920" cy="53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39" name=""/>
          <p:cNvSpPr/>
          <p:nvPr/>
        </p:nvSpPr>
        <p:spPr>
          <a:xfrm>
            <a:off x="76320" y="6324480"/>
            <a:ext cx="88390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forward and backward move take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1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0" y="76212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{10, 5, 2, 1}, c = 1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ounding Function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a node that represents a subset whose sum equals the desired sum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ermina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a node that represents a subset whose sum exceeds the desired sum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backtrack. I.e., do not enter its subtrees, go back to parent no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ep a variabl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at gives you the sum of the numbers not yet considered. When you move to a right child, check if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urrent subset sum + r &gt;= 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If not, backtrac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acktracking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7631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ace required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tree height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 effective bounding functions, large instances can often be solv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some problems (e.g., 0/1 knapsack), the answer (or a very good solution) may be found quickly but a lot of additional time is needed to complete the search of the tr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n backtracking for as much time as is feasible and use best solution found up to that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ranch And Bound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arch the tree using a breadth-first search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(FIF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branch and bound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arch the tree as in a bfs, but replace the FIFO queue with a stack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(LIFO branch and bound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he FIFO queue with a priority queu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(least-cost (or max priority) branch and bound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The priority of a nod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e queue is based on an estimate of the likelihood that the answer node is in the subtree whose root is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ranch And Bound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ace required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number of leaves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some problems, solutions are at different levels of the tree (e.g., 16 puzzl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9" name=""/>
          <p:cNvGrpSpPr/>
          <p:nvPr/>
        </p:nvGrpSpPr>
        <p:grpSpPr>
          <a:xfrm>
            <a:off x="4648320" y="3505320"/>
            <a:ext cx="1828800" cy="1602720"/>
            <a:chOff x="4648320" y="3505320"/>
            <a:chExt cx="1828800" cy="1602720"/>
          </a:xfrm>
        </p:grpSpPr>
        <p:grpSp>
          <p:nvGrpSpPr>
            <p:cNvPr id="650" name=""/>
            <p:cNvGrpSpPr/>
            <p:nvPr/>
          </p:nvGrpSpPr>
          <p:grpSpPr>
            <a:xfrm>
              <a:off x="4724280" y="4343400"/>
              <a:ext cx="749520" cy="748800"/>
              <a:chOff x="4724280" y="4343400"/>
              <a:chExt cx="749520" cy="748800"/>
            </a:xfrm>
          </p:grpSpPr>
          <p:sp>
            <p:nvSpPr>
              <p:cNvPr id="651" name=""/>
              <p:cNvSpPr/>
              <p:nvPr/>
            </p:nvSpPr>
            <p:spPr>
              <a:xfrm>
                <a:off x="4724280" y="4724280"/>
                <a:ext cx="368280" cy="36792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5105520" y="4724280"/>
                <a:ext cx="368280" cy="36792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4724280" y="4343400"/>
                <a:ext cx="368280" cy="36792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5105520" y="4343400"/>
                <a:ext cx="368280" cy="36792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5" name=""/>
            <p:cNvSpPr/>
            <p:nvPr/>
          </p:nvSpPr>
          <p:spPr>
            <a:xfrm>
              <a:off x="5486400" y="472428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5867280" y="4724280"/>
              <a:ext cx="368280" cy="3682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5486400" y="434340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5867280" y="434340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9" name=""/>
            <p:cNvGrpSpPr/>
            <p:nvPr/>
          </p:nvGrpSpPr>
          <p:grpSpPr>
            <a:xfrm>
              <a:off x="4724280" y="3581280"/>
              <a:ext cx="1511280" cy="749160"/>
              <a:chOff x="4724280" y="3581280"/>
              <a:chExt cx="1511280" cy="749160"/>
            </a:xfrm>
          </p:grpSpPr>
          <p:grpSp>
            <p:nvGrpSpPr>
              <p:cNvPr id="660" name=""/>
              <p:cNvGrpSpPr/>
              <p:nvPr/>
            </p:nvGrpSpPr>
            <p:grpSpPr>
              <a:xfrm>
                <a:off x="4724280" y="3581280"/>
                <a:ext cx="749520" cy="749160"/>
                <a:chOff x="4724280" y="3581280"/>
                <a:chExt cx="749520" cy="749160"/>
              </a:xfrm>
            </p:grpSpPr>
            <p:sp>
              <p:nvSpPr>
                <p:cNvPr id="661" name=""/>
                <p:cNvSpPr/>
                <p:nvPr/>
              </p:nvSpPr>
              <p:spPr>
                <a:xfrm>
                  <a:off x="4724280" y="3962160"/>
                  <a:ext cx="368280" cy="36828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>
                  <a:off x="5105520" y="3962160"/>
                  <a:ext cx="368280" cy="36828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>
                  <a:off x="4724280" y="3581280"/>
                  <a:ext cx="368280" cy="36828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>
                  <a:off x="5105520" y="3581280"/>
                  <a:ext cx="368280" cy="36828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5" name=""/>
              <p:cNvGrpSpPr/>
              <p:nvPr/>
            </p:nvGrpSpPr>
            <p:grpSpPr>
              <a:xfrm>
                <a:off x="5486400" y="3581280"/>
                <a:ext cx="749160" cy="749160"/>
                <a:chOff x="5486400" y="3581280"/>
                <a:chExt cx="749160" cy="749160"/>
              </a:xfrm>
            </p:grpSpPr>
            <p:sp>
              <p:nvSpPr>
                <p:cNvPr id="666" name=""/>
                <p:cNvSpPr/>
                <p:nvPr/>
              </p:nvSpPr>
              <p:spPr>
                <a:xfrm>
                  <a:off x="5486400" y="3962160"/>
                  <a:ext cx="368280" cy="36828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>
                  <a:off x="5867280" y="3962160"/>
                  <a:ext cx="368280" cy="36828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>
                  <a:off x="5486400" y="3581280"/>
                  <a:ext cx="368280" cy="36828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>
                  <a:off x="5867280" y="3581280"/>
                  <a:ext cx="368280" cy="36828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70" name=""/>
            <p:cNvSpPr/>
            <p:nvPr/>
          </p:nvSpPr>
          <p:spPr>
            <a:xfrm>
              <a:off x="5105520" y="358128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867280" y="396252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4724280" y="434340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486400" y="472608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4724280" y="350532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105520" y="35053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5486400" y="350532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867280" y="350532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724280" y="388620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5181480" y="388620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5486400" y="388620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867280" y="388620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4724280" y="426708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5029200" y="42670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410080" y="42670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5791320" y="42670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648320" y="46483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5029200" y="46483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5410080" y="46483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9" name=""/>
          <p:cNvGrpSpPr/>
          <p:nvPr/>
        </p:nvGrpSpPr>
        <p:grpSpPr>
          <a:xfrm>
            <a:off x="1143000" y="3505320"/>
            <a:ext cx="1828800" cy="1602720"/>
            <a:chOff x="1143000" y="3505320"/>
            <a:chExt cx="1828800" cy="1602720"/>
          </a:xfrm>
        </p:grpSpPr>
        <p:grpSp>
          <p:nvGrpSpPr>
            <p:cNvPr id="690" name=""/>
            <p:cNvGrpSpPr/>
            <p:nvPr/>
          </p:nvGrpSpPr>
          <p:grpSpPr>
            <a:xfrm>
              <a:off x="1219320" y="4343400"/>
              <a:ext cx="748800" cy="748800"/>
              <a:chOff x="1219320" y="4343400"/>
              <a:chExt cx="748800" cy="748800"/>
            </a:xfrm>
          </p:grpSpPr>
          <p:sp>
            <p:nvSpPr>
              <p:cNvPr id="691" name=""/>
              <p:cNvSpPr/>
              <p:nvPr/>
            </p:nvSpPr>
            <p:spPr>
              <a:xfrm>
                <a:off x="1219320" y="4724280"/>
                <a:ext cx="367920" cy="36792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1600200" y="4724280"/>
                <a:ext cx="367920" cy="36792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1219320" y="4343400"/>
                <a:ext cx="367920" cy="36792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1600200" y="4343400"/>
                <a:ext cx="367920" cy="36792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5" name=""/>
            <p:cNvSpPr/>
            <p:nvPr/>
          </p:nvSpPr>
          <p:spPr>
            <a:xfrm>
              <a:off x="1981080" y="472428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2362320" y="472428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1981080" y="434340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2362320" y="434340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9" name=""/>
            <p:cNvGrpSpPr/>
            <p:nvPr/>
          </p:nvGrpSpPr>
          <p:grpSpPr>
            <a:xfrm>
              <a:off x="1219320" y="3581280"/>
              <a:ext cx="1511280" cy="749160"/>
              <a:chOff x="1219320" y="3581280"/>
              <a:chExt cx="1511280" cy="749160"/>
            </a:xfrm>
          </p:grpSpPr>
          <p:grpSp>
            <p:nvGrpSpPr>
              <p:cNvPr id="700" name=""/>
              <p:cNvGrpSpPr/>
              <p:nvPr/>
            </p:nvGrpSpPr>
            <p:grpSpPr>
              <a:xfrm>
                <a:off x="1219320" y="3581280"/>
                <a:ext cx="749520" cy="749160"/>
                <a:chOff x="1219320" y="3581280"/>
                <a:chExt cx="749520" cy="749160"/>
              </a:xfrm>
            </p:grpSpPr>
            <p:sp>
              <p:nvSpPr>
                <p:cNvPr id="701" name=""/>
                <p:cNvSpPr/>
                <p:nvPr/>
              </p:nvSpPr>
              <p:spPr>
                <a:xfrm>
                  <a:off x="1219320" y="3962160"/>
                  <a:ext cx="368280" cy="36828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2" name=""/>
                <p:cNvSpPr/>
                <p:nvPr/>
              </p:nvSpPr>
              <p:spPr>
                <a:xfrm>
                  <a:off x="1600560" y="3962160"/>
                  <a:ext cx="368280" cy="36828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3" name=""/>
                <p:cNvSpPr/>
                <p:nvPr/>
              </p:nvSpPr>
              <p:spPr>
                <a:xfrm>
                  <a:off x="1219320" y="3581280"/>
                  <a:ext cx="368280" cy="36828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4" name=""/>
                <p:cNvSpPr/>
                <p:nvPr/>
              </p:nvSpPr>
              <p:spPr>
                <a:xfrm>
                  <a:off x="1600560" y="3581280"/>
                  <a:ext cx="368280" cy="36828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5" name=""/>
              <p:cNvGrpSpPr/>
              <p:nvPr/>
            </p:nvGrpSpPr>
            <p:grpSpPr>
              <a:xfrm>
                <a:off x="1981440" y="3581280"/>
                <a:ext cx="749160" cy="749160"/>
                <a:chOff x="1981440" y="3581280"/>
                <a:chExt cx="749160" cy="749160"/>
              </a:xfrm>
            </p:grpSpPr>
            <p:sp>
              <p:nvSpPr>
                <p:cNvPr id="706" name=""/>
                <p:cNvSpPr/>
                <p:nvPr/>
              </p:nvSpPr>
              <p:spPr>
                <a:xfrm>
                  <a:off x="1981440" y="3962160"/>
                  <a:ext cx="368280" cy="36828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7" name=""/>
                <p:cNvSpPr/>
                <p:nvPr/>
              </p:nvSpPr>
              <p:spPr>
                <a:xfrm>
                  <a:off x="2362320" y="3962160"/>
                  <a:ext cx="368280" cy="36828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8" name=""/>
                <p:cNvSpPr/>
                <p:nvPr/>
              </p:nvSpPr>
              <p:spPr>
                <a:xfrm>
                  <a:off x="1981440" y="3581280"/>
                  <a:ext cx="368280" cy="36828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9" name=""/>
                <p:cNvSpPr/>
                <p:nvPr/>
              </p:nvSpPr>
              <p:spPr>
                <a:xfrm>
                  <a:off x="2362320" y="3581280"/>
                  <a:ext cx="368280" cy="36828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10" name=""/>
            <p:cNvSpPr/>
            <p:nvPr/>
          </p:nvSpPr>
          <p:spPr>
            <a:xfrm>
              <a:off x="1600200" y="3581280"/>
              <a:ext cx="368280" cy="3682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362320" y="396252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1219320" y="434340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981080" y="472608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362320" y="35053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2057400" y="388620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1676520" y="388620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1219320" y="35053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1981080" y="426708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1295280" y="426708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1143000" y="38862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905120" y="35053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2286000" y="46483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286000" y="38862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1600200" y="42670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2286000" y="42670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1295280" y="464832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2057400" y="464832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1676520" y="46483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ranch And Bound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O branch and bound finds solution closest to ro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cktracking may never find a solution because tree depth is infinite (unless repeating configurations are eliminated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st-cost branch and bound directs the search to parts of the space most likely to contain the answer. So it could perform better than backtrack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9066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ubset &amp; Permutation Problem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52280" y="1143000"/>
            <a:ext cx="883944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set problem of siz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ctr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nsystematic search of the space for the answer takes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O(p2</a:t>
            </a:r>
            <a:r>
              <a:rPr b="0" lang="en-US" sz="2800" spc="-1" strike="noStrike" baseline="30000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, where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time needed to evaluate each member of the solution spa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mutation problem of siz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ctr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nsystematic search of the space for the answer takes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O(pn!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, where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time needed to evaluate each member of the solution spa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cktracking and branch and bound perform a systematic search; often taking much less time than taken by a nonsystematic search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5960" y="151920"/>
            <a:ext cx="8915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Tree Organization Of Solution Spac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t up a tree structure such that the leaves represent members of the solution spa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 size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ubset problem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tree structure has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2800" spc="-1" strike="noStrike" baseline="30000">
                <a:solidFill>
                  <a:srgbClr val="ff0033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eav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 size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ermutation problem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tree structure has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n!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eav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ree structure is too big to store in memory; it also takes too much time to create the tree struct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ions of the tree structure are created by the backtracking and branch and bound algorithms as need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ubset Problem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a full binary tree that has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2800" spc="-1" strike="noStrike" baseline="30000">
                <a:solidFill>
                  <a:srgbClr val="ff0033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eav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level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members of the solution space are partitioned by their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lu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bers with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in the left subtr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bers with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0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in the right subtr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ld exchange roles of left and right subtr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ubset Tree For n = 4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197240" y="1378080"/>
            <a:ext cx="216000" cy="2156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2285640" y="1600200"/>
            <a:ext cx="198108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139840" y="2901960"/>
            <a:ext cx="21600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86000" y="1676520"/>
            <a:ext cx="106668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419720" y="1600200"/>
            <a:ext cx="205740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407280" y="2901960"/>
            <a:ext cx="21564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257800" y="1600200"/>
            <a:ext cx="106668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1066680" y="3124080"/>
            <a:ext cx="106704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96840" y="4197240"/>
            <a:ext cx="21600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3520" y="3276720"/>
            <a:ext cx="106668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86000" y="3124080"/>
            <a:ext cx="99072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206880" y="4121280"/>
            <a:ext cx="215640" cy="2156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895480" y="3276720"/>
            <a:ext cx="106704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5562720" y="3124080"/>
            <a:ext cx="83808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416560" y="4044960"/>
            <a:ext cx="21600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952880" y="3200400"/>
            <a:ext cx="106704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629400" y="3124080"/>
            <a:ext cx="9907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626240" y="3968640"/>
            <a:ext cx="21600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238880" y="3124080"/>
            <a:ext cx="106704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533160" y="4419720"/>
            <a:ext cx="53316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87360" y="5111640"/>
            <a:ext cx="21600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4343400"/>
            <a:ext cx="106668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=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41972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454040" y="5111640"/>
            <a:ext cx="21600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71600" y="4343400"/>
            <a:ext cx="106668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2666880" y="4343400"/>
            <a:ext cx="60984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97040" y="5111640"/>
            <a:ext cx="21600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352680" y="4343400"/>
            <a:ext cx="45720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740040" y="5111640"/>
            <a:ext cx="21600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5029200" y="4267080"/>
            <a:ext cx="4572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883040" y="5111640"/>
            <a:ext cx="21600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562720" y="4267080"/>
            <a:ext cx="53316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26040" y="5111640"/>
            <a:ext cx="21600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7238880" y="4191120"/>
            <a:ext cx="45720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169040" y="5111640"/>
            <a:ext cx="21600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48720" y="4191120"/>
            <a:ext cx="60948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312040" y="5111640"/>
            <a:ext cx="21600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82440" y="5334120"/>
            <a:ext cx="8750520" cy="755640"/>
            <a:chOff x="82440" y="5334120"/>
            <a:chExt cx="8750520" cy="755640"/>
          </a:xfrm>
        </p:grpSpPr>
        <p:sp>
          <p:nvSpPr>
            <p:cNvPr id="98" name=""/>
            <p:cNvSpPr/>
            <p:nvPr/>
          </p:nvSpPr>
          <p:spPr>
            <a:xfrm>
              <a:off x="8244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1596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544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75896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36844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90196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51144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04496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65444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18796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79744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33096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94044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47396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08344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61696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151920" y="5334120"/>
              <a:ext cx="3049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33520" y="5334120"/>
              <a:ext cx="15228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>
              <a:off x="1371240" y="5334120"/>
              <a:ext cx="15228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600200" y="5334120"/>
              <a:ext cx="22860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2514240" y="5334120"/>
              <a:ext cx="15228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743200" y="5334120"/>
              <a:ext cx="22860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>
              <a:off x="3657240" y="5334120"/>
              <a:ext cx="15228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886200" y="5334120"/>
              <a:ext cx="22860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>
              <a:off x="4723920" y="5334120"/>
              <a:ext cx="22860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029200" y="5334120"/>
              <a:ext cx="3049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5866920" y="5334120"/>
              <a:ext cx="22860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172200" y="5334120"/>
              <a:ext cx="3049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7009920" y="5334120"/>
              <a:ext cx="22860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15200" y="5334120"/>
              <a:ext cx="3049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>
              <a:off x="8152920" y="5334120"/>
              <a:ext cx="22860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458200" y="5334120"/>
              <a:ext cx="3049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685800" y="5181480"/>
            <a:ext cx="106668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=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962520" y="5257800"/>
            <a:ext cx="106668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=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0880" y="6248520"/>
            <a:ext cx="914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11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981080" y="6249960"/>
            <a:ext cx="914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10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267080" y="6175440"/>
            <a:ext cx="914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01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96080" y="6099120"/>
            <a:ext cx="914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0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Permutation Problem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a tree that has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n!</a:t>
            </a:r>
            <a:r>
              <a:rPr b="0" lang="en-US" sz="2800" spc="-1" strike="noStrike" baseline="30000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eav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level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members of the solution space are partitioned by their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lu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bers (if any) with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in the first subtr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bers (if any) with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in the next subtr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so 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Permutation Tree For n = 3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197240" y="1378080"/>
            <a:ext cx="216000" cy="2156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1523880" y="1600200"/>
            <a:ext cx="274320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454040" y="2901960"/>
            <a:ext cx="21600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1676520"/>
            <a:ext cx="106668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=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343400" y="160020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197240" y="2901960"/>
            <a:ext cx="21600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505320" y="1828800"/>
            <a:ext cx="106668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=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19720" y="1600200"/>
            <a:ext cx="259056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940440" y="2901960"/>
            <a:ext cx="21600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257800" y="1600200"/>
            <a:ext cx="106668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=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914040" y="3124080"/>
            <a:ext cx="60948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68240" y="4197240"/>
            <a:ext cx="21600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8600" y="3276720"/>
            <a:ext cx="106668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=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600200" y="3124080"/>
            <a:ext cx="45720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911240" y="4197240"/>
            <a:ext cx="21600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828800" y="3276720"/>
            <a:ext cx="106668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=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3657240" y="3124080"/>
            <a:ext cx="60948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511440" y="4197240"/>
            <a:ext cx="21600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971800" y="3276720"/>
            <a:ext cx="106668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=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343400" y="3124080"/>
            <a:ext cx="45720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654440" y="4197240"/>
            <a:ext cx="21600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0" y="3276720"/>
            <a:ext cx="106668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=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6400440" y="3124080"/>
            <a:ext cx="60948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254640" y="4197240"/>
            <a:ext cx="21600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715000" y="3276720"/>
            <a:ext cx="106668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=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086600" y="3124080"/>
            <a:ext cx="45720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397640" y="4197240"/>
            <a:ext cx="21600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315200" y="3276720"/>
            <a:ext cx="106668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=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4419720"/>
            <a:ext cx="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8240" y="5187960"/>
            <a:ext cx="21600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4495680"/>
            <a:ext cx="106668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=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057400" y="441972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987560" y="5187960"/>
            <a:ext cx="21600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219320" y="4495680"/>
            <a:ext cx="106668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=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581280" y="4419720"/>
            <a:ext cx="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511440" y="5187960"/>
            <a:ext cx="21600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743200" y="4495680"/>
            <a:ext cx="106668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=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441972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30760" y="5187960"/>
            <a:ext cx="21600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962520" y="4495680"/>
            <a:ext cx="106668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=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324480" y="4419720"/>
            <a:ext cx="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254640" y="5187960"/>
            <a:ext cx="21600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486400" y="4495680"/>
            <a:ext cx="106668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=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543800" y="441972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473960" y="5187960"/>
            <a:ext cx="21600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620120" y="4495680"/>
            <a:ext cx="106668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=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33520" y="5486400"/>
            <a:ext cx="914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12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752480" y="5486400"/>
            <a:ext cx="914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13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276720" y="5486400"/>
            <a:ext cx="914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21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572000" y="5486400"/>
            <a:ext cx="914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23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5880" y="5486400"/>
            <a:ext cx="914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3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315200" y="5486400"/>
            <a:ext cx="914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32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acktracking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arch the solution space tree in a depth-first mann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y be done recursively or use a stack to retain the path from the root to the current node in the tr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The solution space tree exists only in your mind, not in the compu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acktracking Depth-First Search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97240" y="1378080"/>
            <a:ext cx="216000" cy="2156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2285640" y="1600200"/>
            <a:ext cx="198108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139840" y="2901960"/>
            <a:ext cx="21600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676520"/>
            <a:ext cx="106668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419720" y="1600200"/>
            <a:ext cx="205740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407280" y="2901960"/>
            <a:ext cx="21564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257800" y="1600200"/>
            <a:ext cx="106668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1066680" y="3124080"/>
            <a:ext cx="106704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996840" y="4197240"/>
            <a:ext cx="21600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33520" y="3276720"/>
            <a:ext cx="106668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124080"/>
            <a:ext cx="99072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206880" y="4121280"/>
            <a:ext cx="215640" cy="2156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95480" y="3276720"/>
            <a:ext cx="106704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5562720" y="3124080"/>
            <a:ext cx="83808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416560" y="4044960"/>
            <a:ext cx="21600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952880" y="3200400"/>
            <a:ext cx="106704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629400" y="3124080"/>
            <a:ext cx="9907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626240" y="3968640"/>
            <a:ext cx="21600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238880" y="3124080"/>
            <a:ext cx="106704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533160" y="4419720"/>
            <a:ext cx="53316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87360" y="5111640"/>
            <a:ext cx="21600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143000" y="441972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454040" y="5111640"/>
            <a:ext cx="21600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2666880" y="4343400"/>
            <a:ext cx="60984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7040" y="5111640"/>
            <a:ext cx="21600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352680" y="4343400"/>
            <a:ext cx="45720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740040" y="5111640"/>
            <a:ext cx="21600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5029200" y="4267080"/>
            <a:ext cx="4572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883040" y="5111640"/>
            <a:ext cx="21600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562720" y="4267080"/>
            <a:ext cx="53316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26040" y="5111640"/>
            <a:ext cx="21600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7238880" y="4191120"/>
            <a:ext cx="45720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169040" y="5111640"/>
            <a:ext cx="21600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848720" y="4191120"/>
            <a:ext cx="60948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312040" y="5111640"/>
            <a:ext cx="21600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82440" y="5334120"/>
            <a:ext cx="8750520" cy="755640"/>
            <a:chOff x="82440" y="5334120"/>
            <a:chExt cx="8750520" cy="755640"/>
          </a:xfrm>
        </p:grpSpPr>
        <p:sp>
          <p:nvSpPr>
            <p:cNvPr id="230" name=""/>
            <p:cNvSpPr/>
            <p:nvPr/>
          </p:nvSpPr>
          <p:spPr>
            <a:xfrm>
              <a:off x="8244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1596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22544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75896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36844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90196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51144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04496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65444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18796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79744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33096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94044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47396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808344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861696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>
              <a:off x="151920" y="5334120"/>
              <a:ext cx="3049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33520" y="5334120"/>
              <a:ext cx="15228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1371240" y="5334120"/>
              <a:ext cx="15228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600200" y="5334120"/>
              <a:ext cx="22860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>
              <a:off x="2514240" y="5334120"/>
              <a:ext cx="15228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743200" y="5334120"/>
              <a:ext cx="22860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3657240" y="5334120"/>
              <a:ext cx="15228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886200" y="5334120"/>
              <a:ext cx="22860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flipH="1">
              <a:off x="4723920" y="5334120"/>
              <a:ext cx="22860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029200" y="5334120"/>
              <a:ext cx="3049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5866920" y="5334120"/>
              <a:ext cx="22860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172200" y="5334120"/>
              <a:ext cx="3049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>
              <a:off x="7009920" y="5334120"/>
              <a:ext cx="22860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315200" y="5334120"/>
              <a:ext cx="3049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>
              <a:off x="8152920" y="5334120"/>
              <a:ext cx="22860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8458200" y="5334120"/>
              <a:ext cx="3049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2" name=""/>
          <p:cNvSpPr/>
          <p:nvPr/>
        </p:nvSpPr>
        <p:spPr>
          <a:xfrm>
            <a:off x="4197240" y="1378080"/>
            <a:ext cx="216000" cy="21564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139840" y="2901960"/>
            <a:ext cx="216000" cy="2160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996840" y="4197240"/>
            <a:ext cx="216000" cy="2160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87360" y="5111640"/>
            <a:ext cx="216000" cy="2160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82440" y="5873760"/>
            <a:ext cx="216000" cy="2160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Preferred Customer</dc:creator>
  <dc:description/>
  <dc:language>en-US</dc:language>
  <cp:lastModifiedBy>sahni</cp:lastModifiedBy>
  <cp:lastPrinted>2000-03-30T20:56:41Z</cp:lastPrinted>
  <dcterms:modified xsi:type="dcterms:W3CDTF">2004-08-05T18:10:29Z</dcterms:modified>
  <cp:revision>223</cp:revision>
  <dc:subject/>
  <dc:title>Data Representation Methods</dc:title>
</cp:coreProperties>
</file>