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1DEA-79AB-4F4A-9202-7557EBDE0A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(v,0) is infinity except when v =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B7A-F694-469E-BEDC-4D7B775D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5B5-A46D-4C5A-9236-E1B34A46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C21-8A32-423B-86ED-A350B59E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553-E8D1-41A3-A82B-F90AAD24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A4B-8CA9-4FD4-94A0-85886D36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990-40AE-4ED4-8782-40913D00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47A-2990-4C85-8D2E-72298B67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C2A-BA45-4FF1-B57B-1DF5563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DB9-47DA-4D01-B4B7-C22374D9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ED8-C65C-4C4B-BD08-D10FCC3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C6F-568B-4246-86E1-1DFE5419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115-9AE7-495A-9E16-1F281E4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37F-6AFD-4668-B73A-D941569D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Negative Co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may have negativ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ycle whose 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hortest path from a given sourc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of the di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20400" cy="32040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8381880" y="9907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know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w,k-1) + length of edge (w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w,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dge of the di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 considered y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968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30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74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1905120"/>
            <a:ext cx="1752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To Compute d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initialize d(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s,0)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0) = infinity, v != 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d(*,k), 0 &lt; k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d(v,0), 1 &lt;= v &lt;= 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edge (u,v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min{d(v,k), d(u,k-1) + cost(u,v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a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LOCK43" descr=""/>
          <p:cNvPicPr/>
          <p:nvPr/>
        </p:nvPicPr>
        <p:blipFill>
          <a:blip r:embed="rId1"/>
          <a:stretch/>
        </p:blipFill>
        <p:spPr>
          <a:xfrm>
            <a:off x="762012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hortest path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n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struct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2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vert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60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64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95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225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26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98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70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9816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3625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42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1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826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98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70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42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1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5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826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98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70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42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11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5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928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00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72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1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5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928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500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72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644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21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35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28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00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644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21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262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682640" y="3886200"/>
            <a:ext cx="444600" cy="579960"/>
            <a:chOff x="1682640" y="3886200"/>
            <a:chExt cx="444600" cy="579960"/>
          </a:xfrm>
        </p:grpSpPr>
        <p:sp>
          <p:nvSpPr>
            <p:cNvPr id="265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139840" y="3886200"/>
            <a:ext cx="444600" cy="579960"/>
            <a:chOff x="2139840" y="3886200"/>
            <a:chExt cx="444600" cy="579960"/>
          </a:xfrm>
        </p:grpSpPr>
        <p:sp>
          <p:nvSpPr>
            <p:cNvPr id="26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96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7040" y="3886200"/>
            <a:ext cx="444600" cy="579960"/>
            <a:chOff x="2597040" y="3886200"/>
            <a:chExt cx="444600" cy="579960"/>
          </a:xfrm>
        </p:grpSpPr>
        <p:sp>
          <p:nvSpPr>
            <p:cNvPr id="271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68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54240" y="3886200"/>
            <a:ext cx="444600" cy="579960"/>
            <a:chOff x="3054240" y="3886200"/>
            <a:chExt cx="444600" cy="579960"/>
          </a:xfrm>
        </p:grpSpPr>
        <p:sp>
          <p:nvSpPr>
            <p:cNvPr id="274" name=""/>
            <p:cNvSpPr/>
            <p:nvPr/>
          </p:nvSpPr>
          <p:spPr>
            <a:xfrm>
              <a:off x="30542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240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11440" y="3886200"/>
            <a:ext cx="444600" cy="579960"/>
            <a:chOff x="3511440" y="3886200"/>
            <a:chExt cx="444600" cy="579960"/>
          </a:xfrm>
        </p:grpSpPr>
        <p:sp>
          <p:nvSpPr>
            <p:cNvPr id="277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280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492880" y="3886200"/>
            <a:ext cx="444240" cy="579960"/>
            <a:chOff x="5492880" y="3886200"/>
            <a:chExt cx="444240" cy="579960"/>
          </a:xfrm>
        </p:grpSpPr>
        <p:sp>
          <p:nvSpPr>
            <p:cNvPr id="283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627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50080" y="3886200"/>
            <a:ext cx="444240" cy="579960"/>
            <a:chOff x="5950080" y="3886200"/>
            <a:chExt cx="444240" cy="579960"/>
          </a:xfrm>
        </p:grpSpPr>
        <p:sp>
          <p:nvSpPr>
            <p:cNvPr id="286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407280" y="3886200"/>
            <a:ext cx="444240" cy="579960"/>
            <a:chOff x="6407280" y="3886200"/>
            <a:chExt cx="444240" cy="579960"/>
          </a:xfrm>
        </p:grpSpPr>
        <p:sp>
          <p:nvSpPr>
            <p:cNvPr id="289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864480" y="3886200"/>
            <a:ext cx="444240" cy="579960"/>
            <a:chOff x="6864480" y="3886200"/>
            <a:chExt cx="444240" cy="579960"/>
          </a:xfrm>
        </p:grpSpPr>
        <p:sp>
          <p:nvSpPr>
            <p:cNvPr id="29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321680" y="3886200"/>
            <a:ext cx="444240" cy="579960"/>
            <a:chOff x="7321680" y="3886200"/>
            <a:chExt cx="444240" cy="579960"/>
          </a:xfrm>
        </p:grpSpPr>
        <p:sp>
          <p:nvSpPr>
            <p:cNvPr id="295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1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298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301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304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307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139840" y="4343400"/>
            <a:ext cx="444600" cy="579960"/>
            <a:chOff x="2139840" y="4343400"/>
            <a:chExt cx="444600" cy="579960"/>
          </a:xfrm>
        </p:grpSpPr>
        <p:sp>
          <p:nvSpPr>
            <p:cNvPr id="310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950080" y="4343400"/>
            <a:ext cx="444240" cy="579960"/>
            <a:chOff x="5950080" y="4343400"/>
            <a:chExt cx="444240" cy="579960"/>
          </a:xfrm>
        </p:grpSpPr>
        <p:sp>
          <p:nvSpPr>
            <p:cNvPr id="313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9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316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319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54240" y="4343400"/>
            <a:ext cx="444600" cy="579960"/>
            <a:chOff x="3054240" y="4343400"/>
            <a:chExt cx="444600" cy="579960"/>
          </a:xfrm>
        </p:grpSpPr>
        <p:sp>
          <p:nvSpPr>
            <p:cNvPr id="322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64480" y="4343400"/>
            <a:ext cx="444240" cy="579960"/>
            <a:chOff x="6864480" y="4343400"/>
            <a:chExt cx="444240" cy="579960"/>
          </a:xfrm>
        </p:grpSpPr>
        <p:sp>
          <p:nvSpPr>
            <p:cNvPr id="325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43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511440" y="4343400"/>
            <a:ext cx="444600" cy="579960"/>
            <a:chOff x="3511440" y="4343400"/>
            <a:chExt cx="444600" cy="579960"/>
          </a:xfrm>
        </p:grpSpPr>
        <p:sp>
          <p:nvSpPr>
            <p:cNvPr id="328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321680" y="4343400"/>
            <a:ext cx="444240" cy="579960"/>
            <a:chOff x="7321680" y="4343400"/>
            <a:chExt cx="444240" cy="579960"/>
          </a:xfrm>
        </p:grpSpPr>
        <p:sp>
          <p:nvSpPr>
            <p:cNvPr id="331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1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38080" y="5819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25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826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98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70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542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1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35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928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644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1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19320" y="4876920"/>
            <a:ext cx="450720" cy="579960"/>
            <a:chOff x="1219320" y="4876920"/>
            <a:chExt cx="450720" cy="579960"/>
          </a:xfrm>
        </p:grpSpPr>
        <p:sp>
          <p:nvSpPr>
            <p:cNvPr id="347" name=""/>
            <p:cNvSpPr/>
            <p:nvPr/>
          </p:nvSpPr>
          <p:spPr>
            <a:xfrm>
              <a:off x="1225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350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76520" y="4876920"/>
            <a:ext cx="450720" cy="579960"/>
            <a:chOff x="1676520" y="4876920"/>
            <a:chExt cx="450720" cy="579960"/>
          </a:xfrm>
        </p:grpSpPr>
        <p:sp>
          <p:nvSpPr>
            <p:cNvPr id="353" name=""/>
            <p:cNvSpPr/>
            <p:nvPr/>
          </p:nvSpPr>
          <p:spPr>
            <a:xfrm>
              <a:off x="16826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356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133720" y="4876920"/>
            <a:ext cx="450720" cy="579960"/>
            <a:chOff x="2133720" y="4876920"/>
            <a:chExt cx="450720" cy="579960"/>
          </a:xfrm>
        </p:grpSpPr>
        <p:sp>
          <p:nvSpPr>
            <p:cNvPr id="359" name=""/>
            <p:cNvSpPr/>
            <p:nvPr/>
          </p:nvSpPr>
          <p:spPr>
            <a:xfrm>
              <a:off x="21398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36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590920" y="4876920"/>
            <a:ext cx="450720" cy="579960"/>
            <a:chOff x="2590920" y="4876920"/>
            <a:chExt cx="450720" cy="579960"/>
          </a:xfrm>
        </p:grpSpPr>
        <p:sp>
          <p:nvSpPr>
            <p:cNvPr id="365" name=""/>
            <p:cNvSpPr/>
            <p:nvPr/>
          </p:nvSpPr>
          <p:spPr>
            <a:xfrm>
              <a:off x="25970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9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368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71800" y="4876920"/>
            <a:ext cx="685800" cy="579960"/>
            <a:chOff x="2971800" y="4876920"/>
            <a:chExt cx="685800" cy="579960"/>
          </a:xfrm>
        </p:grpSpPr>
        <p:sp>
          <p:nvSpPr>
            <p:cNvPr id="371" name=""/>
            <p:cNvSpPr/>
            <p:nvPr/>
          </p:nvSpPr>
          <p:spPr>
            <a:xfrm>
              <a:off x="305280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71800" y="48769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374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505320" y="4876920"/>
            <a:ext cx="450720" cy="579960"/>
            <a:chOff x="3505320" y="4876920"/>
            <a:chExt cx="450720" cy="579960"/>
          </a:xfrm>
        </p:grpSpPr>
        <p:sp>
          <p:nvSpPr>
            <p:cNvPr id="377" name=""/>
            <p:cNvSpPr/>
            <p:nvPr/>
          </p:nvSpPr>
          <p:spPr>
            <a:xfrm>
              <a:off x="3511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5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380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219320" y="5334120"/>
            <a:ext cx="450720" cy="579960"/>
            <a:chOff x="1219320" y="5334120"/>
            <a:chExt cx="450720" cy="579960"/>
          </a:xfrm>
        </p:grpSpPr>
        <p:sp>
          <p:nvSpPr>
            <p:cNvPr id="383" name=""/>
            <p:cNvSpPr/>
            <p:nvPr/>
          </p:nvSpPr>
          <p:spPr>
            <a:xfrm>
              <a:off x="1225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35680" y="5257800"/>
            <a:ext cx="444240" cy="579960"/>
            <a:chOff x="5035680" y="5257800"/>
            <a:chExt cx="444240" cy="579960"/>
          </a:xfrm>
        </p:grpSpPr>
        <p:sp>
          <p:nvSpPr>
            <p:cNvPr id="386" name=""/>
            <p:cNvSpPr/>
            <p:nvPr/>
          </p:nvSpPr>
          <p:spPr>
            <a:xfrm>
              <a:off x="5035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05520" y="52578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676520" y="5334120"/>
            <a:ext cx="450720" cy="579960"/>
            <a:chOff x="1676520" y="5334120"/>
            <a:chExt cx="450720" cy="579960"/>
          </a:xfrm>
        </p:grpSpPr>
        <p:sp>
          <p:nvSpPr>
            <p:cNvPr id="389" name=""/>
            <p:cNvSpPr/>
            <p:nvPr/>
          </p:nvSpPr>
          <p:spPr>
            <a:xfrm>
              <a:off x="16826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765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86400" y="5334120"/>
            <a:ext cx="450720" cy="579960"/>
            <a:chOff x="5486400" y="5334120"/>
            <a:chExt cx="450720" cy="579960"/>
          </a:xfrm>
        </p:grpSpPr>
        <p:sp>
          <p:nvSpPr>
            <p:cNvPr id="392" name=""/>
            <p:cNvSpPr/>
            <p:nvPr/>
          </p:nvSpPr>
          <p:spPr>
            <a:xfrm>
              <a:off x="54928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133720" y="5334120"/>
            <a:ext cx="450720" cy="579960"/>
            <a:chOff x="2133720" y="5334120"/>
            <a:chExt cx="450720" cy="579960"/>
          </a:xfrm>
        </p:grpSpPr>
        <p:sp>
          <p:nvSpPr>
            <p:cNvPr id="395" name=""/>
            <p:cNvSpPr/>
            <p:nvPr/>
          </p:nvSpPr>
          <p:spPr>
            <a:xfrm>
              <a:off x="21398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7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43600" y="5334120"/>
            <a:ext cx="450720" cy="579960"/>
            <a:chOff x="5943600" y="5334120"/>
            <a:chExt cx="450720" cy="579960"/>
          </a:xfrm>
        </p:grpSpPr>
        <p:sp>
          <p:nvSpPr>
            <p:cNvPr id="398" name=""/>
            <p:cNvSpPr/>
            <p:nvPr/>
          </p:nvSpPr>
          <p:spPr>
            <a:xfrm>
              <a:off x="59500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436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590920" y="5334120"/>
            <a:ext cx="450720" cy="579960"/>
            <a:chOff x="2590920" y="5334120"/>
            <a:chExt cx="450720" cy="579960"/>
          </a:xfrm>
        </p:grpSpPr>
        <p:sp>
          <p:nvSpPr>
            <p:cNvPr id="401" name=""/>
            <p:cNvSpPr/>
            <p:nvPr/>
          </p:nvSpPr>
          <p:spPr>
            <a:xfrm>
              <a:off x="25970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09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00800" y="5334120"/>
            <a:ext cx="450720" cy="579960"/>
            <a:chOff x="6400800" y="5334120"/>
            <a:chExt cx="450720" cy="579960"/>
          </a:xfrm>
        </p:grpSpPr>
        <p:sp>
          <p:nvSpPr>
            <p:cNvPr id="404" name=""/>
            <p:cNvSpPr/>
            <p:nvPr/>
          </p:nvSpPr>
          <p:spPr>
            <a:xfrm>
              <a:off x="64072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08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971800" y="5334120"/>
            <a:ext cx="685800" cy="579960"/>
            <a:chOff x="2971800" y="5334120"/>
            <a:chExt cx="685800" cy="579960"/>
          </a:xfrm>
        </p:grpSpPr>
        <p:sp>
          <p:nvSpPr>
            <p:cNvPr id="407" name=""/>
            <p:cNvSpPr/>
            <p:nvPr/>
          </p:nvSpPr>
          <p:spPr>
            <a:xfrm>
              <a:off x="305280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1800" y="53341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58000" y="5334120"/>
            <a:ext cx="450720" cy="579960"/>
            <a:chOff x="6858000" y="5334120"/>
            <a:chExt cx="450720" cy="579960"/>
          </a:xfrm>
        </p:grpSpPr>
        <p:sp>
          <p:nvSpPr>
            <p:cNvPr id="410" name=""/>
            <p:cNvSpPr/>
            <p:nvPr/>
          </p:nvSpPr>
          <p:spPr>
            <a:xfrm>
              <a:off x="68644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505320" y="5334120"/>
            <a:ext cx="450720" cy="579960"/>
            <a:chOff x="3505320" y="5334120"/>
            <a:chExt cx="450720" cy="579960"/>
          </a:xfrm>
        </p:grpSpPr>
        <p:sp>
          <p:nvSpPr>
            <p:cNvPr id="413" name=""/>
            <p:cNvSpPr/>
            <p:nvPr/>
          </p:nvSpPr>
          <p:spPr>
            <a:xfrm>
              <a:off x="3511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315200" y="5334120"/>
            <a:ext cx="450720" cy="579960"/>
            <a:chOff x="7315200" y="5334120"/>
            <a:chExt cx="450720" cy="579960"/>
          </a:xfrm>
        </p:grpSpPr>
        <p:sp>
          <p:nvSpPr>
            <p:cNvPr id="416" name=""/>
            <p:cNvSpPr/>
            <p:nvPr/>
          </p:nvSpPr>
          <p:spPr>
            <a:xfrm>
              <a:off x="7321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219320" y="5791320"/>
            <a:ext cx="450720" cy="579960"/>
            <a:chOff x="1219320" y="5791320"/>
            <a:chExt cx="450720" cy="579960"/>
          </a:xfrm>
        </p:grpSpPr>
        <p:sp>
          <p:nvSpPr>
            <p:cNvPr id="419" name=""/>
            <p:cNvSpPr/>
            <p:nvPr/>
          </p:nvSpPr>
          <p:spPr>
            <a:xfrm>
              <a:off x="1225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19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035680" y="5715000"/>
            <a:ext cx="444240" cy="579960"/>
            <a:chOff x="5035680" y="5715000"/>
            <a:chExt cx="444240" cy="579960"/>
          </a:xfrm>
        </p:grpSpPr>
        <p:sp>
          <p:nvSpPr>
            <p:cNvPr id="422" name=""/>
            <p:cNvSpPr/>
            <p:nvPr/>
          </p:nvSpPr>
          <p:spPr>
            <a:xfrm>
              <a:off x="5035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05520" y="57150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676520" y="5791320"/>
            <a:ext cx="450720" cy="579960"/>
            <a:chOff x="1676520" y="5791320"/>
            <a:chExt cx="450720" cy="579960"/>
          </a:xfrm>
        </p:grpSpPr>
        <p:sp>
          <p:nvSpPr>
            <p:cNvPr id="425" name=""/>
            <p:cNvSpPr/>
            <p:nvPr/>
          </p:nvSpPr>
          <p:spPr>
            <a:xfrm>
              <a:off x="16826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65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486400" y="5791320"/>
            <a:ext cx="450720" cy="579960"/>
            <a:chOff x="5486400" y="5791320"/>
            <a:chExt cx="450720" cy="579960"/>
          </a:xfrm>
        </p:grpSpPr>
        <p:sp>
          <p:nvSpPr>
            <p:cNvPr id="428" name=""/>
            <p:cNvSpPr/>
            <p:nvPr/>
          </p:nvSpPr>
          <p:spPr>
            <a:xfrm>
              <a:off x="54928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864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133720" y="5791320"/>
            <a:ext cx="450720" cy="579960"/>
            <a:chOff x="2133720" y="5791320"/>
            <a:chExt cx="450720" cy="579960"/>
          </a:xfrm>
        </p:grpSpPr>
        <p:sp>
          <p:nvSpPr>
            <p:cNvPr id="431" name=""/>
            <p:cNvSpPr/>
            <p:nvPr/>
          </p:nvSpPr>
          <p:spPr>
            <a:xfrm>
              <a:off x="21398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337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943600" y="5791320"/>
            <a:ext cx="450720" cy="579960"/>
            <a:chOff x="5943600" y="5791320"/>
            <a:chExt cx="450720" cy="579960"/>
          </a:xfrm>
        </p:grpSpPr>
        <p:sp>
          <p:nvSpPr>
            <p:cNvPr id="434" name=""/>
            <p:cNvSpPr/>
            <p:nvPr/>
          </p:nvSpPr>
          <p:spPr>
            <a:xfrm>
              <a:off x="59500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436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90920" y="5791320"/>
            <a:ext cx="450720" cy="579960"/>
            <a:chOff x="2590920" y="5791320"/>
            <a:chExt cx="450720" cy="579960"/>
          </a:xfrm>
        </p:grpSpPr>
        <p:sp>
          <p:nvSpPr>
            <p:cNvPr id="437" name=""/>
            <p:cNvSpPr/>
            <p:nvPr/>
          </p:nvSpPr>
          <p:spPr>
            <a:xfrm>
              <a:off x="25970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909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400800" y="5791320"/>
            <a:ext cx="450720" cy="579960"/>
            <a:chOff x="6400800" y="5791320"/>
            <a:chExt cx="450720" cy="579960"/>
          </a:xfrm>
        </p:grpSpPr>
        <p:sp>
          <p:nvSpPr>
            <p:cNvPr id="440" name=""/>
            <p:cNvSpPr/>
            <p:nvPr/>
          </p:nvSpPr>
          <p:spPr>
            <a:xfrm>
              <a:off x="64072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08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971800" y="5791320"/>
            <a:ext cx="685800" cy="579960"/>
            <a:chOff x="2971800" y="5791320"/>
            <a:chExt cx="685800" cy="579960"/>
          </a:xfrm>
        </p:grpSpPr>
        <p:sp>
          <p:nvSpPr>
            <p:cNvPr id="443" name=""/>
            <p:cNvSpPr/>
            <p:nvPr/>
          </p:nvSpPr>
          <p:spPr>
            <a:xfrm>
              <a:off x="305280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1800" y="57913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858000" y="5791320"/>
            <a:ext cx="450720" cy="579960"/>
            <a:chOff x="6858000" y="5791320"/>
            <a:chExt cx="450720" cy="579960"/>
          </a:xfrm>
        </p:grpSpPr>
        <p:sp>
          <p:nvSpPr>
            <p:cNvPr id="446" name=""/>
            <p:cNvSpPr/>
            <p:nvPr/>
          </p:nvSpPr>
          <p:spPr>
            <a:xfrm>
              <a:off x="68644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505320" y="5791320"/>
            <a:ext cx="450720" cy="579960"/>
            <a:chOff x="3505320" y="5791320"/>
            <a:chExt cx="450720" cy="579960"/>
          </a:xfrm>
        </p:grpSpPr>
        <p:sp>
          <p:nvSpPr>
            <p:cNvPr id="449" name=""/>
            <p:cNvSpPr/>
            <p:nvPr/>
          </p:nvSpPr>
          <p:spPr>
            <a:xfrm>
              <a:off x="3511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315200" y="5791320"/>
            <a:ext cx="450720" cy="579960"/>
            <a:chOff x="7315200" y="5791320"/>
            <a:chExt cx="450720" cy="579960"/>
          </a:xfrm>
        </p:grpSpPr>
        <p:sp>
          <p:nvSpPr>
            <p:cNvPr id="452" name=""/>
            <p:cNvSpPr/>
            <p:nvPr/>
          </p:nvSpPr>
          <p:spPr>
            <a:xfrm>
              <a:off x="7321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152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456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487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516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519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676520" y="3962520"/>
            <a:ext cx="450720" cy="579960"/>
            <a:chOff x="1676520" y="3962520"/>
            <a:chExt cx="450720" cy="579960"/>
          </a:xfrm>
        </p:grpSpPr>
        <p:sp>
          <p:nvSpPr>
            <p:cNvPr id="522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486400" y="3962520"/>
            <a:ext cx="450720" cy="579960"/>
            <a:chOff x="5486400" y="3962520"/>
            <a:chExt cx="450720" cy="579960"/>
          </a:xfrm>
        </p:grpSpPr>
        <p:sp>
          <p:nvSpPr>
            <p:cNvPr id="525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864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33720" y="3962520"/>
            <a:ext cx="450720" cy="579960"/>
            <a:chOff x="2133720" y="3962520"/>
            <a:chExt cx="450720" cy="579960"/>
          </a:xfrm>
        </p:grpSpPr>
        <p:sp>
          <p:nvSpPr>
            <p:cNvPr id="52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337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3962520"/>
            <a:ext cx="450720" cy="579960"/>
            <a:chOff x="5943600" y="3962520"/>
            <a:chExt cx="450720" cy="579960"/>
          </a:xfrm>
        </p:grpSpPr>
        <p:sp>
          <p:nvSpPr>
            <p:cNvPr id="531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590920" y="3962520"/>
            <a:ext cx="450720" cy="579960"/>
            <a:chOff x="2590920" y="3962520"/>
            <a:chExt cx="450720" cy="579960"/>
          </a:xfrm>
        </p:grpSpPr>
        <p:sp>
          <p:nvSpPr>
            <p:cNvPr id="534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909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400800" y="3962520"/>
            <a:ext cx="450720" cy="579960"/>
            <a:chOff x="6400800" y="3962520"/>
            <a:chExt cx="450720" cy="579960"/>
          </a:xfrm>
        </p:grpSpPr>
        <p:sp>
          <p:nvSpPr>
            <p:cNvPr id="537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008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052800" y="3997440"/>
            <a:ext cx="4446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39625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58000" y="3962520"/>
            <a:ext cx="450720" cy="579960"/>
            <a:chOff x="6858000" y="3962520"/>
            <a:chExt cx="450720" cy="579960"/>
          </a:xfrm>
        </p:grpSpPr>
        <p:sp>
          <p:nvSpPr>
            <p:cNvPr id="54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05320" y="3962520"/>
            <a:ext cx="450720" cy="579960"/>
            <a:chOff x="3505320" y="3962520"/>
            <a:chExt cx="450720" cy="579960"/>
          </a:xfrm>
        </p:grpSpPr>
        <p:sp>
          <p:nvSpPr>
            <p:cNvPr id="545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5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315200" y="3962520"/>
            <a:ext cx="450720" cy="579960"/>
            <a:chOff x="7315200" y="3962520"/>
            <a:chExt cx="450720" cy="579960"/>
          </a:xfrm>
        </p:grpSpPr>
        <p:sp>
          <p:nvSpPr>
            <p:cNvPr id="548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152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551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554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557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560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133720" y="4419720"/>
            <a:ext cx="450720" cy="579960"/>
            <a:chOff x="2133720" y="4419720"/>
            <a:chExt cx="450720" cy="579960"/>
          </a:xfrm>
        </p:grpSpPr>
        <p:sp>
          <p:nvSpPr>
            <p:cNvPr id="563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337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943600" y="4419720"/>
            <a:ext cx="450720" cy="579960"/>
            <a:chOff x="5943600" y="4419720"/>
            <a:chExt cx="450720" cy="579960"/>
          </a:xfrm>
        </p:grpSpPr>
        <p:sp>
          <p:nvSpPr>
            <p:cNvPr id="566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436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569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572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048120" y="4419720"/>
            <a:ext cx="450720" cy="579960"/>
            <a:chOff x="3048120" y="4419720"/>
            <a:chExt cx="450720" cy="579960"/>
          </a:xfrm>
        </p:grpSpPr>
        <p:sp>
          <p:nvSpPr>
            <p:cNvPr id="575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858000" y="4419720"/>
            <a:ext cx="450720" cy="579960"/>
            <a:chOff x="6858000" y="4419720"/>
            <a:chExt cx="450720" cy="579960"/>
          </a:xfrm>
        </p:grpSpPr>
        <p:sp>
          <p:nvSpPr>
            <p:cNvPr id="578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505320" y="4419720"/>
            <a:ext cx="450720" cy="579960"/>
            <a:chOff x="3505320" y="4419720"/>
            <a:chExt cx="450720" cy="579960"/>
          </a:xfrm>
        </p:grpSpPr>
        <p:sp>
          <p:nvSpPr>
            <p:cNvPr id="581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5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315200" y="4419720"/>
            <a:ext cx="450720" cy="579960"/>
            <a:chOff x="7315200" y="4419720"/>
            <a:chExt cx="450720" cy="579960"/>
          </a:xfrm>
        </p:grpSpPr>
        <p:sp>
          <p:nvSpPr>
            <p:cNvPr id="584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152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From 1 To 5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990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181480" y="15235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48520" y="16765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053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6094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61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981080" y="551484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62720" y="54388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49053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1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89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161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733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05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87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636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639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64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645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648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651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295280" y="4876920"/>
            <a:ext cx="451080" cy="579960"/>
            <a:chOff x="1295280" y="4876920"/>
            <a:chExt cx="451080" cy="579960"/>
          </a:xfrm>
        </p:grpSpPr>
        <p:sp>
          <p:nvSpPr>
            <p:cNvPr id="654" name=""/>
            <p:cNvSpPr/>
            <p:nvPr/>
          </p:nvSpPr>
          <p:spPr>
            <a:xfrm>
              <a:off x="1301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95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752480" y="4876920"/>
            <a:ext cx="451080" cy="579960"/>
            <a:chOff x="1752480" y="4876920"/>
            <a:chExt cx="451080" cy="579960"/>
          </a:xfrm>
        </p:grpSpPr>
        <p:sp>
          <p:nvSpPr>
            <p:cNvPr id="657" name=""/>
            <p:cNvSpPr/>
            <p:nvPr/>
          </p:nvSpPr>
          <p:spPr>
            <a:xfrm>
              <a:off x="17589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524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209680" y="4876920"/>
            <a:ext cx="451080" cy="579960"/>
            <a:chOff x="2209680" y="4876920"/>
            <a:chExt cx="451080" cy="579960"/>
          </a:xfrm>
        </p:grpSpPr>
        <p:sp>
          <p:nvSpPr>
            <p:cNvPr id="660" name=""/>
            <p:cNvSpPr/>
            <p:nvPr/>
          </p:nvSpPr>
          <p:spPr>
            <a:xfrm>
              <a:off x="22161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666880" y="4876920"/>
            <a:ext cx="451080" cy="579960"/>
            <a:chOff x="2666880" y="4876920"/>
            <a:chExt cx="451080" cy="579960"/>
          </a:xfrm>
        </p:grpSpPr>
        <p:sp>
          <p:nvSpPr>
            <p:cNvPr id="663" name=""/>
            <p:cNvSpPr/>
            <p:nvPr/>
          </p:nvSpPr>
          <p:spPr>
            <a:xfrm>
              <a:off x="26733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668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124080" y="4876920"/>
            <a:ext cx="451080" cy="579960"/>
            <a:chOff x="3124080" y="4876920"/>
            <a:chExt cx="451080" cy="579960"/>
          </a:xfrm>
        </p:grpSpPr>
        <p:sp>
          <p:nvSpPr>
            <p:cNvPr id="666" name=""/>
            <p:cNvSpPr/>
            <p:nvPr/>
          </p:nvSpPr>
          <p:spPr>
            <a:xfrm>
              <a:off x="31305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240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581280" y="4876920"/>
            <a:ext cx="451080" cy="579960"/>
            <a:chOff x="3581280" y="4876920"/>
            <a:chExt cx="451080" cy="579960"/>
          </a:xfrm>
        </p:grpSpPr>
        <p:sp>
          <p:nvSpPr>
            <p:cNvPr id="669" name=""/>
            <p:cNvSpPr/>
            <p:nvPr/>
          </p:nvSpPr>
          <p:spPr>
            <a:xfrm>
              <a:off x="3587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81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105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627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343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91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k)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j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&gt;=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stop computing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oon as we ha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*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identical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-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 time be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matrix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 may be done in-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) = min{d(v), min{d(w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iter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+1) &lt;= d(v) &lt;= 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erm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) = 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ment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Negative Co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kstra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gle-source greedy algorithm doesn’t work when there are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yd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-pairs dynamic-programming algorithm does work in this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llman-Ford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ource all-destinations shortest paths in digraphs with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matrice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struct a shortest path from the source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ide on the max number of edges on the path and on the vertex that comes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8991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digraph ha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ay limit ourselves to the discovery of cycle-free (acyclic)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that has no cycle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43200" y="1143000"/>
            <a:ext cx="3657600" cy="579960"/>
            <a:chOff x="2743200" y="1143000"/>
            <a:chExt cx="3657600" cy="579960"/>
          </a:xfrm>
        </p:grpSpPr>
        <p:sp>
          <p:nvSpPr>
            <p:cNvPr id="60" name=""/>
            <p:cNvSpPr/>
            <p:nvPr/>
          </p:nvSpPr>
          <p:spPr>
            <a:xfrm>
              <a:off x="274968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320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830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74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13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1523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1523880"/>
              <a:ext cx="1752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 is given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dest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ax number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tate in which we want the shortest path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89917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unconstrained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determi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very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alue Of d(*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8120" y="3505320"/>
            <a:ext cx="609480" cy="579960"/>
            <a:chOff x="3048120" y="3505320"/>
            <a:chExt cx="609480" cy="579960"/>
          </a:xfrm>
        </p:grpSpPr>
        <p:sp>
          <p:nvSpPr>
            <p:cNvPr id="91" name=""/>
            <p:cNvSpPr/>
            <p:nvPr/>
          </p:nvSpPr>
          <p:spPr>
            <a:xfrm>
              <a:off x="3054240" y="3657600"/>
              <a:ext cx="368280" cy="338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8120" y="35053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50840" y="4799160"/>
            <a:ext cx="8991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0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 = infi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!=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60" y="152388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no edg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0480" y="1371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at least one edge, then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is shortest path (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05120" y="3048120"/>
            <a:ext cx="3657600" cy="579960"/>
            <a:chOff x="1905120" y="3048120"/>
            <a:chExt cx="3657600" cy="579960"/>
          </a:xfrm>
        </p:grpSpPr>
        <p:sp>
          <p:nvSpPr>
            <p:cNvPr id="99" name=""/>
            <p:cNvSpPr/>
            <p:nvPr/>
          </p:nvSpPr>
          <p:spPr>
            <a:xfrm>
              <a:off x="191124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30481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49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93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720" y="3429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3429000"/>
              <a:ext cx="1752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228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 that the path from the sourc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is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05:40Z</dcterms:modified>
  <cp:revision>201</cp:revision>
  <dc:subject/>
  <dc:title>Data Representation Methods</dc:title>
</cp:coreProperties>
</file>