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71DA-BF1E-4921-9E01-F12EFCD9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E259-6B0E-4C7F-9F79-CC7C0BE5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D0C6-6936-4F8E-9EB9-8DCD7C27E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C6CA-BAA0-4469-89BF-1B064C4A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8EE1-4CD4-4190-8D35-40EC8BF7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844D-8BF6-44E9-ACEC-8F0E7861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2DB0-55C4-43DF-B3B0-8977449E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4445-2A95-4ACD-AA89-445337D7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6786-A8B8-44CA-871A-C4860B00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0312-E67C-412A-8447-538CAC5F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25D5-FE71-4B1F-8937-829517C5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1153-6856-4783-AD00-0896D68F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3AAD-B65E-463C-BAA6-07C36BB26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trix Multiplication Chai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best way to compute t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rix produc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 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 … 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the dimensions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rix multiplications are to be d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the matrices involved in each of these multiplic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YELLOW-B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320400" cy="320760"/>
          </a:xfrm>
          <a:prstGeom prst="rect">
            <a:avLst/>
          </a:prstGeom>
          <a:ln w="0">
            <a:noFill/>
          </a:ln>
        </p:spPr>
      </p:pic>
      <p:pic>
        <p:nvPicPr>
          <p:cNvPr id="44" name="YELLOW-B" descr=""/>
          <p:cNvPicPr/>
          <p:nvPr/>
        </p:nvPicPr>
        <p:blipFill>
          <a:blip r:embed="rId2"/>
          <a:stretch/>
        </p:blipFill>
        <p:spPr>
          <a:xfrm>
            <a:off x="8229600" y="685800"/>
            <a:ext cx="3207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 = 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1143000"/>
            <a:ext cx="8763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i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ay(i,i) , 1 &lt;= i &lt;= 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o be compu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838080" y="3740040"/>
            <a:ext cx="7467840" cy="2935800"/>
            <a:chOff x="838080" y="3740040"/>
            <a:chExt cx="7467840" cy="2935800"/>
          </a:xfrm>
        </p:grpSpPr>
        <p:sp>
          <p:nvSpPr>
            <p:cNvPr id="100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352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924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924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8080" y="6095880"/>
              <a:ext cx="2286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c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832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404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404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86400" y="6019920"/>
              <a:ext cx="2819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ay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920880" y="3809880"/>
            <a:ext cx="444240" cy="458280"/>
            <a:chOff x="920880" y="3809880"/>
            <a:chExt cx="444240" cy="458280"/>
          </a:xfrm>
        </p:grpSpPr>
        <p:sp>
          <p:nvSpPr>
            <p:cNvPr id="123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90720" y="38098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568840" y="3733920"/>
            <a:ext cx="444600" cy="458280"/>
            <a:chOff x="5568840" y="3733920"/>
            <a:chExt cx="444600" cy="458280"/>
          </a:xfrm>
        </p:grpSpPr>
        <p:sp>
          <p:nvSpPr>
            <p:cNvPr id="126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386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378080" y="4267080"/>
            <a:ext cx="444240" cy="458280"/>
            <a:chOff x="1378080" y="4267080"/>
            <a:chExt cx="444240" cy="458280"/>
          </a:xfrm>
        </p:grpSpPr>
        <p:sp>
          <p:nvSpPr>
            <p:cNvPr id="129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47920" y="42670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026040" y="4191120"/>
            <a:ext cx="444600" cy="458280"/>
            <a:chOff x="6026040" y="4191120"/>
            <a:chExt cx="444600" cy="458280"/>
          </a:xfrm>
        </p:grpSpPr>
        <p:sp>
          <p:nvSpPr>
            <p:cNvPr id="132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958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835280" y="4724280"/>
            <a:ext cx="444240" cy="458280"/>
            <a:chOff x="1835280" y="4724280"/>
            <a:chExt cx="444240" cy="458280"/>
          </a:xfrm>
        </p:grpSpPr>
        <p:sp>
          <p:nvSpPr>
            <p:cNvPr id="135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05120" y="47242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83240" y="4648320"/>
            <a:ext cx="444600" cy="458280"/>
            <a:chOff x="6483240" y="4648320"/>
            <a:chExt cx="444600" cy="458280"/>
          </a:xfrm>
        </p:grpSpPr>
        <p:sp>
          <p:nvSpPr>
            <p:cNvPr id="138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530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292480" y="5181480"/>
            <a:ext cx="444240" cy="458280"/>
            <a:chOff x="2292480" y="5181480"/>
            <a:chExt cx="444240" cy="458280"/>
          </a:xfrm>
        </p:grpSpPr>
        <p:sp>
          <p:nvSpPr>
            <p:cNvPr id="141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2320" y="51814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940440" y="5105520"/>
            <a:ext cx="444600" cy="458280"/>
            <a:chOff x="6940440" y="5105520"/>
            <a:chExt cx="444600" cy="458280"/>
          </a:xfrm>
        </p:grpSpPr>
        <p:sp>
          <p:nvSpPr>
            <p:cNvPr id="144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10280" y="51055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 = 1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1143000"/>
            <a:ext cx="876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i+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ay(i,i+1) , 1 &lt;= i &lt;= 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o be compu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838080" y="3740040"/>
            <a:ext cx="7467840" cy="2935800"/>
            <a:chOff x="838080" y="3740040"/>
            <a:chExt cx="7467840" cy="2935800"/>
          </a:xfrm>
        </p:grpSpPr>
        <p:sp>
          <p:nvSpPr>
            <p:cNvPr id="149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352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924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924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38080" y="6095880"/>
              <a:ext cx="2286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c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832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404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404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86400" y="6019920"/>
              <a:ext cx="2819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ay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920880" y="3809880"/>
            <a:ext cx="444240" cy="458280"/>
            <a:chOff x="920880" y="3809880"/>
            <a:chExt cx="444240" cy="458280"/>
          </a:xfrm>
        </p:grpSpPr>
        <p:sp>
          <p:nvSpPr>
            <p:cNvPr id="172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90720" y="38098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568840" y="3733920"/>
            <a:ext cx="444600" cy="458280"/>
            <a:chOff x="5568840" y="3733920"/>
            <a:chExt cx="444600" cy="458280"/>
          </a:xfrm>
        </p:grpSpPr>
        <p:sp>
          <p:nvSpPr>
            <p:cNvPr id="175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386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378080" y="4267080"/>
            <a:ext cx="444240" cy="458280"/>
            <a:chOff x="1378080" y="4267080"/>
            <a:chExt cx="444240" cy="458280"/>
          </a:xfrm>
        </p:grpSpPr>
        <p:sp>
          <p:nvSpPr>
            <p:cNvPr id="178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47920" y="42670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026040" y="4191120"/>
            <a:ext cx="444600" cy="458280"/>
            <a:chOff x="6026040" y="4191120"/>
            <a:chExt cx="444600" cy="458280"/>
          </a:xfrm>
        </p:grpSpPr>
        <p:sp>
          <p:nvSpPr>
            <p:cNvPr id="181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958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835280" y="4724280"/>
            <a:ext cx="444240" cy="458280"/>
            <a:chOff x="1835280" y="4724280"/>
            <a:chExt cx="444240" cy="458280"/>
          </a:xfrm>
        </p:grpSpPr>
        <p:sp>
          <p:nvSpPr>
            <p:cNvPr id="184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905120" y="47242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483240" y="4648320"/>
            <a:ext cx="444600" cy="458280"/>
            <a:chOff x="6483240" y="4648320"/>
            <a:chExt cx="444600" cy="458280"/>
          </a:xfrm>
        </p:grpSpPr>
        <p:sp>
          <p:nvSpPr>
            <p:cNvPr id="187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530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292480" y="5181480"/>
            <a:ext cx="444240" cy="458280"/>
            <a:chOff x="2292480" y="5181480"/>
            <a:chExt cx="444240" cy="458280"/>
          </a:xfrm>
        </p:grpSpPr>
        <p:sp>
          <p:nvSpPr>
            <p:cNvPr id="190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62320" y="51814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6940440" y="5105520"/>
            <a:ext cx="444600" cy="458280"/>
            <a:chOff x="6940440" y="5105520"/>
            <a:chExt cx="444600" cy="458280"/>
          </a:xfrm>
        </p:grpSpPr>
        <p:sp>
          <p:nvSpPr>
            <p:cNvPr id="193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10280" y="51055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 = 1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1143000"/>
            <a:ext cx="876312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i+1) = 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1 &lt;= i &lt; 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i+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i,i+1)  = 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 = [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 = [10, 1, 10, 1, 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838080" y="3740040"/>
            <a:ext cx="7467840" cy="2935800"/>
            <a:chOff x="838080" y="3740040"/>
            <a:chExt cx="7467840" cy="2935800"/>
          </a:xfrm>
        </p:grpSpPr>
        <p:sp>
          <p:nvSpPr>
            <p:cNvPr id="198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352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924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924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8080" y="6095880"/>
              <a:ext cx="2286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c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832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404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404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86400" y="6019920"/>
              <a:ext cx="2819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ay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920880" y="3809880"/>
            <a:ext cx="444240" cy="458280"/>
            <a:chOff x="920880" y="3809880"/>
            <a:chExt cx="444240" cy="458280"/>
          </a:xfrm>
        </p:grpSpPr>
        <p:sp>
          <p:nvSpPr>
            <p:cNvPr id="221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90720" y="38098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568840" y="3733920"/>
            <a:ext cx="444600" cy="458280"/>
            <a:chOff x="5568840" y="3733920"/>
            <a:chExt cx="444600" cy="458280"/>
          </a:xfrm>
        </p:grpSpPr>
        <p:sp>
          <p:nvSpPr>
            <p:cNvPr id="224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386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378080" y="4267080"/>
            <a:ext cx="444240" cy="458280"/>
            <a:chOff x="1378080" y="4267080"/>
            <a:chExt cx="444240" cy="458280"/>
          </a:xfrm>
        </p:grpSpPr>
        <p:sp>
          <p:nvSpPr>
            <p:cNvPr id="227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47920" y="42670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6026040" y="4191120"/>
            <a:ext cx="444600" cy="458280"/>
            <a:chOff x="6026040" y="4191120"/>
            <a:chExt cx="444600" cy="458280"/>
          </a:xfrm>
        </p:grpSpPr>
        <p:sp>
          <p:nvSpPr>
            <p:cNvPr id="230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958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835280" y="4724280"/>
            <a:ext cx="444240" cy="458280"/>
            <a:chOff x="1835280" y="4724280"/>
            <a:chExt cx="444240" cy="458280"/>
          </a:xfrm>
        </p:grpSpPr>
        <p:sp>
          <p:nvSpPr>
            <p:cNvPr id="233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05120" y="47242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483240" y="4648320"/>
            <a:ext cx="444600" cy="458280"/>
            <a:chOff x="6483240" y="4648320"/>
            <a:chExt cx="444600" cy="458280"/>
          </a:xfrm>
        </p:grpSpPr>
        <p:sp>
          <p:nvSpPr>
            <p:cNvPr id="236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530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292480" y="5181480"/>
            <a:ext cx="444240" cy="458280"/>
            <a:chOff x="2292480" y="5181480"/>
            <a:chExt cx="444240" cy="458280"/>
          </a:xfrm>
        </p:grpSpPr>
        <p:sp>
          <p:nvSpPr>
            <p:cNvPr id="239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62320" y="51814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6940440" y="5105520"/>
            <a:ext cx="444600" cy="458280"/>
            <a:chOff x="6940440" y="5105520"/>
            <a:chExt cx="444600" cy="458280"/>
          </a:xfrm>
        </p:grpSpPr>
        <p:sp>
          <p:nvSpPr>
            <p:cNvPr id="242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10280" y="51055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295280" y="3809880"/>
            <a:ext cx="762120" cy="458280"/>
            <a:chOff x="1295280" y="3809880"/>
            <a:chExt cx="762120" cy="458280"/>
          </a:xfrm>
        </p:grpSpPr>
        <p:sp>
          <p:nvSpPr>
            <p:cNvPr id="245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9528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026040" y="3733920"/>
            <a:ext cx="444600" cy="458280"/>
            <a:chOff x="6026040" y="3733920"/>
            <a:chExt cx="444600" cy="458280"/>
          </a:xfrm>
        </p:grpSpPr>
        <p:sp>
          <p:nvSpPr>
            <p:cNvPr id="248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958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752480" y="4267080"/>
            <a:ext cx="762120" cy="458280"/>
            <a:chOff x="1752480" y="4267080"/>
            <a:chExt cx="762120" cy="458280"/>
          </a:xfrm>
        </p:grpSpPr>
        <p:sp>
          <p:nvSpPr>
            <p:cNvPr id="251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52480" y="42670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483240" y="4191120"/>
            <a:ext cx="444600" cy="458280"/>
            <a:chOff x="6483240" y="4191120"/>
            <a:chExt cx="444600" cy="458280"/>
          </a:xfrm>
        </p:grpSpPr>
        <p:sp>
          <p:nvSpPr>
            <p:cNvPr id="254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530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209680" y="4724280"/>
            <a:ext cx="762120" cy="458280"/>
            <a:chOff x="2209680" y="4724280"/>
            <a:chExt cx="762120" cy="458280"/>
          </a:xfrm>
        </p:grpSpPr>
        <p:sp>
          <p:nvSpPr>
            <p:cNvPr id="257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09680" y="47242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940440" y="4648320"/>
            <a:ext cx="444600" cy="458280"/>
            <a:chOff x="6940440" y="4648320"/>
            <a:chExt cx="444600" cy="458280"/>
          </a:xfrm>
        </p:grpSpPr>
        <p:sp>
          <p:nvSpPr>
            <p:cNvPr id="260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102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 = 2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1143000"/>
            <a:ext cx="876312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i+2) = min{c(i,i) + c(i+1,i+2) + 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i+1) + c(i+2,i+2) + 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 = [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 = [10, 1, 10, 1, 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838080" y="3740040"/>
            <a:ext cx="7467840" cy="2935800"/>
            <a:chOff x="838080" y="3740040"/>
            <a:chExt cx="7467840" cy="2935800"/>
          </a:xfrm>
        </p:grpSpPr>
        <p:sp>
          <p:nvSpPr>
            <p:cNvPr id="265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352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924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2924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38080" y="6095880"/>
              <a:ext cx="2286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c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832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404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404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486400" y="6019920"/>
              <a:ext cx="2819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ay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920880" y="3809880"/>
            <a:ext cx="444240" cy="458280"/>
            <a:chOff x="920880" y="3809880"/>
            <a:chExt cx="444240" cy="458280"/>
          </a:xfrm>
        </p:grpSpPr>
        <p:sp>
          <p:nvSpPr>
            <p:cNvPr id="288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990720" y="38098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5568840" y="3733920"/>
            <a:ext cx="444600" cy="458280"/>
            <a:chOff x="5568840" y="3733920"/>
            <a:chExt cx="444600" cy="458280"/>
          </a:xfrm>
        </p:grpSpPr>
        <p:sp>
          <p:nvSpPr>
            <p:cNvPr id="291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386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378080" y="4267080"/>
            <a:ext cx="444240" cy="458280"/>
            <a:chOff x="1378080" y="4267080"/>
            <a:chExt cx="444240" cy="458280"/>
          </a:xfrm>
        </p:grpSpPr>
        <p:sp>
          <p:nvSpPr>
            <p:cNvPr id="294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447920" y="42670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6026040" y="4191120"/>
            <a:ext cx="444600" cy="458280"/>
            <a:chOff x="6026040" y="4191120"/>
            <a:chExt cx="444600" cy="458280"/>
          </a:xfrm>
        </p:grpSpPr>
        <p:sp>
          <p:nvSpPr>
            <p:cNvPr id="297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58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1835280" y="4724280"/>
            <a:ext cx="444240" cy="458280"/>
            <a:chOff x="1835280" y="4724280"/>
            <a:chExt cx="444240" cy="458280"/>
          </a:xfrm>
        </p:grpSpPr>
        <p:sp>
          <p:nvSpPr>
            <p:cNvPr id="300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05120" y="47242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483240" y="4648320"/>
            <a:ext cx="444600" cy="458280"/>
            <a:chOff x="6483240" y="4648320"/>
            <a:chExt cx="444600" cy="458280"/>
          </a:xfrm>
        </p:grpSpPr>
        <p:sp>
          <p:nvSpPr>
            <p:cNvPr id="303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530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2292480" y="5181480"/>
            <a:ext cx="444240" cy="458280"/>
            <a:chOff x="2292480" y="5181480"/>
            <a:chExt cx="444240" cy="458280"/>
          </a:xfrm>
        </p:grpSpPr>
        <p:sp>
          <p:nvSpPr>
            <p:cNvPr id="306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362320" y="51814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940440" y="5105520"/>
            <a:ext cx="444600" cy="458280"/>
            <a:chOff x="6940440" y="5105520"/>
            <a:chExt cx="444600" cy="458280"/>
          </a:xfrm>
        </p:grpSpPr>
        <p:sp>
          <p:nvSpPr>
            <p:cNvPr id="309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10280" y="51055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1295280" y="3809880"/>
            <a:ext cx="762120" cy="458280"/>
            <a:chOff x="1295280" y="3809880"/>
            <a:chExt cx="762120" cy="458280"/>
          </a:xfrm>
        </p:grpSpPr>
        <p:sp>
          <p:nvSpPr>
            <p:cNvPr id="312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9528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026040" y="3733920"/>
            <a:ext cx="444600" cy="458280"/>
            <a:chOff x="6026040" y="3733920"/>
            <a:chExt cx="444600" cy="458280"/>
          </a:xfrm>
        </p:grpSpPr>
        <p:sp>
          <p:nvSpPr>
            <p:cNvPr id="315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58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752480" y="4267080"/>
            <a:ext cx="762120" cy="458280"/>
            <a:chOff x="1752480" y="4267080"/>
            <a:chExt cx="762120" cy="458280"/>
          </a:xfrm>
        </p:grpSpPr>
        <p:sp>
          <p:nvSpPr>
            <p:cNvPr id="318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752480" y="42670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6483240" y="4191120"/>
            <a:ext cx="444600" cy="458280"/>
            <a:chOff x="6483240" y="4191120"/>
            <a:chExt cx="444600" cy="458280"/>
          </a:xfrm>
        </p:grpSpPr>
        <p:sp>
          <p:nvSpPr>
            <p:cNvPr id="321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5530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2209680" y="4724280"/>
            <a:ext cx="762120" cy="458280"/>
            <a:chOff x="2209680" y="4724280"/>
            <a:chExt cx="762120" cy="458280"/>
          </a:xfrm>
        </p:grpSpPr>
        <p:sp>
          <p:nvSpPr>
            <p:cNvPr id="324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09680" y="47242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6940440" y="4648320"/>
            <a:ext cx="444600" cy="458280"/>
            <a:chOff x="6940440" y="4648320"/>
            <a:chExt cx="444600" cy="458280"/>
          </a:xfrm>
        </p:grpSpPr>
        <p:sp>
          <p:nvSpPr>
            <p:cNvPr id="327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0102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 = 2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" y="1143000"/>
            <a:ext cx="8763120" cy="25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1,3) = min{c(1,1) + c(2,3) + 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   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1,2) + c(3,3) + 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 = [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 = [10, 1, 10, 1, 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1,3) = min{0 + 10 + 10, 100 + 0 + 1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838080" y="3740040"/>
            <a:ext cx="7467840" cy="2935800"/>
            <a:chOff x="838080" y="3740040"/>
            <a:chExt cx="7467840" cy="2935800"/>
          </a:xfrm>
        </p:grpSpPr>
        <p:sp>
          <p:nvSpPr>
            <p:cNvPr id="332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8352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924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2924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38080" y="6095880"/>
              <a:ext cx="2286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c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832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9404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9404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486400" y="6019920"/>
              <a:ext cx="2819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ay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920880" y="3809880"/>
            <a:ext cx="444240" cy="458280"/>
            <a:chOff x="920880" y="3809880"/>
            <a:chExt cx="444240" cy="458280"/>
          </a:xfrm>
        </p:grpSpPr>
        <p:sp>
          <p:nvSpPr>
            <p:cNvPr id="355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90720" y="38098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568840" y="3733920"/>
            <a:ext cx="444600" cy="458280"/>
            <a:chOff x="5568840" y="3733920"/>
            <a:chExt cx="444600" cy="458280"/>
          </a:xfrm>
        </p:grpSpPr>
        <p:sp>
          <p:nvSpPr>
            <p:cNvPr id="358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6386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378080" y="4267080"/>
            <a:ext cx="444240" cy="458280"/>
            <a:chOff x="1378080" y="4267080"/>
            <a:chExt cx="444240" cy="458280"/>
          </a:xfrm>
        </p:grpSpPr>
        <p:sp>
          <p:nvSpPr>
            <p:cNvPr id="361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47920" y="42670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6026040" y="4191120"/>
            <a:ext cx="444600" cy="458280"/>
            <a:chOff x="6026040" y="4191120"/>
            <a:chExt cx="444600" cy="458280"/>
          </a:xfrm>
        </p:grpSpPr>
        <p:sp>
          <p:nvSpPr>
            <p:cNvPr id="364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958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835280" y="4724280"/>
            <a:ext cx="444240" cy="458280"/>
            <a:chOff x="1835280" y="4724280"/>
            <a:chExt cx="444240" cy="458280"/>
          </a:xfrm>
        </p:grpSpPr>
        <p:sp>
          <p:nvSpPr>
            <p:cNvPr id="367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905120" y="47242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483240" y="4648320"/>
            <a:ext cx="444600" cy="458280"/>
            <a:chOff x="6483240" y="4648320"/>
            <a:chExt cx="444600" cy="458280"/>
          </a:xfrm>
        </p:grpSpPr>
        <p:sp>
          <p:nvSpPr>
            <p:cNvPr id="370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530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292480" y="5181480"/>
            <a:ext cx="444240" cy="458280"/>
            <a:chOff x="2292480" y="5181480"/>
            <a:chExt cx="444240" cy="458280"/>
          </a:xfrm>
        </p:grpSpPr>
        <p:sp>
          <p:nvSpPr>
            <p:cNvPr id="373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62320" y="51814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6940440" y="5105520"/>
            <a:ext cx="444600" cy="458280"/>
            <a:chOff x="6940440" y="5105520"/>
            <a:chExt cx="444600" cy="458280"/>
          </a:xfrm>
        </p:grpSpPr>
        <p:sp>
          <p:nvSpPr>
            <p:cNvPr id="376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010280" y="51055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1295280" y="3809880"/>
            <a:ext cx="762120" cy="458280"/>
            <a:chOff x="1295280" y="3809880"/>
            <a:chExt cx="762120" cy="458280"/>
          </a:xfrm>
        </p:grpSpPr>
        <p:sp>
          <p:nvSpPr>
            <p:cNvPr id="379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9528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026040" y="3733920"/>
            <a:ext cx="444600" cy="458280"/>
            <a:chOff x="6026040" y="3733920"/>
            <a:chExt cx="444600" cy="458280"/>
          </a:xfrm>
        </p:grpSpPr>
        <p:sp>
          <p:nvSpPr>
            <p:cNvPr id="382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58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752480" y="4267080"/>
            <a:ext cx="762120" cy="458280"/>
            <a:chOff x="1752480" y="4267080"/>
            <a:chExt cx="762120" cy="458280"/>
          </a:xfrm>
        </p:grpSpPr>
        <p:sp>
          <p:nvSpPr>
            <p:cNvPr id="385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52480" y="42670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483240" y="4191120"/>
            <a:ext cx="444600" cy="458280"/>
            <a:chOff x="6483240" y="4191120"/>
            <a:chExt cx="444600" cy="458280"/>
          </a:xfrm>
        </p:grpSpPr>
        <p:sp>
          <p:nvSpPr>
            <p:cNvPr id="388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530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2209680" y="4724280"/>
            <a:ext cx="762120" cy="458280"/>
            <a:chOff x="2209680" y="4724280"/>
            <a:chExt cx="762120" cy="458280"/>
          </a:xfrm>
        </p:grpSpPr>
        <p:sp>
          <p:nvSpPr>
            <p:cNvPr id="391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209680" y="47242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6940440" y="4648320"/>
            <a:ext cx="444600" cy="458280"/>
            <a:chOff x="6940440" y="4648320"/>
            <a:chExt cx="444600" cy="458280"/>
          </a:xfrm>
        </p:grpSpPr>
        <p:sp>
          <p:nvSpPr>
            <p:cNvPr id="394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0102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1828800" y="3809880"/>
            <a:ext cx="762120" cy="458280"/>
            <a:chOff x="1828800" y="3809880"/>
            <a:chExt cx="762120" cy="458280"/>
          </a:xfrm>
        </p:grpSpPr>
        <p:sp>
          <p:nvSpPr>
            <p:cNvPr id="397" name=""/>
            <p:cNvSpPr/>
            <p:nvPr/>
          </p:nvSpPr>
          <p:spPr>
            <a:xfrm>
              <a:off x="18352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2880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6483240" y="3733920"/>
            <a:ext cx="444600" cy="458280"/>
            <a:chOff x="6483240" y="3733920"/>
            <a:chExt cx="444600" cy="458280"/>
          </a:xfrm>
        </p:grpSpPr>
        <p:sp>
          <p:nvSpPr>
            <p:cNvPr id="400" name=""/>
            <p:cNvSpPr/>
            <p:nvPr/>
          </p:nvSpPr>
          <p:spPr>
            <a:xfrm>
              <a:off x="64832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5530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 = 2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" y="1143000"/>
            <a:ext cx="8763120" cy="25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2,4) = min{c(2,2) + c(3,4) + 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   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2,3) + c(4,4) + 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 = [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 = [10, 1, 10, 1, 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2,4) = min{0 + 100 + 100, 10 + 0 + 1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838080" y="3740040"/>
            <a:ext cx="7467840" cy="2935800"/>
            <a:chOff x="838080" y="3740040"/>
            <a:chExt cx="7467840" cy="2935800"/>
          </a:xfrm>
        </p:grpSpPr>
        <p:sp>
          <p:nvSpPr>
            <p:cNvPr id="405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8352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2924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924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38080" y="6095880"/>
              <a:ext cx="2286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c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832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404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404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86400" y="6019920"/>
              <a:ext cx="2819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ay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920880" y="3809880"/>
            <a:ext cx="444240" cy="458280"/>
            <a:chOff x="920880" y="3809880"/>
            <a:chExt cx="444240" cy="458280"/>
          </a:xfrm>
        </p:grpSpPr>
        <p:sp>
          <p:nvSpPr>
            <p:cNvPr id="428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990720" y="38098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5568840" y="3733920"/>
            <a:ext cx="444600" cy="458280"/>
            <a:chOff x="5568840" y="3733920"/>
            <a:chExt cx="444600" cy="458280"/>
          </a:xfrm>
        </p:grpSpPr>
        <p:sp>
          <p:nvSpPr>
            <p:cNvPr id="431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386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1378080" y="4267080"/>
            <a:ext cx="444240" cy="458280"/>
            <a:chOff x="1378080" y="4267080"/>
            <a:chExt cx="444240" cy="458280"/>
          </a:xfrm>
        </p:grpSpPr>
        <p:sp>
          <p:nvSpPr>
            <p:cNvPr id="434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47920" y="42670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6026040" y="4191120"/>
            <a:ext cx="444600" cy="458280"/>
            <a:chOff x="6026040" y="4191120"/>
            <a:chExt cx="444600" cy="458280"/>
          </a:xfrm>
        </p:grpSpPr>
        <p:sp>
          <p:nvSpPr>
            <p:cNvPr id="437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0958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1835280" y="4724280"/>
            <a:ext cx="444240" cy="458280"/>
            <a:chOff x="1835280" y="4724280"/>
            <a:chExt cx="444240" cy="458280"/>
          </a:xfrm>
        </p:grpSpPr>
        <p:sp>
          <p:nvSpPr>
            <p:cNvPr id="440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905120" y="47242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6483240" y="4648320"/>
            <a:ext cx="444600" cy="458280"/>
            <a:chOff x="6483240" y="4648320"/>
            <a:chExt cx="444600" cy="458280"/>
          </a:xfrm>
        </p:grpSpPr>
        <p:sp>
          <p:nvSpPr>
            <p:cNvPr id="443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5530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2292480" y="5181480"/>
            <a:ext cx="444240" cy="458280"/>
            <a:chOff x="2292480" y="5181480"/>
            <a:chExt cx="444240" cy="458280"/>
          </a:xfrm>
        </p:grpSpPr>
        <p:sp>
          <p:nvSpPr>
            <p:cNvPr id="446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362320" y="51814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6940440" y="5105520"/>
            <a:ext cx="444600" cy="458280"/>
            <a:chOff x="6940440" y="5105520"/>
            <a:chExt cx="444600" cy="458280"/>
          </a:xfrm>
        </p:grpSpPr>
        <p:sp>
          <p:nvSpPr>
            <p:cNvPr id="449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010280" y="51055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1295280" y="3809880"/>
            <a:ext cx="762120" cy="458280"/>
            <a:chOff x="1295280" y="3809880"/>
            <a:chExt cx="762120" cy="458280"/>
          </a:xfrm>
        </p:grpSpPr>
        <p:sp>
          <p:nvSpPr>
            <p:cNvPr id="452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29528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6026040" y="3733920"/>
            <a:ext cx="444600" cy="458280"/>
            <a:chOff x="6026040" y="3733920"/>
            <a:chExt cx="444600" cy="458280"/>
          </a:xfrm>
        </p:grpSpPr>
        <p:sp>
          <p:nvSpPr>
            <p:cNvPr id="455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958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752480" y="4267080"/>
            <a:ext cx="762120" cy="458280"/>
            <a:chOff x="1752480" y="4267080"/>
            <a:chExt cx="762120" cy="458280"/>
          </a:xfrm>
        </p:grpSpPr>
        <p:sp>
          <p:nvSpPr>
            <p:cNvPr id="458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752480" y="42670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6483240" y="4191120"/>
            <a:ext cx="444600" cy="458280"/>
            <a:chOff x="6483240" y="4191120"/>
            <a:chExt cx="444600" cy="458280"/>
          </a:xfrm>
        </p:grpSpPr>
        <p:sp>
          <p:nvSpPr>
            <p:cNvPr id="461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5530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209680" y="4724280"/>
            <a:ext cx="762120" cy="458280"/>
            <a:chOff x="2209680" y="4724280"/>
            <a:chExt cx="762120" cy="458280"/>
          </a:xfrm>
        </p:grpSpPr>
        <p:sp>
          <p:nvSpPr>
            <p:cNvPr id="464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209680" y="47242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6940440" y="4648320"/>
            <a:ext cx="444600" cy="458280"/>
            <a:chOff x="6940440" y="4648320"/>
            <a:chExt cx="444600" cy="458280"/>
          </a:xfrm>
        </p:grpSpPr>
        <p:sp>
          <p:nvSpPr>
            <p:cNvPr id="467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0102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1752480" y="3809880"/>
            <a:ext cx="762120" cy="458280"/>
            <a:chOff x="1752480" y="3809880"/>
            <a:chExt cx="762120" cy="458280"/>
          </a:xfrm>
        </p:grpSpPr>
        <p:sp>
          <p:nvSpPr>
            <p:cNvPr id="470" name=""/>
            <p:cNvSpPr/>
            <p:nvPr/>
          </p:nvSpPr>
          <p:spPr>
            <a:xfrm>
              <a:off x="18352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75248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6483240" y="3733920"/>
            <a:ext cx="444600" cy="458280"/>
            <a:chOff x="6483240" y="3733920"/>
            <a:chExt cx="444600" cy="458280"/>
          </a:xfrm>
        </p:grpSpPr>
        <p:sp>
          <p:nvSpPr>
            <p:cNvPr id="473" name=""/>
            <p:cNvSpPr/>
            <p:nvPr/>
          </p:nvSpPr>
          <p:spPr>
            <a:xfrm>
              <a:off x="64832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5530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2209680" y="4267080"/>
            <a:ext cx="762120" cy="458280"/>
            <a:chOff x="2209680" y="4267080"/>
            <a:chExt cx="762120" cy="458280"/>
          </a:xfrm>
        </p:grpSpPr>
        <p:sp>
          <p:nvSpPr>
            <p:cNvPr id="476" name=""/>
            <p:cNvSpPr/>
            <p:nvPr/>
          </p:nvSpPr>
          <p:spPr>
            <a:xfrm>
              <a:off x="22924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209680" y="42670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6940440" y="4191120"/>
            <a:ext cx="444600" cy="458280"/>
            <a:chOff x="6940440" y="4191120"/>
            <a:chExt cx="444600" cy="458280"/>
          </a:xfrm>
        </p:grpSpPr>
        <p:sp>
          <p:nvSpPr>
            <p:cNvPr id="479" name=""/>
            <p:cNvSpPr/>
            <p:nvPr/>
          </p:nvSpPr>
          <p:spPr>
            <a:xfrm>
              <a:off x="69404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0102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 = 3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1143000"/>
            <a:ext cx="9142560" cy="25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1,4) = min{c(1,1) + c(2,4) + 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1,2) + c(3,4) + 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c(1,3) + c(4,4) + 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 = [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 = [10, 1, 10, 1, 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1,4) = min{0+20+100, 100+100+1000, 20+0+1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838080" y="3740040"/>
            <a:ext cx="7467840" cy="2935800"/>
            <a:chOff x="838080" y="3740040"/>
            <a:chExt cx="7467840" cy="2935800"/>
          </a:xfrm>
        </p:grpSpPr>
        <p:sp>
          <p:nvSpPr>
            <p:cNvPr id="484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8352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2924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2924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38080" y="6095880"/>
              <a:ext cx="2286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c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832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9404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404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486400" y="6019920"/>
              <a:ext cx="2819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ay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920880" y="3809880"/>
            <a:ext cx="444240" cy="458280"/>
            <a:chOff x="920880" y="3809880"/>
            <a:chExt cx="444240" cy="458280"/>
          </a:xfrm>
        </p:grpSpPr>
        <p:sp>
          <p:nvSpPr>
            <p:cNvPr id="507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0720" y="38098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68840" y="3733920"/>
            <a:ext cx="444600" cy="458280"/>
            <a:chOff x="5568840" y="3733920"/>
            <a:chExt cx="444600" cy="458280"/>
          </a:xfrm>
        </p:grpSpPr>
        <p:sp>
          <p:nvSpPr>
            <p:cNvPr id="510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6386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1378080" y="4267080"/>
            <a:ext cx="444240" cy="458280"/>
            <a:chOff x="1378080" y="4267080"/>
            <a:chExt cx="444240" cy="458280"/>
          </a:xfrm>
        </p:grpSpPr>
        <p:sp>
          <p:nvSpPr>
            <p:cNvPr id="513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447920" y="42670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6026040" y="4191120"/>
            <a:ext cx="444600" cy="458280"/>
            <a:chOff x="6026040" y="4191120"/>
            <a:chExt cx="444600" cy="458280"/>
          </a:xfrm>
        </p:grpSpPr>
        <p:sp>
          <p:nvSpPr>
            <p:cNvPr id="516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0958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835280" y="4724280"/>
            <a:ext cx="444240" cy="458280"/>
            <a:chOff x="1835280" y="4724280"/>
            <a:chExt cx="444240" cy="458280"/>
          </a:xfrm>
        </p:grpSpPr>
        <p:sp>
          <p:nvSpPr>
            <p:cNvPr id="519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905120" y="47242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6483240" y="4648320"/>
            <a:ext cx="444600" cy="458280"/>
            <a:chOff x="6483240" y="4648320"/>
            <a:chExt cx="444600" cy="458280"/>
          </a:xfrm>
        </p:grpSpPr>
        <p:sp>
          <p:nvSpPr>
            <p:cNvPr id="522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5530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2292480" y="5181480"/>
            <a:ext cx="444240" cy="458280"/>
            <a:chOff x="2292480" y="5181480"/>
            <a:chExt cx="444240" cy="458280"/>
          </a:xfrm>
        </p:grpSpPr>
        <p:sp>
          <p:nvSpPr>
            <p:cNvPr id="525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62320" y="51814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6940440" y="5105520"/>
            <a:ext cx="444600" cy="458280"/>
            <a:chOff x="6940440" y="5105520"/>
            <a:chExt cx="444600" cy="458280"/>
          </a:xfrm>
        </p:grpSpPr>
        <p:sp>
          <p:nvSpPr>
            <p:cNvPr id="528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010280" y="51055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1295280" y="3809880"/>
            <a:ext cx="762120" cy="458280"/>
            <a:chOff x="1295280" y="3809880"/>
            <a:chExt cx="762120" cy="458280"/>
          </a:xfrm>
        </p:grpSpPr>
        <p:sp>
          <p:nvSpPr>
            <p:cNvPr id="531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9528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6026040" y="3733920"/>
            <a:ext cx="444600" cy="458280"/>
            <a:chOff x="6026040" y="3733920"/>
            <a:chExt cx="444600" cy="458280"/>
          </a:xfrm>
        </p:grpSpPr>
        <p:sp>
          <p:nvSpPr>
            <p:cNvPr id="534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958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1752480" y="4267080"/>
            <a:ext cx="762120" cy="458280"/>
            <a:chOff x="1752480" y="4267080"/>
            <a:chExt cx="762120" cy="458280"/>
          </a:xfrm>
        </p:grpSpPr>
        <p:sp>
          <p:nvSpPr>
            <p:cNvPr id="537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52480" y="42670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6483240" y="4191120"/>
            <a:ext cx="444600" cy="458280"/>
            <a:chOff x="6483240" y="4191120"/>
            <a:chExt cx="444600" cy="458280"/>
          </a:xfrm>
        </p:grpSpPr>
        <p:sp>
          <p:nvSpPr>
            <p:cNvPr id="540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5530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2209680" y="4724280"/>
            <a:ext cx="762120" cy="458280"/>
            <a:chOff x="2209680" y="4724280"/>
            <a:chExt cx="762120" cy="458280"/>
          </a:xfrm>
        </p:grpSpPr>
        <p:sp>
          <p:nvSpPr>
            <p:cNvPr id="543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09680" y="47242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6940440" y="4648320"/>
            <a:ext cx="444600" cy="458280"/>
            <a:chOff x="6940440" y="4648320"/>
            <a:chExt cx="444600" cy="458280"/>
          </a:xfrm>
        </p:grpSpPr>
        <p:sp>
          <p:nvSpPr>
            <p:cNvPr id="546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0102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1752480" y="3809880"/>
            <a:ext cx="762120" cy="458280"/>
            <a:chOff x="1752480" y="3809880"/>
            <a:chExt cx="762120" cy="458280"/>
          </a:xfrm>
        </p:grpSpPr>
        <p:sp>
          <p:nvSpPr>
            <p:cNvPr id="549" name=""/>
            <p:cNvSpPr/>
            <p:nvPr/>
          </p:nvSpPr>
          <p:spPr>
            <a:xfrm>
              <a:off x="18352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5248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6483240" y="3733920"/>
            <a:ext cx="444600" cy="458280"/>
            <a:chOff x="6483240" y="3733920"/>
            <a:chExt cx="444600" cy="458280"/>
          </a:xfrm>
        </p:grpSpPr>
        <p:sp>
          <p:nvSpPr>
            <p:cNvPr id="552" name=""/>
            <p:cNvSpPr/>
            <p:nvPr/>
          </p:nvSpPr>
          <p:spPr>
            <a:xfrm>
              <a:off x="64832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530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2209680" y="4267080"/>
            <a:ext cx="762120" cy="458280"/>
            <a:chOff x="2209680" y="4267080"/>
            <a:chExt cx="762120" cy="458280"/>
          </a:xfrm>
        </p:grpSpPr>
        <p:sp>
          <p:nvSpPr>
            <p:cNvPr id="555" name=""/>
            <p:cNvSpPr/>
            <p:nvPr/>
          </p:nvSpPr>
          <p:spPr>
            <a:xfrm>
              <a:off x="22924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09680" y="42670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6940440" y="4191120"/>
            <a:ext cx="444600" cy="458280"/>
            <a:chOff x="6940440" y="4191120"/>
            <a:chExt cx="444600" cy="458280"/>
          </a:xfrm>
        </p:grpSpPr>
        <p:sp>
          <p:nvSpPr>
            <p:cNvPr id="558" name=""/>
            <p:cNvSpPr/>
            <p:nvPr/>
          </p:nvSpPr>
          <p:spPr>
            <a:xfrm>
              <a:off x="69404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102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2209680" y="3809880"/>
            <a:ext cx="762120" cy="458280"/>
            <a:chOff x="2209680" y="3809880"/>
            <a:chExt cx="762120" cy="458280"/>
          </a:xfrm>
        </p:grpSpPr>
        <p:sp>
          <p:nvSpPr>
            <p:cNvPr id="561" name=""/>
            <p:cNvSpPr/>
            <p:nvPr/>
          </p:nvSpPr>
          <p:spPr>
            <a:xfrm>
              <a:off x="22924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20968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6940440" y="3733920"/>
            <a:ext cx="444600" cy="458280"/>
            <a:chOff x="6940440" y="3733920"/>
            <a:chExt cx="444600" cy="458280"/>
          </a:xfrm>
        </p:grpSpPr>
        <p:sp>
          <p:nvSpPr>
            <p:cNvPr id="564" name=""/>
            <p:cNvSpPr/>
            <p:nvPr/>
          </p:nvSpPr>
          <p:spPr>
            <a:xfrm>
              <a:off x="69404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0102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etermine The Best Way To Comput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1143000"/>
            <a:ext cx="9142560" cy="25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1,4) 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the last multiplication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1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lves a single matrix and no multip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best way to compu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838080" y="3740040"/>
            <a:ext cx="7467840" cy="2935800"/>
            <a:chOff x="838080" y="3740040"/>
            <a:chExt cx="7467840" cy="2935800"/>
          </a:xfrm>
        </p:grpSpPr>
        <p:sp>
          <p:nvSpPr>
            <p:cNvPr id="569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8352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924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924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38080" y="6095880"/>
              <a:ext cx="2286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c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4832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9404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404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486400" y="6019920"/>
              <a:ext cx="2819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ay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920880" y="3809880"/>
            <a:ext cx="444240" cy="458280"/>
            <a:chOff x="920880" y="3809880"/>
            <a:chExt cx="444240" cy="458280"/>
          </a:xfrm>
        </p:grpSpPr>
        <p:sp>
          <p:nvSpPr>
            <p:cNvPr id="592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90720" y="38098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5568840" y="3733920"/>
            <a:ext cx="444600" cy="458280"/>
            <a:chOff x="5568840" y="3733920"/>
            <a:chExt cx="444600" cy="458280"/>
          </a:xfrm>
        </p:grpSpPr>
        <p:sp>
          <p:nvSpPr>
            <p:cNvPr id="595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6386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1378080" y="4267080"/>
            <a:ext cx="444240" cy="458280"/>
            <a:chOff x="1378080" y="4267080"/>
            <a:chExt cx="444240" cy="458280"/>
          </a:xfrm>
        </p:grpSpPr>
        <p:sp>
          <p:nvSpPr>
            <p:cNvPr id="598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447920" y="42670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6026040" y="4191120"/>
            <a:ext cx="444600" cy="458280"/>
            <a:chOff x="6026040" y="4191120"/>
            <a:chExt cx="444600" cy="458280"/>
          </a:xfrm>
        </p:grpSpPr>
        <p:sp>
          <p:nvSpPr>
            <p:cNvPr id="601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0958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1835280" y="4724280"/>
            <a:ext cx="444240" cy="458280"/>
            <a:chOff x="1835280" y="4724280"/>
            <a:chExt cx="444240" cy="458280"/>
          </a:xfrm>
        </p:grpSpPr>
        <p:sp>
          <p:nvSpPr>
            <p:cNvPr id="604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905120" y="47242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6483240" y="4648320"/>
            <a:ext cx="444600" cy="458280"/>
            <a:chOff x="6483240" y="4648320"/>
            <a:chExt cx="444600" cy="458280"/>
          </a:xfrm>
        </p:grpSpPr>
        <p:sp>
          <p:nvSpPr>
            <p:cNvPr id="607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5530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2292480" y="5181480"/>
            <a:ext cx="444240" cy="458280"/>
            <a:chOff x="2292480" y="5181480"/>
            <a:chExt cx="444240" cy="458280"/>
          </a:xfrm>
        </p:grpSpPr>
        <p:sp>
          <p:nvSpPr>
            <p:cNvPr id="610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362320" y="51814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940440" y="5105520"/>
            <a:ext cx="444600" cy="458280"/>
            <a:chOff x="6940440" y="5105520"/>
            <a:chExt cx="444600" cy="458280"/>
          </a:xfrm>
        </p:grpSpPr>
        <p:sp>
          <p:nvSpPr>
            <p:cNvPr id="613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010280" y="51055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1295280" y="3809880"/>
            <a:ext cx="762120" cy="458280"/>
            <a:chOff x="1295280" y="3809880"/>
            <a:chExt cx="762120" cy="458280"/>
          </a:xfrm>
        </p:grpSpPr>
        <p:sp>
          <p:nvSpPr>
            <p:cNvPr id="616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29528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6026040" y="3733920"/>
            <a:ext cx="444600" cy="458280"/>
            <a:chOff x="6026040" y="3733920"/>
            <a:chExt cx="444600" cy="458280"/>
          </a:xfrm>
        </p:grpSpPr>
        <p:sp>
          <p:nvSpPr>
            <p:cNvPr id="619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0958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1752480" y="4267080"/>
            <a:ext cx="762120" cy="458280"/>
            <a:chOff x="1752480" y="4267080"/>
            <a:chExt cx="762120" cy="458280"/>
          </a:xfrm>
        </p:grpSpPr>
        <p:sp>
          <p:nvSpPr>
            <p:cNvPr id="622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752480" y="42670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6483240" y="4191120"/>
            <a:ext cx="444600" cy="458280"/>
            <a:chOff x="6483240" y="4191120"/>
            <a:chExt cx="444600" cy="458280"/>
          </a:xfrm>
        </p:grpSpPr>
        <p:sp>
          <p:nvSpPr>
            <p:cNvPr id="625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5530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209680" y="4724280"/>
            <a:ext cx="762120" cy="458280"/>
            <a:chOff x="2209680" y="4724280"/>
            <a:chExt cx="762120" cy="458280"/>
          </a:xfrm>
        </p:grpSpPr>
        <p:sp>
          <p:nvSpPr>
            <p:cNvPr id="628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209680" y="47242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6940440" y="4648320"/>
            <a:ext cx="444600" cy="458280"/>
            <a:chOff x="6940440" y="4648320"/>
            <a:chExt cx="444600" cy="458280"/>
          </a:xfrm>
        </p:grpSpPr>
        <p:sp>
          <p:nvSpPr>
            <p:cNvPr id="631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0102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752480" y="3809880"/>
            <a:ext cx="762120" cy="458280"/>
            <a:chOff x="1752480" y="3809880"/>
            <a:chExt cx="762120" cy="458280"/>
          </a:xfrm>
        </p:grpSpPr>
        <p:sp>
          <p:nvSpPr>
            <p:cNvPr id="634" name=""/>
            <p:cNvSpPr/>
            <p:nvPr/>
          </p:nvSpPr>
          <p:spPr>
            <a:xfrm>
              <a:off x="18352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5248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6483240" y="3733920"/>
            <a:ext cx="444600" cy="458280"/>
            <a:chOff x="6483240" y="3733920"/>
            <a:chExt cx="444600" cy="458280"/>
          </a:xfrm>
        </p:grpSpPr>
        <p:sp>
          <p:nvSpPr>
            <p:cNvPr id="637" name=""/>
            <p:cNvSpPr/>
            <p:nvPr/>
          </p:nvSpPr>
          <p:spPr>
            <a:xfrm>
              <a:off x="64832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5530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209680" y="4267080"/>
            <a:ext cx="762120" cy="458280"/>
            <a:chOff x="2209680" y="4267080"/>
            <a:chExt cx="762120" cy="458280"/>
          </a:xfrm>
        </p:grpSpPr>
        <p:sp>
          <p:nvSpPr>
            <p:cNvPr id="640" name=""/>
            <p:cNvSpPr/>
            <p:nvPr/>
          </p:nvSpPr>
          <p:spPr>
            <a:xfrm>
              <a:off x="22924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209680" y="42670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6940440" y="4191120"/>
            <a:ext cx="444600" cy="458280"/>
            <a:chOff x="6940440" y="4191120"/>
            <a:chExt cx="444600" cy="458280"/>
          </a:xfrm>
        </p:grpSpPr>
        <p:sp>
          <p:nvSpPr>
            <p:cNvPr id="643" name=""/>
            <p:cNvSpPr/>
            <p:nvPr/>
          </p:nvSpPr>
          <p:spPr>
            <a:xfrm>
              <a:off x="69404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0102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2209680" y="3809880"/>
            <a:ext cx="762120" cy="458280"/>
            <a:chOff x="2209680" y="3809880"/>
            <a:chExt cx="762120" cy="458280"/>
          </a:xfrm>
        </p:grpSpPr>
        <p:sp>
          <p:nvSpPr>
            <p:cNvPr id="646" name=""/>
            <p:cNvSpPr/>
            <p:nvPr/>
          </p:nvSpPr>
          <p:spPr>
            <a:xfrm>
              <a:off x="22924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0968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6940440" y="3733920"/>
            <a:ext cx="444600" cy="458280"/>
            <a:chOff x="6940440" y="3733920"/>
            <a:chExt cx="444600" cy="458280"/>
          </a:xfrm>
        </p:grpSpPr>
        <p:sp>
          <p:nvSpPr>
            <p:cNvPr id="649" name=""/>
            <p:cNvSpPr/>
            <p:nvPr/>
          </p:nvSpPr>
          <p:spPr>
            <a:xfrm>
              <a:off x="69404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0102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etermine The Best Way To Comput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4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1143000"/>
            <a:ext cx="9142560" cy="25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2,4) = 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the last multiplication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3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4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4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lves a single matrix and no multip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838080" y="3740040"/>
            <a:ext cx="7467840" cy="2935800"/>
            <a:chOff x="838080" y="3740040"/>
            <a:chExt cx="7467840" cy="2935800"/>
          </a:xfrm>
        </p:grpSpPr>
        <p:sp>
          <p:nvSpPr>
            <p:cNvPr id="654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8352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2924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2924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38080" y="6095880"/>
              <a:ext cx="2286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c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4832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9404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9404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486400" y="6019920"/>
              <a:ext cx="2819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ay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920880" y="3809880"/>
            <a:ext cx="444240" cy="458280"/>
            <a:chOff x="920880" y="3809880"/>
            <a:chExt cx="444240" cy="458280"/>
          </a:xfrm>
        </p:grpSpPr>
        <p:sp>
          <p:nvSpPr>
            <p:cNvPr id="677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990720" y="38098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5568840" y="3733920"/>
            <a:ext cx="444600" cy="458280"/>
            <a:chOff x="5568840" y="3733920"/>
            <a:chExt cx="444600" cy="458280"/>
          </a:xfrm>
        </p:grpSpPr>
        <p:sp>
          <p:nvSpPr>
            <p:cNvPr id="680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386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1378080" y="4267080"/>
            <a:ext cx="444240" cy="458280"/>
            <a:chOff x="1378080" y="4267080"/>
            <a:chExt cx="444240" cy="458280"/>
          </a:xfrm>
        </p:grpSpPr>
        <p:sp>
          <p:nvSpPr>
            <p:cNvPr id="683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447920" y="42670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6026040" y="4191120"/>
            <a:ext cx="444600" cy="458280"/>
            <a:chOff x="6026040" y="4191120"/>
            <a:chExt cx="444600" cy="458280"/>
          </a:xfrm>
        </p:grpSpPr>
        <p:sp>
          <p:nvSpPr>
            <p:cNvPr id="686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0958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1835280" y="4724280"/>
            <a:ext cx="444240" cy="458280"/>
            <a:chOff x="1835280" y="4724280"/>
            <a:chExt cx="444240" cy="458280"/>
          </a:xfrm>
        </p:grpSpPr>
        <p:sp>
          <p:nvSpPr>
            <p:cNvPr id="689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905120" y="47242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6483240" y="4648320"/>
            <a:ext cx="444600" cy="458280"/>
            <a:chOff x="6483240" y="4648320"/>
            <a:chExt cx="444600" cy="458280"/>
          </a:xfrm>
        </p:grpSpPr>
        <p:sp>
          <p:nvSpPr>
            <p:cNvPr id="692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5530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2292480" y="5181480"/>
            <a:ext cx="444240" cy="458280"/>
            <a:chOff x="2292480" y="5181480"/>
            <a:chExt cx="444240" cy="458280"/>
          </a:xfrm>
        </p:grpSpPr>
        <p:sp>
          <p:nvSpPr>
            <p:cNvPr id="695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362320" y="51814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6940440" y="5105520"/>
            <a:ext cx="444600" cy="458280"/>
            <a:chOff x="6940440" y="5105520"/>
            <a:chExt cx="444600" cy="458280"/>
          </a:xfrm>
        </p:grpSpPr>
        <p:sp>
          <p:nvSpPr>
            <p:cNvPr id="698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010280" y="51055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1295280" y="3809880"/>
            <a:ext cx="762120" cy="458280"/>
            <a:chOff x="1295280" y="3809880"/>
            <a:chExt cx="762120" cy="458280"/>
          </a:xfrm>
        </p:grpSpPr>
        <p:sp>
          <p:nvSpPr>
            <p:cNvPr id="701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29528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6026040" y="3733920"/>
            <a:ext cx="444600" cy="458280"/>
            <a:chOff x="6026040" y="3733920"/>
            <a:chExt cx="444600" cy="458280"/>
          </a:xfrm>
        </p:grpSpPr>
        <p:sp>
          <p:nvSpPr>
            <p:cNvPr id="704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0958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1752480" y="4267080"/>
            <a:ext cx="762120" cy="458280"/>
            <a:chOff x="1752480" y="4267080"/>
            <a:chExt cx="762120" cy="458280"/>
          </a:xfrm>
        </p:grpSpPr>
        <p:sp>
          <p:nvSpPr>
            <p:cNvPr id="707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752480" y="42670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483240" y="4191120"/>
            <a:ext cx="444600" cy="458280"/>
            <a:chOff x="6483240" y="4191120"/>
            <a:chExt cx="444600" cy="458280"/>
          </a:xfrm>
        </p:grpSpPr>
        <p:sp>
          <p:nvSpPr>
            <p:cNvPr id="710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5530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2209680" y="4724280"/>
            <a:ext cx="762120" cy="458280"/>
            <a:chOff x="2209680" y="4724280"/>
            <a:chExt cx="762120" cy="458280"/>
          </a:xfrm>
        </p:grpSpPr>
        <p:sp>
          <p:nvSpPr>
            <p:cNvPr id="713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09680" y="47242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6940440" y="4648320"/>
            <a:ext cx="444600" cy="458280"/>
            <a:chOff x="6940440" y="4648320"/>
            <a:chExt cx="444600" cy="458280"/>
          </a:xfrm>
        </p:grpSpPr>
        <p:sp>
          <p:nvSpPr>
            <p:cNvPr id="716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0102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1752480" y="3809880"/>
            <a:ext cx="762120" cy="458280"/>
            <a:chOff x="1752480" y="3809880"/>
            <a:chExt cx="762120" cy="458280"/>
          </a:xfrm>
        </p:grpSpPr>
        <p:sp>
          <p:nvSpPr>
            <p:cNvPr id="719" name=""/>
            <p:cNvSpPr/>
            <p:nvPr/>
          </p:nvSpPr>
          <p:spPr>
            <a:xfrm>
              <a:off x="18352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75248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6483240" y="3733920"/>
            <a:ext cx="444600" cy="458280"/>
            <a:chOff x="6483240" y="3733920"/>
            <a:chExt cx="444600" cy="458280"/>
          </a:xfrm>
        </p:grpSpPr>
        <p:sp>
          <p:nvSpPr>
            <p:cNvPr id="722" name=""/>
            <p:cNvSpPr/>
            <p:nvPr/>
          </p:nvSpPr>
          <p:spPr>
            <a:xfrm>
              <a:off x="64832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5530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2209680" y="4267080"/>
            <a:ext cx="762120" cy="458280"/>
            <a:chOff x="2209680" y="4267080"/>
            <a:chExt cx="762120" cy="458280"/>
          </a:xfrm>
        </p:grpSpPr>
        <p:sp>
          <p:nvSpPr>
            <p:cNvPr id="725" name=""/>
            <p:cNvSpPr/>
            <p:nvPr/>
          </p:nvSpPr>
          <p:spPr>
            <a:xfrm>
              <a:off x="22924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209680" y="42670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6940440" y="4191120"/>
            <a:ext cx="444600" cy="458280"/>
            <a:chOff x="6940440" y="4191120"/>
            <a:chExt cx="444600" cy="458280"/>
          </a:xfrm>
        </p:grpSpPr>
        <p:sp>
          <p:nvSpPr>
            <p:cNvPr id="728" name=""/>
            <p:cNvSpPr/>
            <p:nvPr/>
          </p:nvSpPr>
          <p:spPr>
            <a:xfrm>
              <a:off x="69404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102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2209680" y="3809880"/>
            <a:ext cx="762120" cy="458280"/>
            <a:chOff x="2209680" y="3809880"/>
            <a:chExt cx="762120" cy="458280"/>
          </a:xfrm>
        </p:grpSpPr>
        <p:sp>
          <p:nvSpPr>
            <p:cNvPr id="731" name=""/>
            <p:cNvSpPr/>
            <p:nvPr/>
          </p:nvSpPr>
          <p:spPr>
            <a:xfrm>
              <a:off x="22924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0968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6940440" y="3733920"/>
            <a:ext cx="444600" cy="458280"/>
            <a:chOff x="6940440" y="3733920"/>
            <a:chExt cx="444600" cy="458280"/>
          </a:xfrm>
        </p:grpSpPr>
        <p:sp>
          <p:nvSpPr>
            <p:cNvPr id="734" name=""/>
            <p:cNvSpPr/>
            <p:nvPr/>
          </p:nvSpPr>
          <p:spPr>
            <a:xfrm>
              <a:off x="69404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0102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e Best Way To Comput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09480" y="2514600"/>
            <a:ext cx="7848720" cy="25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ultiplications (in reverse order)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1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3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 Seque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 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 … 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rix products in reverse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last multiplic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next to last multiplic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o 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28600" y="3733560"/>
            <a:ext cx="86104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q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 c(i,j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s are to be computed, whe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number of matr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(i,i+s) = min 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 &lt;= k &lt; i+s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{c(i,k) + c(k+1,i+s) + 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k+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+s+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(i,j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O(q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f these terms is computed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all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(i,j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computed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q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CLOCK43" descr=""/>
          <p:cNvPicPr/>
          <p:nvPr/>
        </p:nvPicPr>
        <p:blipFill>
          <a:blip r:embed="rId1"/>
          <a:stretch/>
        </p:blipFill>
        <p:spPr>
          <a:xfrm>
            <a:off x="8305920" y="228600"/>
            <a:ext cx="468360" cy="960480"/>
          </a:xfrm>
          <a:prstGeom prst="rect">
            <a:avLst/>
          </a:prstGeom>
          <a:ln w="0">
            <a:noFill/>
          </a:ln>
        </p:spPr>
      </p:pic>
      <p:grpSp>
        <p:nvGrpSpPr>
          <p:cNvPr id="741" name=""/>
          <p:cNvGrpSpPr/>
          <p:nvPr/>
        </p:nvGrpSpPr>
        <p:grpSpPr>
          <a:xfrm>
            <a:off x="3117960" y="1060560"/>
            <a:ext cx="5187960" cy="2500200"/>
            <a:chOff x="3117960" y="1060560"/>
            <a:chExt cx="5187960" cy="2500200"/>
          </a:xfrm>
        </p:grpSpPr>
        <p:grpSp>
          <p:nvGrpSpPr>
            <p:cNvPr id="742" name=""/>
            <p:cNvGrpSpPr/>
            <p:nvPr/>
          </p:nvGrpSpPr>
          <p:grpSpPr>
            <a:xfrm>
              <a:off x="3117960" y="1060560"/>
              <a:ext cx="5187960" cy="2500200"/>
              <a:chOff x="3117960" y="1060560"/>
              <a:chExt cx="5187960" cy="2500200"/>
            </a:xfrm>
          </p:grpSpPr>
          <p:sp>
            <p:nvSpPr>
              <p:cNvPr id="743" name=""/>
              <p:cNvSpPr/>
              <p:nvPr/>
            </p:nvSpPr>
            <p:spPr>
              <a:xfrm>
                <a:off x="3498840" y="1060560"/>
                <a:ext cx="228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956040" y="1060560"/>
                <a:ext cx="228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413240" y="1060560"/>
                <a:ext cx="228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870440" y="1060560"/>
                <a:ext cx="228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7" name=""/>
              <p:cNvGrpSpPr/>
              <p:nvPr/>
            </p:nvGrpSpPr>
            <p:grpSpPr>
              <a:xfrm>
                <a:off x="3117960" y="1441440"/>
                <a:ext cx="5187960" cy="2119320"/>
                <a:chOff x="3117960" y="1441440"/>
                <a:chExt cx="5187960" cy="211932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3505320" y="1523880"/>
                  <a:ext cx="444240" cy="4446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3962520" y="1523880"/>
                  <a:ext cx="444240" cy="4446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4419720" y="1523880"/>
                  <a:ext cx="444240" cy="4446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4876920" y="1523880"/>
                  <a:ext cx="444240" cy="4446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3962520" y="1981080"/>
                  <a:ext cx="444240" cy="4446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4419720" y="1981080"/>
                  <a:ext cx="444240" cy="4446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4876920" y="1981080"/>
                  <a:ext cx="444240" cy="4446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4419720" y="2438280"/>
                  <a:ext cx="444240" cy="4446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4876920" y="2438280"/>
                  <a:ext cx="444240" cy="4446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4876920" y="2895480"/>
                  <a:ext cx="444240" cy="4446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6019920" y="1828800"/>
                  <a:ext cx="228600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0033"/>
                      </a:solidFill>
                      <a:latin typeface="Times New Roman"/>
                    </a:rPr>
                    <a:t>c(i,j), i &lt;= j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3117960" y="144144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3117960" y="197496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3117960" y="250812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3117960" y="304164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3" name=""/>
            <p:cNvGrpSpPr/>
            <p:nvPr/>
          </p:nvGrpSpPr>
          <p:grpSpPr>
            <a:xfrm>
              <a:off x="3511440" y="1523880"/>
              <a:ext cx="444240" cy="458280"/>
              <a:chOff x="3511440" y="1523880"/>
              <a:chExt cx="444240" cy="458280"/>
            </a:xfrm>
          </p:grpSpPr>
          <p:sp>
            <p:nvSpPr>
              <p:cNvPr id="764" name=""/>
              <p:cNvSpPr/>
              <p:nvPr/>
            </p:nvSpPr>
            <p:spPr>
              <a:xfrm>
                <a:off x="3511440" y="153036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581280" y="1523880"/>
                <a:ext cx="2286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3968640" y="1981080"/>
              <a:ext cx="444240" cy="458280"/>
              <a:chOff x="3968640" y="1981080"/>
              <a:chExt cx="444240" cy="458280"/>
            </a:xfrm>
          </p:grpSpPr>
          <p:sp>
            <p:nvSpPr>
              <p:cNvPr id="767" name=""/>
              <p:cNvSpPr/>
              <p:nvPr/>
            </p:nvSpPr>
            <p:spPr>
              <a:xfrm>
                <a:off x="3968640" y="198756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038480" y="1981080"/>
                <a:ext cx="2286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4425840" y="2438280"/>
              <a:ext cx="444240" cy="458280"/>
              <a:chOff x="4425840" y="2438280"/>
              <a:chExt cx="444240" cy="458280"/>
            </a:xfrm>
          </p:grpSpPr>
          <p:sp>
            <p:nvSpPr>
              <p:cNvPr id="770" name=""/>
              <p:cNvSpPr/>
              <p:nvPr/>
            </p:nvSpPr>
            <p:spPr>
              <a:xfrm>
                <a:off x="4425840" y="244476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495680" y="2438280"/>
                <a:ext cx="2286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4883040" y="2895480"/>
              <a:ext cx="444240" cy="458280"/>
              <a:chOff x="4883040" y="2895480"/>
              <a:chExt cx="444240" cy="458280"/>
            </a:xfrm>
          </p:grpSpPr>
          <p:sp>
            <p:nvSpPr>
              <p:cNvPr id="773" name=""/>
              <p:cNvSpPr/>
              <p:nvPr/>
            </p:nvSpPr>
            <p:spPr>
              <a:xfrm>
                <a:off x="4883040" y="290196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952880" y="2895480"/>
                <a:ext cx="2286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3886200" y="1523880"/>
              <a:ext cx="762120" cy="458280"/>
              <a:chOff x="3886200" y="1523880"/>
              <a:chExt cx="762120" cy="458280"/>
            </a:xfrm>
          </p:grpSpPr>
          <p:sp>
            <p:nvSpPr>
              <p:cNvPr id="776" name=""/>
              <p:cNvSpPr/>
              <p:nvPr/>
            </p:nvSpPr>
            <p:spPr>
              <a:xfrm>
                <a:off x="3969000" y="153036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886200" y="1523880"/>
                <a:ext cx="762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4343400" y="1981080"/>
              <a:ext cx="762120" cy="458280"/>
              <a:chOff x="4343400" y="1981080"/>
              <a:chExt cx="762120" cy="458280"/>
            </a:xfrm>
          </p:grpSpPr>
          <p:sp>
            <p:nvSpPr>
              <p:cNvPr id="779" name=""/>
              <p:cNvSpPr/>
              <p:nvPr/>
            </p:nvSpPr>
            <p:spPr>
              <a:xfrm>
                <a:off x="4426200" y="198756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343400" y="1981080"/>
                <a:ext cx="762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4800600" y="2438280"/>
              <a:ext cx="762120" cy="458280"/>
              <a:chOff x="4800600" y="2438280"/>
              <a:chExt cx="762120" cy="458280"/>
            </a:xfrm>
          </p:grpSpPr>
          <p:sp>
            <p:nvSpPr>
              <p:cNvPr id="782" name=""/>
              <p:cNvSpPr/>
              <p:nvPr/>
            </p:nvSpPr>
            <p:spPr>
              <a:xfrm>
                <a:off x="4883400" y="244476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800600" y="2438280"/>
                <a:ext cx="762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"/>
            <p:cNvGrpSpPr/>
            <p:nvPr/>
          </p:nvGrpSpPr>
          <p:grpSpPr>
            <a:xfrm>
              <a:off x="4343400" y="1523880"/>
              <a:ext cx="762120" cy="458280"/>
              <a:chOff x="4343400" y="1523880"/>
              <a:chExt cx="762120" cy="458280"/>
            </a:xfrm>
          </p:grpSpPr>
          <p:sp>
            <p:nvSpPr>
              <p:cNvPr id="785" name=""/>
              <p:cNvSpPr/>
              <p:nvPr/>
            </p:nvSpPr>
            <p:spPr>
              <a:xfrm>
                <a:off x="4426200" y="153036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343400" y="1523880"/>
                <a:ext cx="762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"/>
            <p:cNvGrpSpPr/>
            <p:nvPr/>
          </p:nvGrpSpPr>
          <p:grpSpPr>
            <a:xfrm>
              <a:off x="4800600" y="1981080"/>
              <a:ext cx="762120" cy="458280"/>
              <a:chOff x="4800600" y="1981080"/>
              <a:chExt cx="762120" cy="458280"/>
            </a:xfrm>
          </p:grpSpPr>
          <p:sp>
            <p:nvSpPr>
              <p:cNvPr id="788" name=""/>
              <p:cNvSpPr/>
              <p:nvPr/>
            </p:nvSpPr>
            <p:spPr>
              <a:xfrm>
                <a:off x="4883400" y="198756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800600" y="1981080"/>
                <a:ext cx="762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4800600" y="1523880"/>
              <a:ext cx="762120" cy="458280"/>
              <a:chOff x="4800600" y="1523880"/>
              <a:chExt cx="762120" cy="458280"/>
            </a:xfrm>
          </p:grpSpPr>
          <p:sp>
            <p:nvSpPr>
              <p:cNvPr id="791" name=""/>
              <p:cNvSpPr/>
              <p:nvPr/>
            </p:nvSpPr>
            <p:spPr>
              <a:xfrm>
                <a:off x="4883400" y="153036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800600" y="1523880"/>
                <a:ext cx="762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6840" y="403848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aceback tak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to determine each matrix product that is to be d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s are to be d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back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5" name="CLOCK43" descr=""/>
          <p:cNvPicPr/>
          <p:nvPr/>
        </p:nvPicPr>
        <p:blipFill>
          <a:blip r:embed="rId1"/>
          <a:stretch/>
        </p:blipFill>
        <p:spPr>
          <a:xfrm>
            <a:off x="8305920" y="228600"/>
            <a:ext cx="468360" cy="960480"/>
          </a:xfrm>
          <a:prstGeom prst="rect">
            <a:avLst/>
          </a:prstGeom>
          <a:ln w="0">
            <a:noFill/>
          </a:ln>
        </p:spPr>
      </p:pic>
      <p:grpSp>
        <p:nvGrpSpPr>
          <p:cNvPr id="796" name=""/>
          <p:cNvGrpSpPr/>
          <p:nvPr/>
        </p:nvGrpSpPr>
        <p:grpSpPr>
          <a:xfrm>
            <a:off x="3117960" y="1060560"/>
            <a:ext cx="5568840" cy="2500200"/>
            <a:chOff x="3117960" y="1060560"/>
            <a:chExt cx="5568840" cy="2500200"/>
          </a:xfrm>
        </p:grpSpPr>
        <p:grpSp>
          <p:nvGrpSpPr>
            <p:cNvPr id="797" name=""/>
            <p:cNvGrpSpPr/>
            <p:nvPr/>
          </p:nvGrpSpPr>
          <p:grpSpPr>
            <a:xfrm>
              <a:off x="3117960" y="1060560"/>
              <a:ext cx="5568840" cy="2500200"/>
              <a:chOff x="3117960" y="1060560"/>
              <a:chExt cx="5568840" cy="2500200"/>
            </a:xfrm>
          </p:grpSpPr>
          <p:sp>
            <p:nvSpPr>
              <p:cNvPr id="798" name=""/>
              <p:cNvSpPr/>
              <p:nvPr/>
            </p:nvSpPr>
            <p:spPr>
              <a:xfrm>
                <a:off x="3498840" y="1060560"/>
                <a:ext cx="228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956040" y="1060560"/>
                <a:ext cx="228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413240" y="1060560"/>
                <a:ext cx="228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870440" y="1060560"/>
                <a:ext cx="228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505320" y="1523880"/>
                <a:ext cx="444240" cy="4446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962520" y="1523880"/>
                <a:ext cx="444240" cy="4446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419720" y="1523880"/>
                <a:ext cx="444240" cy="4446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876920" y="1523880"/>
                <a:ext cx="444240" cy="4446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962520" y="1981080"/>
                <a:ext cx="444240" cy="4446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419720" y="1981080"/>
                <a:ext cx="444240" cy="4446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876920" y="1981080"/>
                <a:ext cx="444240" cy="4446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419720" y="2438280"/>
                <a:ext cx="444240" cy="4446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876920" y="2438280"/>
                <a:ext cx="444240" cy="4446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876920" y="2895480"/>
                <a:ext cx="444240" cy="4446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19920" y="1828800"/>
                <a:ext cx="266688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kay(i,j), i &lt;= j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117960" y="1441440"/>
                <a:ext cx="228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117960" y="1974960"/>
                <a:ext cx="228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117960" y="2508120"/>
                <a:ext cx="228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117960" y="3041640"/>
                <a:ext cx="228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3505320" y="1523880"/>
              <a:ext cx="444240" cy="458280"/>
              <a:chOff x="3505320" y="1523880"/>
              <a:chExt cx="444240" cy="458280"/>
            </a:xfrm>
          </p:grpSpPr>
          <p:sp>
            <p:nvSpPr>
              <p:cNvPr id="818" name=""/>
              <p:cNvSpPr/>
              <p:nvPr/>
            </p:nvSpPr>
            <p:spPr>
              <a:xfrm>
                <a:off x="3505320" y="153000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574800" y="1523880"/>
                <a:ext cx="228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3962520" y="1981080"/>
              <a:ext cx="444240" cy="458280"/>
              <a:chOff x="3962520" y="1981080"/>
              <a:chExt cx="444240" cy="458280"/>
            </a:xfrm>
          </p:grpSpPr>
          <p:sp>
            <p:nvSpPr>
              <p:cNvPr id="821" name=""/>
              <p:cNvSpPr/>
              <p:nvPr/>
            </p:nvSpPr>
            <p:spPr>
              <a:xfrm>
                <a:off x="3962520" y="198720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032000" y="1981080"/>
                <a:ext cx="228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4419720" y="2438280"/>
              <a:ext cx="444240" cy="458280"/>
              <a:chOff x="4419720" y="2438280"/>
              <a:chExt cx="444240" cy="458280"/>
            </a:xfrm>
          </p:grpSpPr>
          <p:sp>
            <p:nvSpPr>
              <p:cNvPr id="824" name=""/>
              <p:cNvSpPr/>
              <p:nvPr/>
            </p:nvSpPr>
            <p:spPr>
              <a:xfrm>
                <a:off x="4419720" y="244440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489200" y="2438280"/>
                <a:ext cx="228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"/>
            <p:cNvGrpSpPr/>
            <p:nvPr/>
          </p:nvGrpSpPr>
          <p:grpSpPr>
            <a:xfrm>
              <a:off x="4876920" y="2895480"/>
              <a:ext cx="444240" cy="458280"/>
              <a:chOff x="4876920" y="2895480"/>
              <a:chExt cx="444240" cy="458280"/>
            </a:xfrm>
          </p:grpSpPr>
          <p:sp>
            <p:nvSpPr>
              <p:cNvPr id="827" name=""/>
              <p:cNvSpPr/>
              <p:nvPr/>
            </p:nvSpPr>
            <p:spPr>
              <a:xfrm>
                <a:off x="4876920" y="290160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946400" y="2895480"/>
                <a:ext cx="228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"/>
            <p:cNvGrpSpPr/>
            <p:nvPr/>
          </p:nvGrpSpPr>
          <p:grpSpPr>
            <a:xfrm>
              <a:off x="3962520" y="1523880"/>
              <a:ext cx="444240" cy="458280"/>
              <a:chOff x="3962520" y="1523880"/>
              <a:chExt cx="444240" cy="458280"/>
            </a:xfrm>
          </p:grpSpPr>
          <p:sp>
            <p:nvSpPr>
              <p:cNvPr id="830" name=""/>
              <p:cNvSpPr/>
              <p:nvPr/>
            </p:nvSpPr>
            <p:spPr>
              <a:xfrm>
                <a:off x="3962520" y="153000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032000" y="1523880"/>
                <a:ext cx="228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4419720" y="1981080"/>
              <a:ext cx="444240" cy="458280"/>
              <a:chOff x="4419720" y="1981080"/>
              <a:chExt cx="444240" cy="458280"/>
            </a:xfrm>
          </p:grpSpPr>
          <p:sp>
            <p:nvSpPr>
              <p:cNvPr id="833" name=""/>
              <p:cNvSpPr/>
              <p:nvPr/>
            </p:nvSpPr>
            <p:spPr>
              <a:xfrm>
                <a:off x="4419720" y="198720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489200" y="1981080"/>
                <a:ext cx="228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4876920" y="2438280"/>
              <a:ext cx="444240" cy="458280"/>
              <a:chOff x="4876920" y="2438280"/>
              <a:chExt cx="444240" cy="458280"/>
            </a:xfrm>
          </p:grpSpPr>
          <p:sp>
            <p:nvSpPr>
              <p:cNvPr id="836" name=""/>
              <p:cNvSpPr/>
              <p:nvPr/>
            </p:nvSpPr>
            <p:spPr>
              <a:xfrm>
                <a:off x="4876920" y="244440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946400" y="2438280"/>
                <a:ext cx="228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4419720" y="1523880"/>
              <a:ext cx="444240" cy="458280"/>
              <a:chOff x="4419720" y="1523880"/>
              <a:chExt cx="444240" cy="458280"/>
            </a:xfrm>
          </p:grpSpPr>
          <p:sp>
            <p:nvSpPr>
              <p:cNvPr id="839" name=""/>
              <p:cNvSpPr/>
              <p:nvPr/>
            </p:nvSpPr>
            <p:spPr>
              <a:xfrm>
                <a:off x="4419720" y="153000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489200" y="1523880"/>
                <a:ext cx="228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4876920" y="1981080"/>
              <a:ext cx="444240" cy="458280"/>
              <a:chOff x="4876920" y="1981080"/>
              <a:chExt cx="444240" cy="458280"/>
            </a:xfrm>
          </p:grpSpPr>
          <p:sp>
            <p:nvSpPr>
              <p:cNvPr id="842" name=""/>
              <p:cNvSpPr/>
              <p:nvPr/>
            </p:nvSpPr>
            <p:spPr>
              <a:xfrm>
                <a:off x="4876920" y="198720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946400" y="1981080"/>
                <a:ext cx="228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4876920" y="1523880"/>
              <a:ext cx="444240" cy="458280"/>
              <a:chOff x="4876920" y="1523880"/>
              <a:chExt cx="444240" cy="458280"/>
            </a:xfrm>
          </p:grpSpPr>
          <p:sp>
            <p:nvSpPr>
              <p:cNvPr id="845" name=""/>
              <p:cNvSpPr/>
              <p:nvPr/>
            </p:nvSpPr>
            <p:spPr>
              <a:xfrm>
                <a:off x="4876920" y="153000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946400" y="1523880"/>
                <a:ext cx="228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oblem Sta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 M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 …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trices involved in each multiplication are a contiguous subset of the give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tric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lem state is given by a set of pairs of the form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i, j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i &lt;= 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ir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(i,j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otes a problem in which the matrix product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M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x …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j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o be compu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itial state is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1,q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last matrix product is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M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x …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) x (M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k+1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k+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x …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state becomes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(1,k), (k+1,q)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Verify Principle Of Optimal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 … 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&lt;= 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the last multiplication in the best way to compu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k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k+1,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som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&lt;= k &lt; 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respective of wh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, a best computation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which the last produc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k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k+1,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the property th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k+1,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computed in the best possible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85800" y="5638680"/>
            <a:ext cx="7772400" cy="990720"/>
            <a:chOff x="685800" y="5638680"/>
            <a:chExt cx="7772400" cy="990720"/>
          </a:xfrm>
        </p:grpSpPr>
        <p:sp>
          <p:nvSpPr>
            <p:cNvPr id="52" name=""/>
            <p:cNvSpPr/>
            <p:nvPr/>
          </p:nvSpPr>
          <p:spPr>
            <a:xfrm>
              <a:off x="685800" y="5638680"/>
              <a:ext cx="7772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o the principle of optimality holds and dynamic programming may be applied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RED-BLIN" descr=""/>
            <p:cNvPicPr/>
            <p:nvPr/>
          </p:nvPicPr>
          <p:blipFill>
            <a:blip r:embed="rId1"/>
            <a:stretch/>
          </p:blipFill>
          <p:spPr>
            <a:xfrm>
              <a:off x="7772400" y="6248520"/>
              <a:ext cx="320760" cy="320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rence Equ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cost of an optimal (best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y to comput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&lt;= 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1,q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cost of the best way to multiply the giv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r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i,j) = 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such that the last product in the optimal computation of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k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k+1,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i) = 0, 1 &lt;= i &lt;= 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i+1) = 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1 &lt;= i &lt; 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i+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i,i+1)  = 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(i, i+s), 1 &lt; s &lt; q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st multiplication in the best way to compu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,i+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k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k+1,i+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som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&lt;= k &lt; i+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knew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could clai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(i,i+s) = c(i,k) + c(k+1,i+s) + 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k+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+s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&lt;= k &lt; i+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can cla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(i,i+s) = min{c(i,k) + c(k+1,i+s) + 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k+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+s+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aken ove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 &lt;= k &lt; i+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i,i+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yields ab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rence Equ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752120"/>
            <a:ext cx="853416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i+s)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in 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&lt;= k &lt; i+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{c(i,k) + c(k+1,i+s) + 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k+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s+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*,*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s on right side involve fewer matrices than does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*,*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 on the lef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compute in the orde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s = 2, 3, …, q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sive Implemen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text for recursive c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that does not avoid recomputation of already compute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runs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mega(2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that does not recompute already compute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runs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q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 nonrecursively for best worst-case efficien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ANIWARN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63" name="ANIWARN" descr=""/>
          <p:cNvPicPr/>
          <p:nvPr/>
        </p:nvPicPr>
        <p:blipFill>
          <a:blip r:embed="rId2"/>
          <a:stretch/>
        </p:blipFill>
        <p:spPr>
          <a:xfrm>
            <a:off x="7848720" y="228600"/>
            <a:ext cx="73188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 = 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10 x 1) * (1 x 10) * (10 x 1) * (1 x 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 = [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 = [10, 1, 10, 1, 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33520" y="2514600"/>
            <a:ext cx="7772400" cy="3323160"/>
            <a:chOff x="533520" y="2514600"/>
            <a:chExt cx="7772400" cy="3323160"/>
          </a:xfrm>
        </p:grpSpPr>
        <p:sp>
          <p:nvSpPr>
            <p:cNvPr id="67" name=""/>
            <p:cNvSpPr/>
            <p:nvPr/>
          </p:nvSpPr>
          <p:spPr>
            <a:xfrm>
              <a:off x="920880" y="2978280"/>
              <a:ext cx="44424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78080" y="2978280"/>
              <a:ext cx="44424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35280" y="2978280"/>
              <a:ext cx="44424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92480" y="2978280"/>
              <a:ext cx="44424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78080" y="3435480"/>
              <a:ext cx="44424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5280" y="3435480"/>
              <a:ext cx="44424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92480" y="3435480"/>
              <a:ext cx="44424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35280" y="3892680"/>
              <a:ext cx="44424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92480" y="3892680"/>
              <a:ext cx="44424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92480" y="4349880"/>
              <a:ext cx="44424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38080" y="5257800"/>
              <a:ext cx="2286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c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8840" y="290196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26040" y="290196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83240" y="290196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40440" y="290196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26040" y="335916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83240" y="335916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40440" y="335916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83240" y="381636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940440" y="381636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40440" y="427356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86400" y="5181480"/>
              <a:ext cx="2819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ay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25146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71600" y="25146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28800" y="25146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6000" y="25146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3520" y="289548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3520" y="34290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3520" y="396252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3520" y="449568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4-08-05T17:40:43Z</dcterms:modified>
  <cp:revision>182</cp:revision>
  <dc:subject/>
  <dc:title>Data Representation Methods</dc:title>
</cp:coreProperties>
</file>