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1280"/>
            <a:ext cx="46242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4C23-2209-4DD7-9B60-B71991E3B69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, b2, b3, …, bn is a better solution that a1, a2, …, an. But a1, …, an is optim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, b2, b3, …, bn is a better solution that a1, a2, …, an. But a1, …, an is optim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 recurrence equation on some function of the problem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f(i,y)s computed more than once. Use a dictionary that stores already computed f(i,y)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ights (and hence c) are integer, the number of different y’s on 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t most c+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A3D-FE45-4BC3-808B-73DE249E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623-E51E-4C8B-8863-0A0BBB41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C54-654D-4C45-8752-E448E511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E52-A0DC-4369-B614-F72D962B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B49-B500-4CA3-A358-8FBE9267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AAA-114C-4EB6-8765-9E1C4BE8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2F8E-DEC6-4B22-9078-E312A136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CC78-6EEA-48B7-93FA-44D15E35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2E8-8749-4536-A2D9-FD01E743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83C-B4B3-4A6A-855D-F9B8FD94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7FB-74C8-4C54-9801-8FE8F3BE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0BB-79FC-4FCE-B6FC-0ECE9474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13ED-354C-4DE1-A1CE-063F62334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ce of dec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le of optim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rogramming Recurrence Eq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of recurrence eq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-L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48572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SPOT-R" descr=""/>
          <p:cNvPicPr/>
          <p:nvPr/>
        </p:nvPicPr>
        <p:blipFill>
          <a:blip r:embed="rId2"/>
          <a:stretch/>
        </p:blipFill>
        <p:spPr>
          <a:xfrm>
            <a:off x="7391520" y="762120"/>
            <a:ext cx="1485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a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464832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t, this instance has a better solu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68760" y="1676520"/>
            <a:ext cx="523800" cy="306360"/>
          </a:xfrm>
          <a:custGeom>
            <a:avLst/>
            <a:gdLst/>
            <a:ahLst/>
            <a:rect l="l" t="t" r="r" b="b"/>
            <a:pathLst>
              <a:path w="330" h="193">
                <a:moveTo>
                  <a:pt x="245" y="0"/>
                </a:moveTo>
                <a:lnTo>
                  <a:pt x="188" y="0"/>
                </a:lnTo>
                <a:lnTo>
                  <a:pt x="158" y="0"/>
                </a:lnTo>
                <a:lnTo>
                  <a:pt x="118" y="0"/>
                </a:lnTo>
                <a:lnTo>
                  <a:pt x="69" y="0"/>
                </a:lnTo>
                <a:lnTo>
                  <a:pt x="29" y="0"/>
                </a:lnTo>
                <a:lnTo>
                  <a:pt x="0" y="0"/>
                </a:lnTo>
                <a:lnTo>
                  <a:pt x="20" y="11"/>
                </a:lnTo>
                <a:lnTo>
                  <a:pt x="49" y="26"/>
                </a:lnTo>
                <a:lnTo>
                  <a:pt x="69" y="41"/>
                </a:lnTo>
                <a:lnTo>
                  <a:pt x="89" y="56"/>
                </a:lnTo>
                <a:lnTo>
                  <a:pt x="118" y="67"/>
                </a:lnTo>
                <a:lnTo>
                  <a:pt x="138" y="82"/>
                </a:lnTo>
                <a:lnTo>
                  <a:pt x="158" y="97"/>
                </a:lnTo>
                <a:lnTo>
                  <a:pt x="148" y="112"/>
                </a:lnTo>
                <a:lnTo>
                  <a:pt x="129" y="127"/>
                </a:lnTo>
                <a:lnTo>
                  <a:pt x="109" y="142"/>
                </a:lnTo>
                <a:lnTo>
                  <a:pt x="99" y="156"/>
                </a:lnTo>
                <a:lnTo>
                  <a:pt x="69" y="176"/>
                </a:lnTo>
                <a:lnTo>
                  <a:pt x="59" y="192"/>
                </a:lnTo>
                <a:lnTo>
                  <a:pt x="99" y="192"/>
                </a:lnTo>
                <a:lnTo>
                  <a:pt x="129" y="192"/>
                </a:lnTo>
                <a:lnTo>
                  <a:pt x="158" y="192"/>
                </a:lnTo>
                <a:lnTo>
                  <a:pt x="188" y="192"/>
                </a:lnTo>
                <a:lnTo>
                  <a:pt x="218" y="192"/>
                </a:lnTo>
                <a:lnTo>
                  <a:pt x="247" y="192"/>
                </a:lnTo>
                <a:lnTo>
                  <a:pt x="276" y="192"/>
                </a:lnTo>
                <a:lnTo>
                  <a:pt x="316" y="192"/>
                </a:lnTo>
                <a:lnTo>
                  <a:pt x="329" y="19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1905120"/>
            <a:ext cx="1219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114300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1447920"/>
            <a:ext cx="914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1600200"/>
            <a:ext cx="198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92440" y="2971800"/>
            <a:ext cx="523800" cy="306360"/>
          </a:xfrm>
          <a:custGeom>
            <a:avLst/>
            <a:gdLst/>
            <a:ahLst/>
            <a:rect l="l" t="t" r="r" b="b"/>
            <a:pathLst>
              <a:path w="330" h="193">
                <a:moveTo>
                  <a:pt x="245" y="0"/>
                </a:moveTo>
                <a:lnTo>
                  <a:pt x="188" y="0"/>
                </a:lnTo>
                <a:lnTo>
                  <a:pt x="158" y="0"/>
                </a:lnTo>
                <a:lnTo>
                  <a:pt x="118" y="0"/>
                </a:lnTo>
                <a:lnTo>
                  <a:pt x="69" y="0"/>
                </a:lnTo>
                <a:lnTo>
                  <a:pt x="29" y="0"/>
                </a:lnTo>
                <a:lnTo>
                  <a:pt x="0" y="0"/>
                </a:lnTo>
                <a:lnTo>
                  <a:pt x="20" y="11"/>
                </a:lnTo>
                <a:lnTo>
                  <a:pt x="49" y="26"/>
                </a:lnTo>
                <a:lnTo>
                  <a:pt x="69" y="41"/>
                </a:lnTo>
                <a:lnTo>
                  <a:pt x="89" y="56"/>
                </a:lnTo>
                <a:lnTo>
                  <a:pt x="118" y="67"/>
                </a:lnTo>
                <a:lnTo>
                  <a:pt x="138" y="82"/>
                </a:lnTo>
                <a:lnTo>
                  <a:pt x="158" y="97"/>
                </a:lnTo>
                <a:lnTo>
                  <a:pt x="148" y="112"/>
                </a:lnTo>
                <a:lnTo>
                  <a:pt x="129" y="127"/>
                </a:lnTo>
                <a:lnTo>
                  <a:pt x="109" y="142"/>
                </a:lnTo>
                <a:lnTo>
                  <a:pt x="99" y="156"/>
                </a:lnTo>
                <a:lnTo>
                  <a:pt x="69" y="176"/>
                </a:lnTo>
                <a:lnTo>
                  <a:pt x="59" y="192"/>
                </a:lnTo>
                <a:lnTo>
                  <a:pt x="99" y="192"/>
                </a:lnTo>
                <a:lnTo>
                  <a:pt x="129" y="192"/>
                </a:lnTo>
                <a:lnTo>
                  <a:pt x="158" y="192"/>
                </a:lnTo>
                <a:lnTo>
                  <a:pt x="188" y="192"/>
                </a:lnTo>
                <a:lnTo>
                  <a:pt x="218" y="192"/>
                </a:lnTo>
                <a:lnTo>
                  <a:pt x="247" y="192"/>
                </a:lnTo>
                <a:lnTo>
                  <a:pt x="276" y="192"/>
                </a:lnTo>
                <a:lnTo>
                  <a:pt x="316" y="192"/>
                </a:lnTo>
                <a:lnTo>
                  <a:pt x="329" y="19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3200400"/>
            <a:ext cx="1218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243828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2743200"/>
            <a:ext cx="2438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89548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3809880"/>
            <a:ext cx="4876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447920" y="5410080"/>
            <a:ext cx="4267080" cy="1446840"/>
            <a:chOff x="1447920" y="5410080"/>
            <a:chExt cx="4267080" cy="1446840"/>
          </a:xfrm>
        </p:grpSpPr>
        <p:sp>
          <p:nvSpPr>
            <p:cNvPr id="100" name=""/>
            <p:cNvSpPr/>
            <p:nvPr/>
          </p:nvSpPr>
          <p:spPr>
            <a:xfrm>
              <a:off x="1447920" y="6276960"/>
              <a:ext cx="1218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35040" y="604836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551484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62320" y="5819760"/>
              <a:ext cx="15238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b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    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73680" y="594360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86200" y="617220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62520" y="541008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5715000"/>
              <a:ext cx="9144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a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a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better solution to the original instance tha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not be an optimal solution … a contradiction with the assumption that it is opt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a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, consider the ca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Follow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first decision the stat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2, c-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an optimal solution to the knapsack instance given by the st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2,c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-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a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464832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t, this instance has a better solu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68760" y="1676520"/>
            <a:ext cx="523800" cy="306360"/>
          </a:xfrm>
          <a:custGeom>
            <a:avLst/>
            <a:gdLst/>
            <a:ahLst/>
            <a:rect l="l" t="t" r="r" b="b"/>
            <a:pathLst>
              <a:path w="330" h="193">
                <a:moveTo>
                  <a:pt x="245" y="0"/>
                </a:moveTo>
                <a:lnTo>
                  <a:pt x="188" y="0"/>
                </a:lnTo>
                <a:lnTo>
                  <a:pt x="158" y="0"/>
                </a:lnTo>
                <a:lnTo>
                  <a:pt x="118" y="0"/>
                </a:lnTo>
                <a:lnTo>
                  <a:pt x="69" y="0"/>
                </a:lnTo>
                <a:lnTo>
                  <a:pt x="29" y="0"/>
                </a:lnTo>
                <a:lnTo>
                  <a:pt x="0" y="0"/>
                </a:lnTo>
                <a:lnTo>
                  <a:pt x="20" y="11"/>
                </a:lnTo>
                <a:lnTo>
                  <a:pt x="49" y="26"/>
                </a:lnTo>
                <a:lnTo>
                  <a:pt x="69" y="41"/>
                </a:lnTo>
                <a:lnTo>
                  <a:pt x="89" y="56"/>
                </a:lnTo>
                <a:lnTo>
                  <a:pt x="118" y="67"/>
                </a:lnTo>
                <a:lnTo>
                  <a:pt x="138" y="82"/>
                </a:lnTo>
                <a:lnTo>
                  <a:pt x="158" y="97"/>
                </a:lnTo>
                <a:lnTo>
                  <a:pt x="148" y="112"/>
                </a:lnTo>
                <a:lnTo>
                  <a:pt x="129" y="127"/>
                </a:lnTo>
                <a:lnTo>
                  <a:pt x="109" y="142"/>
                </a:lnTo>
                <a:lnTo>
                  <a:pt x="99" y="156"/>
                </a:lnTo>
                <a:lnTo>
                  <a:pt x="69" y="176"/>
                </a:lnTo>
                <a:lnTo>
                  <a:pt x="59" y="192"/>
                </a:lnTo>
                <a:lnTo>
                  <a:pt x="99" y="192"/>
                </a:lnTo>
                <a:lnTo>
                  <a:pt x="129" y="192"/>
                </a:lnTo>
                <a:lnTo>
                  <a:pt x="158" y="192"/>
                </a:lnTo>
                <a:lnTo>
                  <a:pt x="188" y="192"/>
                </a:lnTo>
                <a:lnTo>
                  <a:pt x="218" y="192"/>
                </a:lnTo>
                <a:lnTo>
                  <a:pt x="247" y="192"/>
                </a:lnTo>
                <a:lnTo>
                  <a:pt x="276" y="192"/>
                </a:lnTo>
                <a:lnTo>
                  <a:pt x="316" y="192"/>
                </a:lnTo>
                <a:lnTo>
                  <a:pt x="329" y="19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1905120"/>
            <a:ext cx="1219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114300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1447920"/>
            <a:ext cx="914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1600200"/>
            <a:ext cx="198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92440" y="2971800"/>
            <a:ext cx="523800" cy="306360"/>
          </a:xfrm>
          <a:custGeom>
            <a:avLst/>
            <a:gdLst/>
            <a:ahLst/>
            <a:rect l="l" t="t" r="r" b="b"/>
            <a:pathLst>
              <a:path w="330" h="193">
                <a:moveTo>
                  <a:pt x="245" y="0"/>
                </a:moveTo>
                <a:lnTo>
                  <a:pt x="188" y="0"/>
                </a:lnTo>
                <a:lnTo>
                  <a:pt x="158" y="0"/>
                </a:lnTo>
                <a:lnTo>
                  <a:pt x="118" y="0"/>
                </a:lnTo>
                <a:lnTo>
                  <a:pt x="69" y="0"/>
                </a:lnTo>
                <a:lnTo>
                  <a:pt x="29" y="0"/>
                </a:lnTo>
                <a:lnTo>
                  <a:pt x="0" y="0"/>
                </a:lnTo>
                <a:lnTo>
                  <a:pt x="20" y="11"/>
                </a:lnTo>
                <a:lnTo>
                  <a:pt x="49" y="26"/>
                </a:lnTo>
                <a:lnTo>
                  <a:pt x="69" y="41"/>
                </a:lnTo>
                <a:lnTo>
                  <a:pt x="89" y="56"/>
                </a:lnTo>
                <a:lnTo>
                  <a:pt x="118" y="67"/>
                </a:lnTo>
                <a:lnTo>
                  <a:pt x="138" y="82"/>
                </a:lnTo>
                <a:lnTo>
                  <a:pt x="158" y="97"/>
                </a:lnTo>
                <a:lnTo>
                  <a:pt x="148" y="112"/>
                </a:lnTo>
                <a:lnTo>
                  <a:pt x="129" y="127"/>
                </a:lnTo>
                <a:lnTo>
                  <a:pt x="109" y="142"/>
                </a:lnTo>
                <a:lnTo>
                  <a:pt x="99" y="156"/>
                </a:lnTo>
                <a:lnTo>
                  <a:pt x="69" y="176"/>
                </a:lnTo>
                <a:lnTo>
                  <a:pt x="59" y="192"/>
                </a:lnTo>
                <a:lnTo>
                  <a:pt x="99" y="192"/>
                </a:lnTo>
                <a:lnTo>
                  <a:pt x="129" y="192"/>
                </a:lnTo>
                <a:lnTo>
                  <a:pt x="158" y="192"/>
                </a:lnTo>
                <a:lnTo>
                  <a:pt x="188" y="192"/>
                </a:lnTo>
                <a:lnTo>
                  <a:pt x="218" y="192"/>
                </a:lnTo>
                <a:lnTo>
                  <a:pt x="247" y="192"/>
                </a:lnTo>
                <a:lnTo>
                  <a:pt x="276" y="192"/>
                </a:lnTo>
                <a:lnTo>
                  <a:pt x="316" y="192"/>
                </a:lnTo>
                <a:lnTo>
                  <a:pt x="329" y="19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3200400"/>
            <a:ext cx="1218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43828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2743200"/>
            <a:ext cx="2438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-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289548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3809880"/>
            <a:ext cx="4876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447920" y="5410080"/>
            <a:ext cx="4267080" cy="1446840"/>
            <a:chOff x="1447920" y="5410080"/>
            <a:chExt cx="4267080" cy="1446840"/>
          </a:xfrm>
        </p:grpSpPr>
        <p:sp>
          <p:nvSpPr>
            <p:cNvPr id="129" name=""/>
            <p:cNvSpPr/>
            <p:nvPr/>
          </p:nvSpPr>
          <p:spPr>
            <a:xfrm>
              <a:off x="1447920" y="6276960"/>
              <a:ext cx="1218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35040" y="604836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3880" y="551484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2320" y="5819760"/>
              <a:ext cx="15238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b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    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73680" y="594360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86200" y="617220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541008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00600" y="5715000"/>
              <a:ext cx="9144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a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a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better solution to the original instance tha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not be an optimal solution … a contradiction with the assumption that it is opt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no matter what the first decision, the remaining decisions are optimal with respect to the state that results from this dec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inciple of optima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lds and dynamic programming may be appl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 Recurr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profit value of the optimal solution to the knapsack instance defined by the stat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i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capacity i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time being assume that we wish to determine only the value of the best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we will worry about determining th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that yield this maximum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this assumption, our task is to determin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1,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 Recurr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n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value of the optimal solution to the knapsack instance defined by the st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i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capacit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n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gt;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n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 Recurr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value of the optimal solution to the knapsack instance defined by the st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capacit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in the optimal solution for the st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first decision is to s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principle of optimality (we have shown that this principle holds for the knapsack problem), it follows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f(i+1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 Recurr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other possibility for 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 decis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rise only whe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y &gt;=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principle of optimality, it follows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f(i+1,y-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the two cases, we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f(i+1,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ev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&lt;  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y) = max{f(i+1,y), f(i+1,y-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&gt;= 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quence Of Decis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in the greedy method, the solution to a problem is viewed as the result of a sequence of dec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ike the greedy method, decisions are not made in a greedy and binding ma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sive C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** @return f(i,y) 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ivate static 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 == n)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tur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 &lt; w[n]) ? 0 : p[n];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y &lt; w[i])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(i + 1, y);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h.max(f(i + 1, y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i + 1, y - w[i]) + p[i]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sion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0" y="2133720"/>
            <a:ext cx="9144000" cy="4470840"/>
            <a:chOff x="0" y="2133720"/>
            <a:chExt cx="9144000" cy="4470840"/>
          </a:xfrm>
        </p:grpSpPr>
        <p:sp>
          <p:nvSpPr>
            <p:cNvPr id="157" name=""/>
            <p:cNvSpPr/>
            <p:nvPr/>
          </p:nvSpPr>
          <p:spPr>
            <a:xfrm>
              <a:off x="4038480" y="213372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1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23880" y="3048120"/>
              <a:ext cx="1295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2,c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752120" y="2590920"/>
              <a:ext cx="259092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920" y="3048120"/>
              <a:ext cx="18302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2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48320" y="2590920"/>
              <a:ext cx="259056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294920" y="3505320"/>
              <a:ext cx="68580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14600" y="3962520"/>
              <a:ext cx="18288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86000" y="3505320"/>
              <a:ext cx="91440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62120" y="4419720"/>
              <a:ext cx="4572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23880" y="441972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80520" y="5257800"/>
              <a:ext cx="30492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334120"/>
              <a:ext cx="22860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523520" y="5257800"/>
              <a:ext cx="38124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81080" y="5334120"/>
              <a:ext cx="30492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971800" y="4419720"/>
              <a:ext cx="38088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81280" y="4419720"/>
              <a:ext cx="38124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819520" y="5257800"/>
              <a:ext cx="30456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24080" y="5334120"/>
              <a:ext cx="30492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562360" y="3505320"/>
              <a:ext cx="99036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7400" y="3962520"/>
              <a:ext cx="1755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1680" y="3505320"/>
              <a:ext cx="99072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952880" y="4419720"/>
              <a:ext cx="4572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38680" y="4495680"/>
              <a:ext cx="30492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648320" y="5257800"/>
              <a:ext cx="45720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81480" y="5334120"/>
              <a:ext cx="30492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315200" y="4419720"/>
              <a:ext cx="5335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01000" y="4495680"/>
              <a:ext cx="45720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781320" y="5257800"/>
              <a:ext cx="38124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38880" y="5334120"/>
              <a:ext cx="38124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8080" y="388620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66880" y="3962520"/>
              <a:ext cx="1830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4280" y="3962520"/>
              <a:ext cx="1830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1680" y="3962520"/>
              <a:ext cx="2362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480060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90720" y="4800600"/>
              <a:ext cx="18302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09680" y="4800600"/>
              <a:ext cx="1295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563868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5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638320" y="518148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257800"/>
              <a:ext cx="30492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8077320" y="5181480"/>
              <a:ext cx="38088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34520" y="5257800"/>
              <a:ext cx="38088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809520" y="5334120"/>
              <a:ext cx="30492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334120"/>
              <a:ext cx="30456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81480" y="4800600"/>
              <a:ext cx="2362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6095880"/>
              <a:ext cx="2362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5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time required when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are avai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0) = t(1) =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&lt;= 2t(n-1) +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CLOCK43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468360" cy="96048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304920" y="5486400"/>
            <a:ext cx="8839080" cy="1068840"/>
            <a:chOff x="304920" y="5486400"/>
            <a:chExt cx="8839080" cy="1068840"/>
          </a:xfrm>
        </p:grpSpPr>
        <p:sp>
          <p:nvSpPr>
            <p:cNvPr id="206" name=""/>
            <p:cNvSpPr/>
            <p:nvPr/>
          </p:nvSpPr>
          <p:spPr>
            <a:xfrm>
              <a:off x="304920" y="5486400"/>
              <a:ext cx="883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lving dynamic programming recurrences recursively can be hazardous to run tim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ANIWARN" descr=""/>
            <p:cNvPicPr/>
            <p:nvPr/>
          </p:nvPicPr>
          <p:blipFill>
            <a:blip r:embed="rId2"/>
            <a:stretch/>
          </p:blipFill>
          <p:spPr>
            <a:xfrm>
              <a:off x="8153280" y="5638680"/>
              <a:ext cx="731880" cy="73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ucing Run Tim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runner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582480" cy="58284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0" y="2133720"/>
            <a:ext cx="9144000" cy="4470840"/>
            <a:chOff x="0" y="2133720"/>
            <a:chExt cx="9144000" cy="4470840"/>
          </a:xfrm>
        </p:grpSpPr>
        <p:sp>
          <p:nvSpPr>
            <p:cNvPr id="212" name=""/>
            <p:cNvSpPr/>
            <p:nvPr/>
          </p:nvSpPr>
          <p:spPr>
            <a:xfrm>
              <a:off x="4038480" y="213372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1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23880" y="3048120"/>
              <a:ext cx="1295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2,c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752120" y="2590920"/>
              <a:ext cx="259092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19920" y="3048120"/>
              <a:ext cx="18302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2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48320" y="2590920"/>
              <a:ext cx="259056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294920" y="3505320"/>
              <a:ext cx="68580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600" y="3962520"/>
              <a:ext cx="18288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86000" y="3505320"/>
              <a:ext cx="91440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62120" y="4419720"/>
              <a:ext cx="4572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3880" y="441972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80520" y="5257800"/>
              <a:ext cx="30492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2120" y="5334120"/>
              <a:ext cx="22860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523520" y="5257800"/>
              <a:ext cx="38124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1080" y="5334120"/>
              <a:ext cx="30492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971800" y="4419720"/>
              <a:ext cx="38088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81280" y="4419720"/>
              <a:ext cx="38124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819520" y="5257800"/>
              <a:ext cx="30456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24080" y="5334120"/>
              <a:ext cx="30492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562360" y="3505320"/>
              <a:ext cx="99036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07400" y="3962520"/>
              <a:ext cx="1755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3505320"/>
              <a:ext cx="99072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952880" y="4419720"/>
              <a:ext cx="4572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38680" y="4495680"/>
              <a:ext cx="30492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648320" y="5257800"/>
              <a:ext cx="45720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81480" y="5334120"/>
              <a:ext cx="30492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315200" y="4419720"/>
              <a:ext cx="5335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01000" y="4495680"/>
              <a:ext cx="45720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781320" y="5257800"/>
              <a:ext cx="38124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38880" y="5334120"/>
              <a:ext cx="38124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8080" y="388620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6880" y="3962520"/>
              <a:ext cx="1830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24280" y="3962520"/>
              <a:ext cx="1830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81680" y="3962520"/>
              <a:ext cx="2362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8600" y="480060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90720" y="4800600"/>
              <a:ext cx="18302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9680" y="4800600"/>
              <a:ext cx="1295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563868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5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638320" y="518148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95880" y="5257800"/>
              <a:ext cx="30492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8077320" y="5181480"/>
              <a:ext cx="38088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534520" y="5257800"/>
              <a:ext cx="38088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809520" y="5334120"/>
              <a:ext cx="30492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91120" y="5334120"/>
              <a:ext cx="30456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81480" y="4800600"/>
              <a:ext cx="2362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6095880"/>
              <a:ext cx="2362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5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recursion tree has up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i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ach such node a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mpu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nodes may compute the sa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save time by not recomputing already comput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comput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in a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i, 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 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omputed recursively only whe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(i,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ot in the dictio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the dictionary value i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CLOCK43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teger We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each weight is an inte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napsack 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also be assumed to be an inte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&lt;= i &lt;=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&lt;= y &l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of inte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though leve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recursion tree has up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i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,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+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differ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teger Weights Dictionar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n arra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Array[][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dictio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Array[1:n][0:c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Array[i][y] = -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t yet comp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nitialization is done before the recursive method is invo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itialization tak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c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 Recomputation C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ivate static 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Array[i][y] &gt;= 0)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tur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ray[i][y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 == n)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ray[i][y] =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 &lt; w[n]) ? 0 : p[n]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Array[i][y];}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y &lt; w[i]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ray[i][y]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(i + 1, y);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ray[i][y]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h.max(f(i + 1, y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i + 1, y - w[i]) + p[i]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tur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ray[i][y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CANDLE09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549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c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 done in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ve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10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10010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00032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632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10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5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n = 30303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CLOCK43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 and 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68760" y="3200400"/>
            <a:ext cx="523800" cy="306360"/>
          </a:xfrm>
          <a:custGeom>
            <a:avLst/>
            <a:gdLst/>
            <a:ahLst/>
            <a:rect l="l" t="t" r="r" b="b"/>
            <a:pathLst>
              <a:path w="330" h="193">
                <a:moveTo>
                  <a:pt x="245" y="0"/>
                </a:moveTo>
                <a:lnTo>
                  <a:pt x="188" y="0"/>
                </a:lnTo>
                <a:lnTo>
                  <a:pt x="158" y="0"/>
                </a:lnTo>
                <a:lnTo>
                  <a:pt x="118" y="0"/>
                </a:lnTo>
                <a:lnTo>
                  <a:pt x="69" y="0"/>
                </a:lnTo>
                <a:lnTo>
                  <a:pt x="29" y="0"/>
                </a:lnTo>
                <a:lnTo>
                  <a:pt x="0" y="0"/>
                </a:lnTo>
                <a:lnTo>
                  <a:pt x="20" y="11"/>
                </a:lnTo>
                <a:lnTo>
                  <a:pt x="49" y="26"/>
                </a:lnTo>
                <a:lnTo>
                  <a:pt x="69" y="41"/>
                </a:lnTo>
                <a:lnTo>
                  <a:pt x="89" y="56"/>
                </a:lnTo>
                <a:lnTo>
                  <a:pt x="118" y="67"/>
                </a:lnTo>
                <a:lnTo>
                  <a:pt x="138" y="82"/>
                </a:lnTo>
                <a:lnTo>
                  <a:pt x="158" y="97"/>
                </a:lnTo>
                <a:lnTo>
                  <a:pt x="148" y="112"/>
                </a:lnTo>
                <a:lnTo>
                  <a:pt x="129" y="127"/>
                </a:lnTo>
                <a:lnTo>
                  <a:pt x="109" y="142"/>
                </a:lnTo>
                <a:lnTo>
                  <a:pt x="99" y="156"/>
                </a:lnTo>
                <a:lnTo>
                  <a:pt x="69" y="176"/>
                </a:lnTo>
                <a:lnTo>
                  <a:pt x="59" y="192"/>
                </a:lnTo>
                <a:lnTo>
                  <a:pt x="99" y="192"/>
                </a:lnTo>
                <a:lnTo>
                  <a:pt x="129" y="192"/>
                </a:lnTo>
                <a:lnTo>
                  <a:pt x="158" y="192"/>
                </a:lnTo>
                <a:lnTo>
                  <a:pt x="188" y="192"/>
                </a:lnTo>
                <a:lnTo>
                  <a:pt x="218" y="192"/>
                </a:lnTo>
                <a:lnTo>
                  <a:pt x="247" y="192"/>
                </a:lnTo>
                <a:lnTo>
                  <a:pt x="276" y="192"/>
                </a:lnTo>
                <a:lnTo>
                  <a:pt x="316" y="192"/>
                </a:lnTo>
                <a:lnTo>
                  <a:pt x="329" y="19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429000"/>
            <a:ext cx="1219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266688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2971800"/>
            <a:ext cx="167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124080"/>
            <a:ext cx="198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92440" y="4495680"/>
            <a:ext cx="523800" cy="306360"/>
          </a:xfrm>
          <a:custGeom>
            <a:avLst/>
            <a:gdLst/>
            <a:ahLst/>
            <a:rect l="l" t="t" r="r" b="b"/>
            <a:pathLst>
              <a:path w="330" h="193">
                <a:moveTo>
                  <a:pt x="245" y="0"/>
                </a:moveTo>
                <a:lnTo>
                  <a:pt x="188" y="0"/>
                </a:lnTo>
                <a:lnTo>
                  <a:pt x="158" y="0"/>
                </a:lnTo>
                <a:lnTo>
                  <a:pt x="118" y="0"/>
                </a:lnTo>
                <a:lnTo>
                  <a:pt x="69" y="0"/>
                </a:lnTo>
                <a:lnTo>
                  <a:pt x="29" y="0"/>
                </a:lnTo>
                <a:lnTo>
                  <a:pt x="0" y="0"/>
                </a:lnTo>
                <a:lnTo>
                  <a:pt x="20" y="11"/>
                </a:lnTo>
                <a:lnTo>
                  <a:pt x="49" y="26"/>
                </a:lnTo>
                <a:lnTo>
                  <a:pt x="69" y="41"/>
                </a:lnTo>
                <a:lnTo>
                  <a:pt x="89" y="56"/>
                </a:lnTo>
                <a:lnTo>
                  <a:pt x="118" y="67"/>
                </a:lnTo>
                <a:lnTo>
                  <a:pt x="138" y="82"/>
                </a:lnTo>
                <a:lnTo>
                  <a:pt x="158" y="97"/>
                </a:lnTo>
                <a:lnTo>
                  <a:pt x="148" y="112"/>
                </a:lnTo>
                <a:lnTo>
                  <a:pt x="129" y="127"/>
                </a:lnTo>
                <a:lnTo>
                  <a:pt x="109" y="142"/>
                </a:lnTo>
                <a:lnTo>
                  <a:pt x="99" y="156"/>
                </a:lnTo>
                <a:lnTo>
                  <a:pt x="69" y="176"/>
                </a:lnTo>
                <a:lnTo>
                  <a:pt x="59" y="192"/>
                </a:lnTo>
                <a:lnTo>
                  <a:pt x="99" y="192"/>
                </a:lnTo>
                <a:lnTo>
                  <a:pt x="129" y="192"/>
                </a:lnTo>
                <a:lnTo>
                  <a:pt x="158" y="192"/>
                </a:lnTo>
                <a:lnTo>
                  <a:pt x="188" y="192"/>
                </a:lnTo>
                <a:lnTo>
                  <a:pt x="218" y="192"/>
                </a:lnTo>
                <a:lnTo>
                  <a:pt x="247" y="192"/>
                </a:lnTo>
                <a:lnTo>
                  <a:pt x="276" y="192"/>
                </a:lnTo>
                <a:lnTo>
                  <a:pt x="316" y="192"/>
                </a:lnTo>
                <a:lnTo>
                  <a:pt x="329" y="19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4724280"/>
            <a:ext cx="1218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396252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4267080"/>
            <a:ext cx="2438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441972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5334120"/>
            <a:ext cx="4876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6019920"/>
            <a:ext cx="6781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ll profits and weights are posi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quence Of Decis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in the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in the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in the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any other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DECISION" descr=""/>
          <p:cNvPicPr/>
          <p:nvPr/>
        </p:nvPicPr>
        <p:blipFill>
          <a:blip r:embed="rId1"/>
          <a:stretch/>
        </p:blipFill>
        <p:spPr>
          <a:xfrm>
            <a:off x="7391520" y="533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lem Sta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te of the 0/1 knapsack problem is given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s and profits of the available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pacity of the knaps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decision on one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is made, the problem state ch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o longer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maining knapsack capacity may be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lem Sta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decisions are m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ord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itial state of the problem is described by the pai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1, 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vailable (the weights, profits and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implic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ailable knapsack capacity i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the first decision the state becomes one of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2, 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when the decision is to se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2, c-w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when the decision is to se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lem Sta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decisions are m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ord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itial state of the problem is described by the pai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n, 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vailable (the weights, profits and first item index are implic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ailable knapsack capacity i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the first decision the state becomes one of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n-1, 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when the decision is to se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n-1, c-w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when the decision is to se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nciple Of Optimal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al solution satisfies the following proper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tter what the first decision, the remaining decisions are optimal with respect to the state that results from this dec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880" y="3962520"/>
            <a:ext cx="8763120" cy="1911960"/>
            <a:chOff x="380880" y="3962520"/>
            <a:chExt cx="8763120" cy="1911960"/>
          </a:xfrm>
        </p:grpSpPr>
        <p:pic>
          <p:nvPicPr>
            <p:cNvPr id="81" name="RED-BLIN" descr=""/>
            <p:cNvPicPr/>
            <p:nvPr/>
          </p:nvPicPr>
          <p:blipFill>
            <a:blip r:embed="rId1"/>
            <a:stretch/>
          </p:blipFill>
          <p:spPr>
            <a:xfrm>
              <a:off x="6248520" y="4724280"/>
              <a:ext cx="320400" cy="3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80880" y="3962520"/>
              <a:ext cx="8763120" cy="191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ynamic programming may be used only w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he principle of optimality hold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decisions are m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optimal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follow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first decision the stat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2, 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an optimal solution to the knapsack instance given by the st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2,c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hiker" descr=""/>
          <p:cNvPicPr/>
          <p:nvPr/>
        </p:nvPicPr>
        <p:blipFill>
          <a:blip r:embed="rId1"/>
          <a:stretch/>
        </p:blipFill>
        <p:spPr>
          <a:xfrm>
            <a:off x="7848720" y="228600"/>
            <a:ext cx="628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37:11Z</dcterms:modified>
  <cp:revision>176</cp:revision>
  <dc:subject/>
  <dc:title>Data Representation Methods</dc:title>
</cp:coreProperties>
</file>