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128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0302-F2C5-4125-8592-08A254EDDE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doesn’t actually find closest pair with 1 point in A and other in B. Rather, it does this only if such a pair is the closest overall pai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dd in the initial sort time for the sort by x and sort by y lists, the overall time remains O(n log 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DB1-C698-462C-B76D-2424C73B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5BB-CDF9-4053-A0B5-A536C366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62D-6500-4DE1-B9C6-76368F3F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741-C4F3-4361-ACFE-591CE70A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1CC-8591-47D1-B903-95CC0128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CE4-98C7-4C04-9C1B-FC58DDCB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455-3204-4D7C-935E-CC57EEA1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85B-8B82-4586-BB7A-46F5BCF7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154-881B-4A28-A2C5-A1F13CDF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AC3-6D32-4938-B632-5E524D72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3D6-CDFC-4767-A2B1-D14943F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507-23C2-4B7D-AC94-614B9B87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DF4A-94B8-40C4-9D3F-8D6F511EB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an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5345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of an element is its position in ascending key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6,7,8,10,15,18,20,25,30,35,4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15)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0)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ir Traffic Contro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66560" y="880920"/>
            <a:ext cx="8143920" cy="3272040"/>
            <a:chOff x="466560" y="880920"/>
            <a:chExt cx="8143920" cy="327204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573120" y="880920"/>
              <a:ext cx="124128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6053040" y="914400"/>
              <a:ext cx="255744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3193920" y="1066680"/>
              <a:ext cx="19116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466560" y="2057400"/>
              <a:ext cx="21243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3209760" y="2286000"/>
              <a:ext cx="21243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6181560" y="3352680"/>
              <a:ext cx="212436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725400" y="2862360"/>
              <a:ext cx="124164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"/>
            <a:stretch/>
          </p:blipFill>
          <p:spPr>
            <a:xfrm>
              <a:off x="4230720" y="3319560"/>
              <a:ext cx="124128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"/>
            <a:stretch/>
          </p:blipFill>
          <p:spPr>
            <a:xfrm>
              <a:off x="2203560" y="3200400"/>
              <a:ext cx="191124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42670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 -- Locations of airplanes flying in the neighborhood of a busy airport are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to be sure that no two planes get closer than a given threshold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of points, determine the distance between the points in the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pair with the minimum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-And-Conquer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mall, use simpl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the point set into two roughly equal part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losest pair of point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losest pair of point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losest pair of points such that one point i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other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three closest pairs computed, select the one with least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73160" y="1454040"/>
            <a:ext cx="7302600" cy="2882880"/>
            <a:chOff x="1073160" y="1454040"/>
            <a:chExt cx="7302600" cy="2882880"/>
          </a:xfrm>
        </p:grpSpPr>
        <p:sp>
          <p:nvSpPr>
            <p:cNvPr id="209" name=""/>
            <p:cNvSpPr/>
            <p:nvPr/>
          </p:nvSpPr>
          <p:spPr>
            <a:xfrm>
              <a:off x="1073160" y="1454040"/>
              <a:ext cx="7302600" cy="2882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82640" y="19112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1987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4840" y="1987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7560" y="2749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924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40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356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7440" y="21398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9560" y="1606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44960" y="29782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64080" y="2368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82840" y="1758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73760" y="2901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30760" y="34354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30760" y="25210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45360" y="28256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02560" y="3511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904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8680" y="36640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so that point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rdin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f points 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closest pair in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073160" y="1143000"/>
            <a:ext cx="7302600" cy="4008960"/>
            <a:chOff x="1073160" y="1143000"/>
            <a:chExt cx="7302600" cy="4008960"/>
          </a:xfrm>
        </p:grpSpPr>
        <p:grpSp>
          <p:nvGrpSpPr>
            <p:cNvPr id="236" name=""/>
            <p:cNvGrpSpPr/>
            <p:nvPr/>
          </p:nvGrpSpPr>
          <p:grpSpPr>
            <a:xfrm>
              <a:off x="1073160" y="1454040"/>
              <a:ext cx="7302600" cy="2882880"/>
              <a:chOff x="1073160" y="1454040"/>
              <a:chExt cx="7302600" cy="2882880"/>
            </a:xfrm>
          </p:grpSpPr>
          <p:sp>
            <p:nvSpPr>
              <p:cNvPr id="237" name=""/>
              <p:cNvSpPr/>
              <p:nvPr/>
            </p:nvSpPr>
            <p:spPr>
              <a:xfrm>
                <a:off x="1073160" y="1454040"/>
                <a:ext cx="7302600" cy="2882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82640" y="19112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7848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5484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87560" y="2749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924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640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356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97440" y="21398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59560" y="1606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44960" y="29782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64080" y="2368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82840" y="1758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73760" y="2901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30760" y="34354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30760" y="2521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5360" y="28256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02560" y="3511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6904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78680" y="3664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029200" y="1143000"/>
              <a:ext cx="0" cy="35053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68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244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317840" y="1887480"/>
            <a:ext cx="644760" cy="933480"/>
          </a:xfrm>
          <a:custGeom>
            <a:avLst/>
            <a:gdLst/>
            <a:ahLst/>
            <a:rect l="l" t="t" r="r" b="b"/>
            <a:pathLst>
              <a:path w="406" h="588">
                <a:moveTo>
                  <a:pt x="256" y="587"/>
                </a:moveTo>
                <a:lnTo>
                  <a:pt x="213" y="587"/>
                </a:lnTo>
                <a:lnTo>
                  <a:pt x="181" y="576"/>
                </a:lnTo>
                <a:lnTo>
                  <a:pt x="149" y="576"/>
                </a:lnTo>
                <a:lnTo>
                  <a:pt x="64" y="576"/>
                </a:lnTo>
                <a:lnTo>
                  <a:pt x="32" y="576"/>
                </a:lnTo>
                <a:lnTo>
                  <a:pt x="21" y="491"/>
                </a:lnTo>
                <a:lnTo>
                  <a:pt x="21" y="384"/>
                </a:lnTo>
                <a:lnTo>
                  <a:pt x="11" y="320"/>
                </a:lnTo>
                <a:lnTo>
                  <a:pt x="0" y="256"/>
                </a:lnTo>
                <a:lnTo>
                  <a:pt x="0" y="214"/>
                </a:lnTo>
                <a:lnTo>
                  <a:pt x="0" y="192"/>
                </a:lnTo>
                <a:lnTo>
                  <a:pt x="0" y="160"/>
                </a:lnTo>
                <a:lnTo>
                  <a:pt x="11" y="128"/>
                </a:lnTo>
                <a:lnTo>
                  <a:pt x="21" y="96"/>
                </a:lnTo>
                <a:lnTo>
                  <a:pt x="43" y="75"/>
                </a:lnTo>
                <a:lnTo>
                  <a:pt x="85" y="54"/>
                </a:lnTo>
                <a:lnTo>
                  <a:pt x="117" y="43"/>
                </a:lnTo>
                <a:lnTo>
                  <a:pt x="139" y="43"/>
                </a:lnTo>
                <a:lnTo>
                  <a:pt x="171" y="43"/>
                </a:lnTo>
                <a:lnTo>
                  <a:pt x="203" y="22"/>
                </a:lnTo>
                <a:lnTo>
                  <a:pt x="235" y="11"/>
                </a:lnTo>
                <a:lnTo>
                  <a:pt x="267" y="0"/>
                </a:lnTo>
                <a:lnTo>
                  <a:pt x="277" y="22"/>
                </a:lnTo>
                <a:lnTo>
                  <a:pt x="288" y="54"/>
                </a:lnTo>
                <a:lnTo>
                  <a:pt x="288" y="86"/>
                </a:lnTo>
                <a:lnTo>
                  <a:pt x="299" y="118"/>
                </a:lnTo>
                <a:lnTo>
                  <a:pt x="384" y="182"/>
                </a:lnTo>
                <a:lnTo>
                  <a:pt x="405" y="214"/>
                </a:lnTo>
                <a:lnTo>
                  <a:pt x="405" y="256"/>
                </a:lnTo>
                <a:lnTo>
                  <a:pt x="405" y="278"/>
                </a:lnTo>
                <a:lnTo>
                  <a:pt x="405" y="310"/>
                </a:lnTo>
                <a:lnTo>
                  <a:pt x="405" y="352"/>
                </a:lnTo>
                <a:lnTo>
                  <a:pt x="405" y="384"/>
                </a:lnTo>
                <a:lnTo>
                  <a:pt x="405" y="416"/>
                </a:lnTo>
                <a:lnTo>
                  <a:pt x="405" y="438"/>
                </a:lnTo>
                <a:lnTo>
                  <a:pt x="405" y="470"/>
                </a:lnTo>
                <a:lnTo>
                  <a:pt x="405" y="502"/>
                </a:lnTo>
                <a:lnTo>
                  <a:pt x="405" y="534"/>
                </a:lnTo>
                <a:lnTo>
                  <a:pt x="373" y="544"/>
                </a:lnTo>
                <a:lnTo>
                  <a:pt x="341" y="555"/>
                </a:lnTo>
                <a:lnTo>
                  <a:pt x="309" y="555"/>
                </a:lnTo>
                <a:lnTo>
                  <a:pt x="256" y="587"/>
                </a:lnTo>
                <a:lnTo>
                  <a:pt x="256" y="587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distance between the points in this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21337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213372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closest pair in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073160" y="1143000"/>
            <a:ext cx="7302600" cy="4008960"/>
            <a:chOff x="1073160" y="1143000"/>
            <a:chExt cx="7302600" cy="4008960"/>
          </a:xfrm>
        </p:grpSpPr>
        <p:grpSp>
          <p:nvGrpSpPr>
            <p:cNvPr id="267" name=""/>
            <p:cNvGrpSpPr/>
            <p:nvPr/>
          </p:nvGrpSpPr>
          <p:grpSpPr>
            <a:xfrm>
              <a:off x="1073160" y="1454040"/>
              <a:ext cx="7302600" cy="2882880"/>
              <a:chOff x="1073160" y="1454040"/>
              <a:chExt cx="7302600" cy="2882880"/>
            </a:xfrm>
          </p:grpSpPr>
          <p:sp>
            <p:nvSpPr>
              <p:cNvPr id="268" name=""/>
              <p:cNvSpPr/>
              <p:nvPr/>
            </p:nvSpPr>
            <p:spPr>
              <a:xfrm>
                <a:off x="1073160" y="1454040"/>
                <a:ext cx="7302600" cy="2882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82640" y="19112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7848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85484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87560" y="2749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924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640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356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97440" y="21398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559560" y="1606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44960" y="29782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664080" y="2368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82840" y="1758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73760" y="2901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30760" y="34354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30760" y="2521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45360" y="28256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02560" y="3511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16904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78680" y="3664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5029200" y="1143000"/>
              <a:ext cx="0" cy="35053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668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244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317840" y="1887480"/>
            <a:ext cx="644760" cy="933480"/>
          </a:xfrm>
          <a:custGeom>
            <a:avLst/>
            <a:gdLst/>
            <a:ahLst/>
            <a:rect l="l" t="t" r="r" b="b"/>
            <a:pathLst>
              <a:path w="406" h="588">
                <a:moveTo>
                  <a:pt x="256" y="587"/>
                </a:moveTo>
                <a:lnTo>
                  <a:pt x="213" y="587"/>
                </a:lnTo>
                <a:lnTo>
                  <a:pt x="181" y="576"/>
                </a:lnTo>
                <a:lnTo>
                  <a:pt x="149" y="576"/>
                </a:lnTo>
                <a:lnTo>
                  <a:pt x="64" y="576"/>
                </a:lnTo>
                <a:lnTo>
                  <a:pt x="32" y="576"/>
                </a:lnTo>
                <a:lnTo>
                  <a:pt x="21" y="491"/>
                </a:lnTo>
                <a:lnTo>
                  <a:pt x="21" y="384"/>
                </a:lnTo>
                <a:lnTo>
                  <a:pt x="11" y="320"/>
                </a:lnTo>
                <a:lnTo>
                  <a:pt x="0" y="256"/>
                </a:lnTo>
                <a:lnTo>
                  <a:pt x="0" y="214"/>
                </a:lnTo>
                <a:lnTo>
                  <a:pt x="0" y="192"/>
                </a:lnTo>
                <a:lnTo>
                  <a:pt x="0" y="160"/>
                </a:lnTo>
                <a:lnTo>
                  <a:pt x="11" y="128"/>
                </a:lnTo>
                <a:lnTo>
                  <a:pt x="21" y="96"/>
                </a:lnTo>
                <a:lnTo>
                  <a:pt x="43" y="75"/>
                </a:lnTo>
                <a:lnTo>
                  <a:pt x="85" y="54"/>
                </a:lnTo>
                <a:lnTo>
                  <a:pt x="117" y="43"/>
                </a:lnTo>
                <a:lnTo>
                  <a:pt x="139" y="43"/>
                </a:lnTo>
                <a:lnTo>
                  <a:pt x="171" y="43"/>
                </a:lnTo>
                <a:lnTo>
                  <a:pt x="203" y="22"/>
                </a:lnTo>
                <a:lnTo>
                  <a:pt x="235" y="11"/>
                </a:lnTo>
                <a:lnTo>
                  <a:pt x="267" y="0"/>
                </a:lnTo>
                <a:lnTo>
                  <a:pt x="277" y="22"/>
                </a:lnTo>
                <a:lnTo>
                  <a:pt x="288" y="54"/>
                </a:lnTo>
                <a:lnTo>
                  <a:pt x="288" y="86"/>
                </a:lnTo>
                <a:lnTo>
                  <a:pt x="299" y="118"/>
                </a:lnTo>
                <a:lnTo>
                  <a:pt x="384" y="182"/>
                </a:lnTo>
                <a:lnTo>
                  <a:pt x="405" y="214"/>
                </a:lnTo>
                <a:lnTo>
                  <a:pt x="405" y="256"/>
                </a:lnTo>
                <a:lnTo>
                  <a:pt x="405" y="278"/>
                </a:lnTo>
                <a:lnTo>
                  <a:pt x="405" y="310"/>
                </a:lnTo>
                <a:lnTo>
                  <a:pt x="405" y="352"/>
                </a:lnTo>
                <a:lnTo>
                  <a:pt x="405" y="384"/>
                </a:lnTo>
                <a:lnTo>
                  <a:pt x="405" y="416"/>
                </a:lnTo>
                <a:lnTo>
                  <a:pt x="405" y="438"/>
                </a:lnTo>
                <a:lnTo>
                  <a:pt x="405" y="470"/>
                </a:lnTo>
                <a:lnTo>
                  <a:pt x="405" y="502"/>
                </a:lnTo>
                <a:lnTo>
                  <a:pt x="405" y="534"/>
                </a:lnTo>
                <a:lnTo>
                  <a:pt x="373" y="544"/>
                </a:lnTo>
                <a:lnTo>
                  <a:pt x="341" y="555"/>
                </a:lnTo>
                <a:lnTo>
                  <a:pt x="309" y="555"/>
                </a:lnTo>
                <a:lnTo>
                  <a:pt x="256" y="587"/>
                </a:lnTo>
                <a:lnTo>
                  <a:pt x="256" y="587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21337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213372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42240" y="3200400"/>
            <a:ext cx="1255680" cy="992160"/>
          </a:xfrm>
          <a:custGeom>
            <a:avLst/>
            <a:gdLst/>
            <a:ahLst/>
            <a:rect l="l" t="t" r="r" b="b"/>
            <a:pathLst>
              <a:path w="791" h="625">
                <a:moveTo>
                  <a:pt x="571" y="0"/>
                </a:moveTo>
                <a:lnTo>
                  <a:pt x="512" y="31"/>
                </a:lnTo>
                <a:lnTo>
                  <a:pt x="480" y="43"/>
                </a:lnTo>
                <a:lnTo>
                  <a:pt x="374" y="56"/>
                </a:lnTo>
                <a:lnTo>
                  <a:pt x="288" y="81"/>
                </a:lnTo>
                <a:lnTo>
                  <a:pt x="256" y="94"/>
                </a:lnTo>
                <a:lnTo>
                  <a:pt x="224" y="132"/>
                </a:lnTo>
                <a:lnTo>
                  <a:pt x="192" y="132"/>
                </a:lnTo>
                <a:lnTo>
                  <a:pt x="160" y="145"/>
                </a:lnTo>
                <a:lnTo>
                  <a:pt x="118" y="170"/>
                </a:lnTo>
                <a:lnTo>
                  <a:pt x="86" y="170"/>
                </a:lnTo>
                <a:lnTo>
                  <a:pt x="22" y="183"/>
                </a:lnTo>
                <a:lnTo>
                  <a:pt x="0" y="183"/>
                </a:lnTo>
                <a:lnTo>
                  <a:pt x="0" y="221"/>
                </a:lnTo>
                <a:lnTo>
                  <a:pt x="0" y="258"/>
                </a:lnTo>
                <a:lnTo>
                  <a:pt x="0" y="359"/>
                </a:lnTo>
                <a:lnTo>
                  <a:pt x="0" y="447"/>
                </a:lnTo>
                <a:lnTo>
                  <a:pt x="0" y="485"/>
                </a:lnTo>
                <a:lnTo>
                  <a:pt x="11" y="523"/>
                </a:lnTo>
                <a:lnTo>
                  <a:pt x="43" y="611"/>
                </a:lnTo>
                <a:lnTo>
                  <a:pt x="107" y="611"/>
                </a:lnTo>
                <a:lnTo>
                  <a:pt x="139" y="624"/>
                </a:lnTo>
                <a:lnTo>
                  <a:pt x="224" y="624"/>
                </a:lnTo>
                <a:lnTo>
                  <a:pt x="246" y="624"/>
                </a:lnTo>
                <a:lnTo>
                  <a:pt x="331" y="624"/>
                </a:lnTo>
                <a:lnTo>
                  <a:pt x="363" y="624"/>
                </a:lnTo>
                <a:lnTo>
                  <a:pt x="406" y="624"/>
                </a:lnTo>
                <a:lnTo>
                  <a:pt x="448" y="624"/>
                </a:lnTo>
                <a:lnTo>
                  <a:pt x="512" y="624"/>
                </a:lnTo>
                <a:lnTo>
                  <a:pt x="576" y="624"/>
                </a:lnTo>
                <a:lnTo>
                  <a:pt x="598" y="611"/>
                </a:lnTo>
                <a:lnTo>
                  <a:pt x="683" y="599"/>
                </a:lnTo>
                <a:lnTo>
                  <a:pt x="715" y="599"/>
                </a:lnTo>
                <a:lnTo>
                  <a:pt x="736" y="573"/>
                </a:lnTo>
                <a:lnTo>
                  <a:pt x="758" y="548"/>
                </a:lnTo>
                <a:lnTo>
                  <a:pt x="779" y="510"/>
                </a:lnTo>
                <a:lnTo>
                  <a:pt x="779" y="459"/>
                </a:lnTo>
                <a:lnTo>
                  <a:pt x="779" y="384"/>
                </a:lnTo>
                <a:lnTo>
                  <a:pt x="779" y="346"/>
                </a:lnTo>
                <a:lnTo>
                  <a:pt x="779" y="308"/>
                </a:lnTo>
                <a:lnTo>
                  <a:pt x="790" y="270"/>
                </a:lnTo>
                <a:lnTo>
                  <a:pt x="790" y="232"/>
                </a:lnTo>
                <a:lnTo>
                  <a:pt x="790" y="195"/>
                </a:lnTo>
                <a:lnTo>
                  <a:pt x="790" y="157"/>
                </a:lnTo>
                <a:lnTo>
                  <a:pt x="779" y="119"/>
                </a:lnTo>
                <a:lnTo>
                  <a:pt x="747" y="94"/>
                </a:lnTo>
                <a:lnTo>
                  <a:pt x="715" y="69"/>
                </a:lnTo>
                <a:lnTo>
                  <a:pt x="683" y="56"/>
                </a:lnTo>
                <a:lnTo>
                  <a:pt x="571" y="0"/>
                </a:lnTo>
                <a:lnTo>
                  <a:pt x="571" y="0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distance between the points in this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315200" y="358128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358128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= min{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073160" y="1143000"/>
            <a:ext cx="7302600" cy="4008960"/>
            <a:chOff x="1073160" y="1143000"/>
            <a:chExt cx="7302600" cy="4008960"/>
          </a:xfrm>
        </p:grpSpPr>
        <p:grpSp>
          <p:nvGrpSpPr>
            <p:cNvPr id="301" name=""/>
            <p:cNvGrpSpPr/>
            <p:nvPr/>
          </p:nvGrpSpPr>
          <p:grpSpPr>
            <a:xfrm>
              <a:off x="1073160" y="1454040"/>
              <a:ext cx="7302600" cy="2882880"/>
              <a:chOff x="1073160" y="1454040"/>
              <a:chExt cx="7302600" cy="2882880"/>
            </a:xfrm>
          </p:grpSpPr>
          <p:sp>
            <p:nvSpPr>
              <p:cNvPr id="302" name=""/>
              <p:cNvSpPr/>
              <p:nvPr/>
            </p:nvSpPr>
            <p:spPr>
              <a:xfrm>
                <a:off x="1073160" y="1454040"/>
                <a:ext cx="7302600" cy="2882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82640" y="19112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7848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85484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87560" y="2749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924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640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356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97440" y="21398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59560" y="1606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44960" y="29782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64080" y="2368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282840" y="1758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73760" y="2901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30760" y="34354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30760" y="2521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45360" y="28256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702560" y="3511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6904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78680" y="3664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5029200" y="1143000"/>
              <a:ext cx="0" cy="35053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668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244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317840" y="1887480"/>
            <a:ext cx="644760" cy="933480"/>
          </a:xfrm>
          <a:custGeom>
            <a:avLst/>
            <a:gdLst/>
            <a:ahLst/>
            <a:rect l="l" t="t" r="r" b="b"/>
            <a:pathLst>
              <a:path w="406" h="588">
                <a:moveTo>
                  <a:pt x="256" y="587"/>
                </a:moveTo>
                <a:lnTo>
                  <a:pt x="213" y="587"/>
                </a:lnTo>
                <a:lnTo>
                  <a:pt x="181" y="576"/>
                </a:lnTo>
                <a:lnTo>
                  <a:pt x="149" y="576"/>
                </a:lnTo>
                <a:lnTo>
                  <a:pt x="64" y="576"/>
                </a:lnTo>
                <a:lnTo>
                  <a:pt x="32" y="576"/>
                </a:lnTo>
                <a:lnTo>
                  <a:pt x="21" y="491"/>
                </a:lnTo>
                <a:lnTo>
                  <a:pt x="21" y="384"/>
                </a:lnTo>
                <a:lnTo>
                  <a:pt x="11" y="320"/>
                </a:lnTo>
                <a:lnTo>
                  <a:pt x="0" y="256"/>
                </a:lnTo>
                <a:lnTo>
                  <a:pt x="0" y="214"/>
                </a:lnTo>
                <a:lnTo>
                  <a:pt x="0" y="192"/>
                </a:lnTo>
                <a:lnTo>
                  <a:pt x="0" y="160"/>
                </a:lnTo>
                <a:lnTo>
                  <a:pt x="11" y="128"/>
                </a:lnTo>
                <a:lnTo>
                  <a:pt x="21" y="96"/>
                </a:lnTo>
                <a:lnTo>
                  <a:pt x="43" y="75"/>
                </a:lnTo>
                <a:lnTo>
                  <a:pt x="85" y="54"/>
                </a:lnTo>
                <a:lnTo>
                  <a:pt x="117" y="43"/>
                </a:lnTo>
                <a:lnTo>
                  <a:pt x="139" y="43"/>
                </a:lnTo>
                <a:lnTo>
                  <a:pt x="171" y="43"/>
                </a:lnTo>
                <a:lnTo>
                  <a:pt x="203" y="22"/>
                </a:lnTo>
                <a:lnTo>
                  <a:pt x="235" y="11"/>
                </a:lnTo>
                <a:lnTo>
                  <a:pt x="267" y="0"/>
                </a:lnTo>
                <a:lnTo>
                  <a:pt x="277" y="22"/>
                </a:lnTo>
                <a:lnTo>
                  <a:pt x="288" y="54"/>
                </a:lnTo>
                <a:lnTo>
                  <a:pt x="288" y="86"/>
                </a:lnTo>
                <a:lnTo>
                  <a:pt x="299" y="118"/>
                </a:lnTo>
                <a:lnTo>
                  <a:pt x="384" y="182"/>
                </a:lnTo>
                <a:lnTo>
                  <a:pt x="405" y="214"/>
                </a:lnTo>
                <a:lnTo>
                  <a:pt x="405" y="256"/>
                </a:lnTo>
                <a:lnTo>
                  <a:pt x="405" y="278"/>
                </a:lnTo>
                <a:lnTo>
                  <a:pt x="405" y="310"/>
                </a:lnTo>
                <a:lnTo>
                  <a:pt x="405" y="352"/>
                </a:lnTo>
                <a:lnTo>
                  <a:pt x="405" y="384"/>
                </a:lnTo>
                <a:lnTo>
                  <a:pt x="405" y="416"/>
                </a:lnTo>
                <a:lnTo>
                  <a:pt x="405" y="438"/>
                </a:lnTo>
                <a:lnTo>
                  <a:pt x="405" y="470"/>
                </a:lnTo>
                <a:lnTo>
                  <a:pt x="405" y="502"/>
                </a:lnTo>
                <a:lnTo>
                  <a:pt x="405" y="534"/>
                </a:lnTo>
                <a:lnTo>
                  <a:pt x="373" y="544"/>
                </a:lnTo>
                <a:lnTo>
                  <a:pt x="341" y="555"/>
                </a:lnTo>
                <a:lnTo>
                  <a:pt x="309" y="555"/>
                </a:lnTo>
                <a:lnTo>
                  <a:pt x="256" y="587"/>
                </a:lnTo>
                <a:lnTo>
                  <a:pt x="256" y="587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21337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213372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42240" y="3200400"/>
            <a:ext cx="1255680" cy="992160"/>
          </a:xfrm>
          <a:custGeom>
            <a:avLst/>
            <a:gdLst/>
            <a:ahLst/>
            <a:rect l="l" t="t" r="r" b="b"/>
            <a:pathLst>
              <a:path w="791" h="625">
                <a:moveTo>
                  <a:pt x="571" y="0"/>
                </a:moveTo>
                <a:lnTo>
                  <a:pt x="512" y="31"/>
                </a:lnTo>
                <a:lnTo>
                  <a:pt x="480" y="43"/>
                </a:lnTo>
                <a:lnTo>
                  <a:pt x="374" y="56"/>
                </a:lnTo>
                <a:lnTo>
                  <a:pt x="288" y="81"/>
                </a:lnTo>
                <a:lnTo>
                  <a:pt x="256" y="94"/>
                </a:lnTo>
                <a:lnTo>
                  <a:pt x="224" y="132"/>
                </a:lnTo>
                <a:lnTo>
                  <a:pt x="192" y="132"/>
                </a:lnTo>
                <a:lnTo>
                  <a:pt x="160" y="145"/>
                </a:lnTo>
                <a:lnTo>
                  <a:pt x="118" y="170"/>
                </a:lnTo>
                <a:lnTo>
                  <a:pt x="86" y="170"/>
                </a:lnTo>
                <a:lnTo>
                  <a:pt x="22" y="183"/>
                </a:lnTo>
                <a:lnTo>
                  <a:pt x="0" y="183"/>
                </a:lnTo>
                <a:lnTo>
                  <a:pt x="0" y="221"/>
                </a:lnTo>
                <a:lnTo>
                  <a:pt x="0" y="258"/>
                </a:lnTo>
                <a:lnTo>
                  <a:pt x="0" y="359"/>
                </a:lnTo>
                <a:lnTo>
                  <a:pt x="0" y="447"/>
                </a:lnTo>
                <a:lnTo>
                  <a:pt x="0" y="485"/>
                </a:lnTo>
                <a:lnTo>
                  <a:pt x="11" y="523"/>
                </a:lnTo>
                <a:lnTo>
                  <a:pt x="43" y="611"/>
                </a:lnTo>
                <a:lnTo>
                  <a:pt x="107" y="611"/>
                </a:lnTo>
                <a:lnTo>
                  <a:pt x="139" y="624"/>
                </a:lnTo>
                <a:lnTo>
                  <a:pt x="224" y="624"/>
                </a:lnTo>
                <a:lnTo>
                  <a:pt x="246" y="624"/>
                </a:lnTo>
                <a:lnTo>
                  <a:pt x="331" y="624"/>
                </a:lnTo>
                <a:lnTo>
                  <a:pt x="363" y="624"/>
                </a:lnTo>
                <a:lnTo>
                  <a:pt x="406" y="624"/>
                </a:lnTo>
                <a:lnTo>
                  <a:pt x="448" y="624"/>
                </a:lnTo>
                <a:lnTo>
                  <a:pt x="512" y="624"/>
                </a:lnTo>
                <a:lnTo>
                  <a:pt x="576" y="624"/>
                </a:lnTo>
                <a:lnTo>
                  <a:pt x="598" y="611"/>
                </a:lnTo>
                <a:lnTo>
                  <a:pt x="683" y="599"/>
                </a:lnTo>
                <a:lnTo>
                  <a:pt x="715" y="599"/>
                </a:lnTo>
                <a:lnTo>
                  <a:pt x="736" y="573"/>
                </a:lnTo>
                <a:lnTo>
                  <a:pt x="758" y="548"/>
                </a:lnTo>
                <a:lnTo>
                  <a:pt x="779" y="510"/>
                </a:lnTo>
                <a:lnTo>
                  <a:pt x="779" y="459"/>
                </a:lnTo>
                <a:lnTo>
                  <a:pt x="779" y="384"/>
                </a:lnTo>
                <a:lnTo>
                  <a:pt x="779" y="346"/>
                </a:lnTo>
                <a:lnTo>
                  <a:pt x="779" y="308"/>
                </a:lnTo>
                <a:lnTo>
                  <a:pt x="790" y="270"/>
                </a:lnTo>
                <a:lnTo>
                  <a:pt x="790" y="232"/>
                </a:lnTo>
                <a:lnTo>
                  <a:pt x="790" y="195"/>
                </a:lnTo>
                <a:lnTo>
                  <a:pt x="790" y="157"/>
                </a:lnTo>
                <a:lnTo>
                  <a:pt x="779" y="119"/>
                </a:lnTo>
                <a:lnTo>
                  <a:pt x="747" y="94"/>
                </a:lnTo>
                <a:lnTo>
                  <a:pt x="715" y="69"/>
                </a:lnTo>
                <a:lnTo>
                  <a:pt x="683" y="56"/>
                </a:lnTo>
                <a:lnTo>
                  <a:pt x="571" y="0"/>
                </a:lnTo>
                <a:lnTo>
                  <a:pt x="571" y="0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pair with one point in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other in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istanc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315200" y="358128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67480" y="358128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idates lie with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dividing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073160" y="1454040"/>
            <a:ext cx="7302600" cy="2882880"/>
            <a:chOff x="1073160" y="1454040"/>
            <a:chExt cx="7302600" cy="2882880"/>
          </a:xfrm>
        </p:grpSpPr>
        <p:sp>
          <p:nvSpPr>
            <p:cNvPr id="335" name=""/>
            <p:cNvSpPr/>
            <p:nvPr/>
          </p:nvSpPr>
          <p:spPr>
            <a:xfrm>
              <a:off x="1073160" y="1454040"/>
              <a:ext cx="7302600" cy="2882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82640" y="19112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8480" y="1987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54840" y="1987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7560" y="2749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924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640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356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7440" y="21398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9560" y="1606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44960" y="29782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64080" y="2368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82840" y="1758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73760" y="2901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30760" y="34354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30760" y="25210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45360" y="28256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02560" y="3511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6904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78680" y="36640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se region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9568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poin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73160" y="1454040"/>
            <a:ext cx="7302600" cy="2882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82640" y="19112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8480" y="19875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54840" y="19875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87560" y="27496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92480" y="35877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64080" y="35877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35680" y="35877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7440" y="21398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9560" y="16066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44960" y="29782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64080" y="23684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82840" y="17589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73760" y="29019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30760" y="34354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45360" y="28256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02560" y="35114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9040" y="35877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6640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8640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0552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880" y="5791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e paired only with those point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re with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213372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312408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52280" y="51814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that are to be paired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a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 x 2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tangle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mparing reg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3160" y="1454040"/>
            <a:ext cx="7302600" cy="2882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9568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86400" y="2133720"/>
            <a:ext cx="0" cy="9903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6172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in this rectangle are at lea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213372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9200" y="312408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29200" y="31240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38680" y="24382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rted elements, determin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smallest element. That is, determine the element whose rank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score on a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k = ceil(n/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salary of Computer Scient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eople whose salary is in the bott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First find salary at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073160" y="1454040"/>
            <a:ext cx="7302600" cy="2882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213372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9360" y="206388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9568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2133720"/>
            <a:ext cx="0" cy="9903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568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0552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6560" y="206388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59360" y="252108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6560" y="252108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312408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9360" y="305424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16560" y="305424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52280" y="51814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comparing region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2280" y="579132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number of pairs to check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6|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| =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31240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38680" y="24382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orted b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rdinate list of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orted b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rdinate list of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se two lists, the required pairs of point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structed i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O(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n &lt; 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mall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CLOCK43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time to find the closest pair (excluding the time to create the two sorted lists)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=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ceil(n/2)) + t(floor(n/2)) + 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the recurrence, 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 sub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CLOCK43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By Sor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the element with desired r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-And-Conquer Sele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nstanc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election i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lec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from ou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s done in quick s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k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location of the pivot following the partitio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-1 = rank(pivo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esired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-1 &lt; rank(pivo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termin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th smallest elemen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-1 &gt; rank(pivo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termin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k-rank(pivot)-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th smallest elemen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&amp;C Selec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20040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pivot and par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059440"/>
            <a:ext cx="716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pivot)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smalle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37160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element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" y="2133720"/>
            <a:ext cx="5943600" cy="655200"/>
            <a:chOff x="914400" y="2133720"/>
            <a:chExt cx="5943600" cy="655200"/>
          </a:xfrm>
        </p:grpSpPr>
        <p:grpSp>
          <p:nvGrpSpPr>
            <p:cNvPr id="61" name=""/>
            <p:cNvGrpSpPr/>
            <p:nvPr/>
          </p:nvGrpSpPr>
          <p:grpSpPr>
            <a:xfrm>
              <a:off x="914400" y="2209680"/>
              <a:ext cx="5943600" cy="579240"/>
              <a:chOff x="914400" y="2209680"/>
              <a:chExt cx="5943600" cy="57924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758960" y="2209680"/>
                <a:ext cx="5099040" cy="519120"/>
                <a:chOff x="1758960" y="2209680"/>
                <a:chExt cx="5099040" cy="5191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7589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8129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161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2701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6733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7273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305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1845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877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65440" y="2209680"/>
                  <a:ext cx="6256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0449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022640" y="2209680"/>
                  <a:ext cx="7016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5021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5561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9593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133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4165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705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8737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9277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3309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3849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914400" y="2209680"/>
                <a:ext cx="4572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914400" y="2133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3962520"/>
            <a:ext cx="6019920" cy="595080"/>
            <a:chOff x="838080" y="3962520"/>
            <a:chExt cx="6019920" cy="595080"/>
          </a:xfrm>
        </p:grpSpPr>
        <p:sp>
          <p:nvSpPr>
            <p:cNvPr id="88" name=""/>
            <p:cNvSpPr/>
            <p:nvPr/>
          </p:nvSpPr>
          <p:spPr>
            <a:xfrm>
              <a:off x="58737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89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29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161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701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733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273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305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45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877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41760" y="4038480"/>
              <a:ext cx="625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44960" y="412128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98960" y="403848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93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37040" y="403848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65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05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277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09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849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44960" y="4121280"/>
              <a:ext cx="44460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989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3880" y="403848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39625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&amp;C Selec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= 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 = rank(piv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lement we s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&lt; 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 &lt; rank(piv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fi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’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elemen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f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&gt; 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 &gt; rank(piv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fi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k-rank(pivot)-1)’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elemen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igh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90720" y="1066680"/>
            <a:ext cx="6019200" cy="595080"/>
            <a:chOff x="990720" y="1066680"/>
            <a:chExt cx="6019200" cy="595080"/>
          </a:xfrm>
        </p:grpSpPr>
        <p:sp>
          <p:nvSpPr>
            <p:cNvPr id="116" name=""/>
            <p:cNvSpPr/>
            <p:nvPr/>
          </p:nvSpPr>
          <p:spPr>
            <a:xfrm>
              <a:off x="60260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12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652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84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224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256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96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828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68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00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94040" y="1142640"/>
              <a:ext cx="624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97240" y="1225440"/>
              <a:ext cx="44424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51240" y="1142640"/>
              <a:ext cx="701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116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89320" y="1142640"/>
              <a:ext cx="625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688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228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800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832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372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1225440"/>
              <a:ext cx="44424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512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6160" y="1142640"/>
              <a:ext cx="701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0720" y="1066680"/>
              <a:ext cx="456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 case arises when the partition to be searched always has all but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performanc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 case becom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hosen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/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each (last group may have a few m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edian element in each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median of the group med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dian is found us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CLOCK43" descr=""/>
          <p:cNvPicPr/>
          <p:nvPr/>
        </p:nvPicPr>
        <p:blipFill>
          <a:blip r:embed="rId1"/>
          <a:stretch/>
        </p:blipFill>
        <p:spPr>
          <a:xfrm>
            <a:off x="8381880" y="0"/>
            <a:ext cx="4683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osest Pair Of Po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in 2D, find the pair that are clos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73160" y="2825640"/>
            <a:ext cx="7302600" cy="2882880"/>
            <a:chOff x="1073160" y="2825640"/>
            <a:chExt cx="7302600" cy="2882880"/>
          </a:xfrm>
        </p:grpSpPr>
        <p:sp>
          <p:nvSpPr>
            <p:cNvPr id="147" name=""/>
            <p:cNvSpPr/>
            <p:nvPr/>
          </p:nvSpPr>
          <p:spPr>
            <a:xfrm>
              <a:off x="1073160" y="2825640"/>
              <a:ext cx="7302600" cy="2882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82640" y="32828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8480" y="33591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8160" y="3511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7560" y="41212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2480" y="49593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64080" y="49593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35680" y="49593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7440" y="39686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59560" y="29782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4960" y="43498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64080" y="37400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2840" y="3130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3760" y="4273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7240" y="45021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30760" y="3892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5360" y="41972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2560" y="48830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40440" y="49593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78680" y="5035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637080" y="4075200"/>
            <a:ext cx="919080" cy="828720"/>
          </a:xfrm>
          <a:custGeom>
            <a:avLst/>
            <a:gdLst/>
            <a:ahLst/>
            <a:rect l="l" t="t" r="r" b="b"/>
            <a:pathLst>
              <a:path w="579" h="522">
                <a:moveTo>
                  <a:pt x="13" y="169"/>
                </a:moveTo>
                <a:lnTo>
                  <a:pt x="11" y="216"/>
                </a:lnTo>
                <a:lnTo>
                  <a:pt x="0" y="249"/>
                </a:lnTo>
                <a:lnTo>
                  <a:pt x="0" y="283"/>
                </a:lnTo>
                <a:lnTo>
                  <a:pt x="0" y="317"/>
                </a:lnTo>
                <a:lnTo>
                  <a:pt x="11" y="351"/>
                </a:lnTo>
                <a:lnTo>
                  <a:pt x="23" y="385"/>
                </a:lnTo>
                <a:lnTo>
                  <a:pt x="45" y="419"/>
                </a:lnTo>
                <a:lnTo>
                  <a:pt x="79" y="453"/>
                </a:lnTo>
                <a:lnTo>
                  <a:pt x="113" y="487"/>
                </a:lnTo>
                <a:lnTo>
                  <a:pt x="147" y="510"/>
                </a:lnTo>
                <a:lnTo>
                  <a:pt x="193" y="521"/>
                </a:lnTo>
                <a:lnTo>
                  <a:pt x="227" y="521"/>
                </a:lnTo>
                <a:lnTo>
                  <a:pt x="261" y="521"/>
                </a:lnTo>
                <a:lnTo>
                  <a:pt x="317" y="521"/>
                </a:lnTo>
                <a:lnTo>
                  <a:pt x="351" y="521"/>
                </a:lnTo>
                <a:lnTo>
                  <a:pt x="385" y="521"/>
                </a:lnTo>
                <a:lnTo>
                  <a:pt x="430" y="521"/>
                </a:lnTo>
                <a:lnTo>
                  <a:pt x="476" y="521"/>
                </a:lnTo>
                <a:lnTo>
                  <a:pt x="521" y="510"/>
                </a:lnTo>
                <a:lnTo>
                  <a:pt x="544" y="476"/>
                </a:lnTo>
                <a:lnTo>
                  <a:pt x="566" y="442"/>
                </a:lnTo>
                <a:lnTo>
                  <a:pt x="578" y="408"/>
                </a:lnTo>
                <a:lnTo>
                  <a:pt x="578" y="374"/>
                </a:lnTo>
                <a:lnTo>
                  <a:pt x="578" y="340"/>
                </a:lnTo>
                <a:lnTo>
                  <a:pt x="578" y="306"/>
                </a:lnTo>
                <a:lnTo>
                  <a:pt x="555" y="272"/>
                </a:lnTo>
                <a:lnTo>
                  <a:pt x="544" y="227"/>
                </a:lnTo>
                <a:lnTo>
                  <a:pt x="532" y="193"/>
                </a:lnTo>
                <a:lnTo>
                  <a:pt x="521" y="159"/>
                </a:lnTo>
                <a:lnTo>
                  <a:pt x="510" y="125"/>
                </a:lnTo>
                <a:lnTo>
                  <a:pt x="498" y="91"/>
                </a:lnTo>
                <a:lnTo>
                  <a:pt x="453" y="34"/>
                </a:lnTo>
                <a:lnTo>
                  <a:pt x="419" y="12"/>
                </a:lnTo>
                <a:lnTo>
                  <a:pt x="385" y="0"/>
                </a:lnTo>
                <a:lnTo>
                  <a:pt x="340" y="0"/>
                </a:lnTo>
                <a:lnTo>
                  <a:pt x="306" y="0"/>
                </a:lnTo>
                <a:lnTo>
                  <a:pt x="272" y="0"/>
                </a:lnTo>
                <a:lnTo>
                  <a:pt x="238" y="0"/>
                </a:lnTo>
                <a:lnTo>
                  <a:pt x="204" y="12"/>
                </a:lnTo>
                <a:lnTo>
                  <a:pt x="147" y="23"/>
                </a:lnTo>
                <a:lnTo>
                  <a:pt x="102" y="23"/>
                </a:lnTo>
                <a:lnTo>
                  <a:pt x="57" y="34"/>
                </a:lnTo>
                <a:lnTo>
                  <a:pt x="23" y="68"/>
                </a:lnTo>
                <a:lnTo>
                  <a:pt x="11" y="102"/>
                </a:lnTo>
                <a:lnTo>
                  <a:pt x="13" y="169"/>
                </a:lnTo>
                <a:lnTo>
                  <a:pt x="13" y="169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11040" y="1225440"/>
            <a:ext cx="8445600" cy="2121120"/>
            <a:chOff x="311040" y="1225440"/>
            <a:chExt cx="8445600" cy="2121120"/>
          </a:xfrm>
        </p:grpSpPr>
        <p:sp>
          <p:nvSpPr>
            <p:cNvPr id="170" name=""/>
            <p:cNvSpPr/>
            <p:nvPr/>
          </p:nvSpPr>
          <p:spPr>
            <a:xfrm>
              <a:off x="311040" y="1225440"/>
              <a:ext cx="8445600" cy="2121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35280" y="17589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4040" y="26733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21280" y="1682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97240" y="2825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35880" y="19112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83440" y="13780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73360" y="29782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8280" y="20638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30560" y="16066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8840" y="24447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87760" y="30542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11640" y="1682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7280" y="2825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31160" y="27496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4560" y="20638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6040" y="13017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11240" y="31305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35680" y="29782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3580920"/>
            <a:ext cx="87631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plan to drill holes in a metal she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holes are too close, the sheet will tear during dril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that no two holes are closer than a threshold distance (e.g., holes are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inc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DRILL" descr=""/>
          <p:cNvPicPr/>
          <p:nvPr/>
        </p:nvPicPr>
        <p:blipFill>
          <a:blip r:embed="rId1"/>
          <a:stretch/>
        </p:blipFill>
        <p:spPr>
          <a:xfrm>
            <a:off x="6477120" y="609480"/>
            <a:ext cx="3650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36:23Z</dcterms:modified>
  <cp:revision>157</cp:revision>
  <dc:subject/>
  <dc:title>Data Representation Methods</dc:title>
</cp:coreProperties>
</file>