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5EE7-728E-4ECB-A6EC-BBC334EA3C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ion sort divides a large instance into two smaller instances. These smaller instances are of a very different size: n-1 vs 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8B5-0F56-42F5-8ABC-29089609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B85-8898-4121-B1C8-3C928F72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E28-294E-4109-B51F-466D65BF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F4D-FBE6-4DE0-933A-A1F74E38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5ED-5B79-43EA-859B-4B885014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913-0F36-439E-8EAF-5CCD33AA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8A1-B783-4FF5-A8F4-CAEF65EB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EEA-0716-4351-A43D-7F7A8108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9BD-1278-4F2E-B3FE-511AC441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B6C-7E3D-4006-AB12-8423363E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EB8-7977-45DF-9395-0D52CAB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A65-88CF-4D38-BED2-6BDCC2B7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282B-3D7E-425E-9C70-8B097E322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-And-Conquer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 &g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each smaller instance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smaller instances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combine the sorted smaller insta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= (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 = (1, 2,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, 3,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, 3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ne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empty, appe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list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needed to move an element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, respectively, the number of elements initially i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337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, 2, 14, 5, 9, 10, 1, 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8120"/>
            <a:ext cx="365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, 2, 14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752120" y="2590920"/>
            <a:ext cx="2590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3720" y="3048120"/>
            <a:ext cx="33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, 1, 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590920"/>
            <a:ext cx="25905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962520"/>
            <a:ext cx="213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94920" y="3505320"/>
            <a:ext cx="6858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9625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3505320"/>
            <a:ext cx="9144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80060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6212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4800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419720"/>
            <a:ext cx="3049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5627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0520" y="52578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334120"/>
            <a:ext cx="22860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56272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5235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55627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48006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971800" y="4419720"/>
            <a:ext cx="38088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8006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419720"/>
            <a:ext cx="381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819520" y="52578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5562720"/>
            <a:ext cx="99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5334120"/>
            <a:ext cx="30456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0560" y="3962520"/>
            <a:ext cx="167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, 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3505320"/>
            <a:ext cx="9903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07400" y="3962520"/>
            <a:ext cx="1755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505320"/>
            <a:ext cx="9907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7920" y="4800600"/>
            <a:ext cx="129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5288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3560" y="480060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89320" y="556272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2000" y="5257800"/>
            <a:ext cx="4572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5120" y="5562720"/>
            <a:ext cx="91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6160" y="4800600"/>
            <a:ext cx="145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315200" y="4419720"/>
            <a:ext cx="5335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4080" y="4800600"/>
            <a:ext cx="84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495680"/>
            <a:ext cx="45720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97560" y="5562720"/>
            <a:ext cx="68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7813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5562720"/>
            <a:ext cx="91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334120"/>
            <a:ext cx="38124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52120" y="2590920"/>
            <a:ext cx="2590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590920"/>
            <a:ext cx="25905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294920" y="3505320"/>
            <a:ext cx="6858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3505320"/>
            <a:ext cx="9144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480060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, 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6212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800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, 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962520"/>
            <a:ext cx="213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, 6, 8, 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419720"/>
            <a:ext cx="3049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5627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80520" y="52578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5334120"/>
            <a:ext cx="22860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56272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235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55627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48006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9625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3048120"/>
            <a:ext cx="365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3, 5, 6, 8, 13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71800" y="4419720"/>
            <a:ext cx="38088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8006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419720"/>
            <a:ext cx="381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819520" y="52578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5562720"/>
            <a:ext cx="99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334120"/>
            <a:ext cx="30456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62360" y="3505320"/>
            <a:ext cx="9903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3505320"/>
            <a:ext cx="9907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7920" y="4800600"/>
            <a:ext cx="129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0560" y="3962520"/>
            <a:ext cx="167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95288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3560" y="480060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9320" y="556272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572000" y="5257800"/>
            <a:ext cx="4572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5120" y="5562720"/>
            <a:ext cx="91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6160" y="4800600"/>
            <a:ext cx="145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07400" y="3962520"/>
            <a:ext cx="1755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, 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3720" y="3048120"/>
            <a:ext cx="33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4, 7, 9, 10,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1337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2, 3, 4, 5, 6, 7, 8, 9, 10, 12, 13,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315200" y="4419720"/>
            <a:ext cx="5335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4080" y="4800600"/>
            <a:ext cx="84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1000" y="4495680"/>
            <a:ext cx="45720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97560" y="5562720"/>
            <a:ext cx="68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7813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5562720"/>
            <a:ext cx="91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5334120"/>
            <a:ext cx="38124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required to 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ceil(n/2)) + t(floor(n/2)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ward pass over the recursio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large instances into small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 pass over the recursio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pairs of sorted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eaf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nonleaf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at each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tal time at all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merging at each level that has a nonleaf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level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recurs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 down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rted list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pairwise merging of these sorted lists as in the up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recursive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7760" y="1676520"/>
            <a:ext cx="9064800" cy="579960"/>
            <a:chOff x="77760" y="1676520"/>
            <a:chExt cx="9064800" cy="579960"/>
          </a:xfrm>
        </p:grpSpPr>
        <p:sp>
          <p:nvSpPr>
            <p:cNvPr id="217" name=""/>
            <p:cNvSpPr/>
            <p:nvPr/>
          </p:nvSpPr>
          <p:spPr>
            <a:xfrm>
              <a:off x="77760" y="1676520"/>
              <a:ext cx="760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8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35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93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744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324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06760" y="1676520"/>
              <a:ext cx="988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68880" y="1676520"/>
              <a:ext cx="760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83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9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641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6280" y="1676520"/>
              <a:ext cx="684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357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3680" y="167652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28600" y="2209680"/>
            <a:ext cx="1066680" cy="1448640"/>
            <a:chOff x="228600" y="2209680"/>
            <a:chExt cx="1066680" cy="1448640"/>
          </a:xfrm>
        </p:grpSpPr>
        <p:sp>
          <p:nvSpPr>
            <p:cNvPr id="231" name=""/>
            <p:cNvSpPr/>
            <p:nvPr/>
          </p:nvSpPr>
          <p:spPr>
            <a:xfrm>
              <a:off x="228600" y="2590920"/>
              <a:ext cx="1066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, 8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3772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600200" y="2209680"/>
            <a:ext cx="1447920" cy="961200"/>
            <a:chOff x="1600200" y="2209680"/>
            <a:chExt cx="1447920" cy="961200"/>
          </a:xfrm>
        </p:grpSpPr>
        <p:sp>
          <p:nvSpPr>
            <p:cNvPr id="235" name=""/>
            <p:cNvSpPr/>
            <p:nvPr/>
          </p:nvSpPr>
          <p:spPr>
            <a:xfrm>
              <a:off x="1600200" y="2590920"/>
              <a:ext cx="1447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6, 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05120" y="2209680"/>
              <a:ext cx="30456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3619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971800" y="2209680"/>
            <a:ext cx="1371600" cy="961200"/>
            <a:chOff x="2971800" y="2209680"/>
            <a:chExt cx="1371600" cy="961200"/>
          </a:xfrm>
        </p:grpSpPr>
        <p:sp>
          <p:nvSpPr>
            <p:cNvPr id="239" name=""/>
            <p:cNvSpPr/>
            <p:nvPr/>
          </p:nvSpPr>
          <p:spPr>
            <a:xfrm>
              <a:off x="2971800" y="2590920"/>
              <a:ext cx="1371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76720" y="2209680"/>
              <a:ext cx="30456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7335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343400" y="2286000"/>
            <a:ext cx="1066680" cy="1372320"/>
            <a:chOff x="4343400" y="2286000"/>
            <a:chExt cx="1066680" cy="1372320"/>
          </a:xfrm>
        </p:grpSpPr>
        <p:sp>
          <p:nvSpPr>
            <p:cNvPr id="243" name=""/>
            <p:cNvSpPr/>
            <p:nvPr/>
          </p:nvSpPr>
          <p:spPr>
            <a:xfrm>
              <a:off x="4343400" y="2590920"/>
              <a:ext cx="1066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5, 9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0" y="228600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952520" y="228600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715000" y="2209680"/>
            <a:ext cx="1295280" cy="961200"/>
            <a:chOff x="5715000" y="2209680"/>
            <a:chExt cx="1295280" cy="961200"/>
          </a:xfrm>
        </p:grpSpPr>
        <p:sp>
          <p:nvSpPr>
            <p:cNvPr id="247" name=""/>
            <p:cNvSpPr/>
            <p:nvPr/>
          </p:nvSpPr>
          <p:spPr>
            <a:xfrm>
              <a:off x="5715000" y="25909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1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32412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086600" y="2209680"/>
            <a:ext cx="1295280" cy="961200"/>
            <a:chOff x="7086600" y="2209680"/>
            <a:chExt cx="1295280" cy="961200"/>
          </a:xfrm>
        </p:grpSpPr>
        <p:sp>
          <p:nvSpPr>
            <p:cNvPr id="251" name=""/>
            <p:cNvSpPr/>
            <p:nvPr/>
          </p:nvSpPr>
          <p:spPr>
            <a:xfrm>
              <a:off x="7086600" y="25909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7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888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8483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461440" y="2133720"/>
            <a:ext cx="758880" cy="1037160"/>
            <a:chOff x="8461440" y="2133720"/>
            <a:chExt cx="758880" cy="1037160"/>
          </a:xfrm>
        </p:grpSpPr>
        <p:sp>
          <p:nvSpPr>
            <p:cNvPr id="255" name=""/>
            <p:cNvSpPr/>
            <p:nvPr/>
          </p:nvSpPr>
          <p:spPr>
            <a:xfrm>
              <a:off x="8461440" y="259092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86800" y="2133720"/>
              <a:ext cx="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7200" y="3124080"/>
            <a:ext cx="2286000" cy="1113480"/>
            <a:chOff x="457200" y="3124080"/>
            <a:chExt cx="2286000" cy="1113480"/>
          </a:xfrm>
        </p:grpSpPr>
        <p:sp>
          <p:nvSpPr>
            <p:cNvPr id="258" name=""/>
            <p:cNvSpPr/>
            <p:nvPr/>
          </p:nvSpPr>
          <p:spPr>
            <a:xfrm>
              <a:off x="457200" y="36576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, 6, 8, 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2120" y="3124080"/>
              <a:ext cx="60948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59984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048120" y="3124080"/>
            <a:ext cx="2286000" cy="1113480"/>
            <a:chOff x="3048120" y="3124080"/>
            <a:chExt cx="2286000" cy="1113480"/>
          </a:xfrm>
        </p:grpSpPr>
        <p:sp>
          <p:nvSpPr>
            <p:cNvPr id="262" name=""/>
            <p:cNvSpPr/>
            <p:nvPr/>
          </p:nvSpPr>
          <p:spPr>
            <a:xfrm>
              <a:off x="3048120" y="36576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5, 9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3124080"/>
              <a:ext cx="60984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19076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867280" y="3124080"/>
            <a:ext cx="2286000" cy="1600920"/>
            <a:chOff x="5867280" y="3124080"/>
            <a:chExt cx="2286000" cy="1600920"/>
          </a:xfrm>
        </p:grpSpPr>
        <p:sp>
          <p:nvSpPr>
            <p:cNvPr id="266" name=""/>
            <p:cNvSpPr/>
            <p:nvPr/>
          </p:nvSpPr>
          <p:spPr>
            <a:xfrm>
              <a:off x="5867280" y="3657600"/>
              <a:ext cx="228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7, 10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2200" y="3124080"/>
              <a:ext cx="60948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00992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8462880" y="3124080"/>
            <a:ext cx="758880" cy="1037160"/>
            <a:chOff x="8462880" y="3124080"/>
            <a:chExt cx="758880" cy="1037160"/>
          </a:xfrm>
        </p:grpSpPr>
        <p:sp>
          <p:nvSpPr>
            <p:cNvPr id="270" name=""/>
            <p:cNvSpPr/>
            <p:nvPr/>
          </p:nvSpPr>
          <p:spPr>
            <a:xfrm>
              <a:off x="8462880" y="358128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88240" y="312408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4191120"/>
            <a:ext cx="4191120" cy="1341720"/>
            <a:chOff x="1143000" y="4191120"/>
            <a:chExt cx="4191120" cy="1341720"/>
          </a:xfrm>
        </p:grpSpPr>
        <p:sp>
          <p:nvSpPr>
            <p:cNvPr id="273" name=""/>
            <p:cNvSpPr/>
            <p:nvPr/>
          </p:nvSpPr>
          <p:spPr>
            <a:xfrm>
              <a:off x="1143000" y="4952880"/>
              <a:ext cx="4191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3, 5, 6, 8, 9, 13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66800" y="4191120"/>
              <a:ext cx="113508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325680" y="4267080"/>
              <a:ext cx="78912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4114800"/>
            <a:ext cx="2895840" cy="1342080"/>
            <a:chOff x="6095880" y="4114800"/>
            <a:chExt cx="2895840" cy="1342080"/>
          </a:xfrm>
        </p:grpSpPr>
        <p:sp>
          <p:nvSpPr>
            <p:cNvPr id="277" name=""/>
            <p:cNvSpPr/>
            <p:nvPr/>
          </p:nvSpPr>
          <p:spPr>
            <a:xfrm>
              <a:off x="6095880" y="4876920"/>
              <a:ext cx="289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4, 7, 10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58040" y="4114800"/>
              <a:ext cx="78264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603920" y="4114800"/>
              <a:ext cx="96516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360520" y="5334120"/>
            <a:ext cx="6782040" cy="1113120"/>
            <a:chOff x="2360520" y="5334120"/>
            <a:chExt cx="6782040" cy="1113120"/>
          </a:xfrm>
        </p:grpSpPr>
        <p:sp>
          <p:nvSpPr>
            <p:cNvPr id="281" name=""/>
            <p:cNvSpPr/>
            <p:nvPr/>
          </p:nvSpPr>
          <p:spPr>
            <a:xfrm>
              <a:off x="2360520" y="5867280"/>
              <a:ext cx="6782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2, 3, 4, 5, 6, 7, 8, 9, 10, 12, 13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505320" y="5334120"/>
              <a:ext cx="4190400" cy="533160"/>
              <a:chOff x="3505320" y="5334120"/>
              <a:chExt cx="4190400" cy="533160"/>
            </a:xfrm>
          </p:grpSpPr>
          <p:sp>
            <p:nvSpPr>
              <p:cNvPr id="283" name=""/>
              <p:cNvSpPr/>
              <p:nvPr/>
            </p:nvSpPr>
            <p:spPr>
              <a:xfrm>
                <a:off x="3505320" y="5410080"/>
                <a:ext cx="1828800" cy="457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095520" y="5334120"/>
                <a:ext cx="160020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segment siz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merge pass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rge pass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space for the me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is slower than insertion sort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pproximately). So define 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 insta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an inst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small instances using insertion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egment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fine one of the smaller instances; last element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fines the secon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sp>
          <p:nvSpPr>
            <p:cNvPr id="53" name=""/>
            <p:cNvSpPr/>
            <p:nvPr/>
          </p:nvSpPr>
          <p:spPr>
            <a:xfrm>
              <a:off x="609480" y="2133360"/>
              <a:ext cx="7391160" cy="533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1523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48360" y="1676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09480" y="1600200"/>
            <a:ext cx="7162920" cy="1066680"/>
            <a:chOff x="609480" y="1600200"/>
            <a:chExt cx="7162920" cy="1066680"/>
          </a:xfrm>
        </p:grpSpPr>
        <p:sp>
          <p:nvSpPr>
            <p:cNvPr id="57" name=""/>
            <p:cNvSpPr/>
            <p:nvPr/>
          </p:nvSpPr>
          <p:spPr>
            <a:xfrm>
              <a:off x="609480" y="2133720"/>
              <a:ext cx="7010280" cy="533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816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0120" y="2133720"/>
            <a:ext cx="38088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atural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orted segments are the naturally ocurring sorted segments in the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8, 9, 10, 2, 5, 7, 9, 11, 13, 15, 6, 12, 14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egmen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9, 10] [2, 5, 7, 9, 11, 13, 15] [6, 1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stea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rge passes su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boundaries ha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i] &gt; a[i+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nstanc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very small instance is a sorted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rt a large instance, selec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from ou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 contains only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 i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 i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le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s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is sor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, follow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 followed by sor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914400" y="1676520"/>
            <a:ext cx="5943600" cy="579240"/>
            <a:chOff x="914400" y="1676520"/>
            <a:chExt cx="5943600" cy="579240"/>
          </a:xfrm>
        </p:grpSpPr>
        <p:grpSp>
          <p:nvGrpSpPr>
            <p:cNvPr id="293" name=""/>
            <p:cNvGrpSpPr/>
            <p:nvPr/>
          </p:nvGrpSpPr>
          <p:grpSpPr>
            <a:xfrm>
              <a:off x="1758960" y="1676520"/>
              <a:ext cx="5099040" cy="519120"/>
              <a:chOff x="1758960" y="1676520"/>
              <a:chExt cx="5099040" cy="5191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8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12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16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0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73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727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30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4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7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65440" y="16765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44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22640" y="16765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02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56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59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13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16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0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73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277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30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84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914400" y="1676520"/>
              <a:ext cx="457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990720" y="29718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90720" y="4572000"/>
            <a:ext cx="5708520" cy="579600"/>
            <a:chOff x="990720" y="4572000"/>
            <a:chExt cx="5708520" cy="579600"/>
          </a:xfrm>
        </p:grpSpPr>
        <p:grpSp>
          <p:nvGrpSpPr>
            <p:cNvPr id="319" name=""/>
            <p:cNvGrpSpPr/>
            <p:nvPr/>
          </p:nvGrpSpPr>
          <p:grpSpPr>
            <a:xfrm>
              <a:off x="990720" y="4572000"/>
              <a:ext cx="5708520" cy="579600"/>
              <a:chOff x="990720" y="4572000"/>
              <a:chExt cx="5708520" cy="579600"/>
            </a:xfrm>
          </p:grpSpPr>
          <p:sp>
            <p:nvSpPr>
              <p:cNvPr id="320" name=""/>
              <p:cNvSpPr/>
              <p:nvPr/>
            </p:nvSpPr>
            <p:spPr>
              <a:xfrm>
                <a:off x="1682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98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970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42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114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68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258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830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402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974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54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0720" y="4572000"/>
                <a:ext cx="457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1682640" y="4572000"/>
              <a:ext cx="444600" cy="519120"/>
              <a:chOff x="1682640" y="4572000"/>
              <a:chExt cx="444600" cy="519120"/>
            </a:xfrm>
          </p:grpSpPr>
          <p:sp>
            <p:nvSpPr>
              <p:cNvPr id="333" name=""/>
              <p:cNvSpPr/>
              <p:nvPr/>
            </p:nvSpPr>
            <p:spPr>
              <a:xfrm>
                <a:off x="16826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36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254640" y="4572000"/>
              <a:ext cx="444600" cy="519120"/>
              <a:chOff x="6254640" y="4572000"/>
              <a:chExt cx="444600" cy="519120"/>
            </a:xfrm>
          </p:grpSpPr>
          <p:sp>
            <p:nvSpPr>
              <p:cNvPr id="336" name=""/>
              <p:cNvSpPr/>
              <p:nvPr/>
            </p:nvSpPr>
            <p:spPr>
              <a:xfrm>
                <a:off x="62546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08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139840" y="4572000"/>
              <a:ext cx="444600" cy="519120"/>
              <a:chOff x="2139840" y="4572000"/>
              <a:chExt cx="444600" cy="519120"/>
            </a:xfrm>
          </p:grpSpPr>
          <p:sp>
            <p:nvSpPr>
              <p:cNvPr id="339" name=""/>
              <p:cNvSpPr/>
              <p:nvPr/>
            </p:nvSpPr>
            <p:spPr>
              <a:xfrm>
                <a:off x="21398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1938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75480" y="4572000"/>
              <a:ext cx="701640" cy="519120"/>
              <a:chOff x="5775480" y="4572000"/>
              <a:chExt cx="701640" cy="519120"/>
            </a:xfrm>
          </p:grpSpPr>
          <p:sp>
            <p:nvSpPr>
              <p:cNvPr id="342" name=""/>
              <p:cNvSpPr/>
              <p:nvPr/>
            </p:nvSpPr>
            <p:spPr>
              <a:xfrm>
                <a:off x="57974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75480" y="4572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318280" y="4572000"/>
              <a:ext cx="701640" cy="519120"/>
              <a:chOff x="5318280" y="4572000"/>
              <a:chExt cx="701640" cy="519120"/>
            </a:xfrm>
          </p:grpSpPr>
          <p:sp>
            <p:nvSpPr>
              <p:cNvPr id="345" name=""/>
              <p:cNvSpPr/>
              <p:nvPr/>
            </p:nvSpPr>
            <p:spPr>
              <a:xfrm>
                <a:off x="53402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18280" y="4572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97040" y="4572000"/>
              <a:ext cx="444600" cy="519120"/>
              <a:chOff x="2597040" y="4572000"/>
              <a:chExt cx="444600" cy="519120"/>
            </a:xfrm>
          </p:grpSpPr>
          <p:sp>
            <p:nvSpPr>
              <p:cNvPr id="348" name=""/>
              <p:cNvSpPr/>
              <p:nvPr/>
            </p:nvSpPr>
            <p:spPr>
              <a:xfrm>
                <a:off x="25970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510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54240" y="4572000"/>
              <a:ext cx="444600" cy="519120"/>
              <a:chOff x="3054240" y="4572000"/>
              <a:chExt cx="444600" cy="519120"/>
            </a:xfrm>
          </p:grpSpPr>
          <p:sp>
            <p:nvSpPr>
              <p:cNvPr id="351" name=""/>
              <p:cNvSpPr/>
              <p:nvPr/>
            </p:nvSpPr>
            <p:spPr>
              <a:xfrm>
                <a:off x="30542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082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883040" y="4572000"/>
              <a:ext cx="444600" cy="519120"/>
              <a:chOff x="4883040" y="4572000"/>
              <a:chExt cx="444600" cy="519120"/>
            </a:xfrm>
          </p:grpSpPr>
          <p:sp>
            <p:nvSpPr>
              <p:cNvPr id="354" name=""/>
              <p:cNvSpPr/>
              <p:nvPr/>
            </p:nvSpPr>
            <p:spPr>
              <a:xfrm>
                <a:off x="48830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370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425840" y="4572000"/>
              <a:ext cx="444600" cy="519120"/>
              <a:chOff x="4425840" y="4572000"/>
              <a:chExt cx="444600" cy="519120"/>
            </a:xfrm>
          </p:grpSpPr>
          <p:sp>
            <p:nvSpPr>
              <p:cNvPr id="357" name=""/>
              <p:cNvSpPr/>
              <p:nvPr/>
            </p:nvSpPr>
            <p:spPr>
              <a:xfrm>
                <a:off x="44258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798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511440" y="4572000"/>
              <a:ext cx="444600" cy="519120"/>
              <a:chOff x="3511440" y="4572000"/>
              <a:chExt cx="444600" cy="519120"/>
            </a:xfrm>
          </p:grpSpPr>
          <p:sp>
            <p:nvSpPr>
              <p:cNvPr id="360" name=""/>
              <p:cNvSpPr/>
              <p:nvPr/>
            </p:nvSpPr>
            <p:spPr>
              <a:xfrm>
                <a:off x="35114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654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3968640" y="4572000"/>
              <a:ext cx="444600" cy="519120"/>
              <a:chOff x="3968640" y="4572000"/>
              <a:chExt cx="444600" cy="519120"/>
            </a:xfrm>
          </p:grpSpPr>
          <p:sp>
            <p:nvSpPr>
              <p:cNvPr id="363" name=""/>
              <p:cNvSpPr/>
              <p:nvPr/>
            </p:nvSpPr>
            <p:spPr>
              <a:xfrm>
                <a:off x="3968640" y="46544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22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990720" y="586728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left and right groups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vot 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eft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in list that is to be s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mplementation does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dom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one of the elements to be sorted 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enerate a random numb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ran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6, 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r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dian-of-Three r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rom the leftmost, middle, and rightmost elements of the list to be sorted, select the one with median key 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xamin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 ((6+20)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element with median (i.e., middle)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20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13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ivot is picked at random or when the median-of-three rule is used, we can use the quick sort code of the text provided we first swap the leftmost element and the chosen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6840" y="5546880"/>
            <a:ext cx="6845400" cy="549000"/>
            <a:chOff x="996840" y="5546880"/>
            <a:chExt cx="6845400" cy="549000"/>
          </a:xfrm>
        </p:grpSpPr>
        <p:sp>
          <p:nvSpPr>
            <p:cNvPr id="373" name=""/>
            <p:cNvSpPr/>
            <p:nvPr/>
          </p:nvSpPr>
          <p:spPr>
            <a:xfrm>
              <a:off x="996840" y="5568840"/>
              <a:ext cx="684540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7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05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62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19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33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1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5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627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9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7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91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27160" y="554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92800" y="5568840"/>
            <a:ext cx="992160" cy="1122480"/>
            <a:chOff x="4492800" y="5568840"/>
            <a:chExt cx="992160" cy="1122480"/>
          </a:xfrm>
        </p:grpSpPr>
        <p:sp>
          <p:nvSpPr>
            <p:cNvPr id="390" name=""/>
            <p:cNvSpPr/>
            <p:nvPr/>
          </p:nvSpPr>
          <p:spPr>
            <a:xfrm>
              <a:off x="4654440" y="5568840"/>
              <a:ext cx="444600" cy="520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2800" y="6172200"/>
              <a:ext cx="992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996840" y="5568840"/>
            <a:ext cx="444600" cy="5209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19320" y="4724280"/>
            <a:ext cx="3733560" cy="945720"/>
            <a:chOff x="1219320" y="4724280"/>
            <a:chExt cx="3733560" cy="945720"/>
          </a:xfrm>
        </p:grpSpPr>
        <p:sp>
          <p:nvSpPr>
            <p:cNvPr id="394" name=""/>
            <p:cNvSpPr/>
            <p:nvPr/>
          </p:nvSpPr>
          <p:spPr>
            <a:xfrm>
              <a:off x="2590920" y="4724280"/>
              <a:ext cx="9144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wa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219320" y="5029200"/>
              <a:ext cx="3733560" cy="533520"/>
              <a:chOff x="1219320" y="5029200"/>
              <a:chExt cx="3733560" cy="533520"/>
            </a:xfrm>
          </p:grpSpPr>
          <p:sp>
            <p:nvSpPr>
              <p:cNvPr id="396" name=""/>
              <p:cNvSpPr/>
              <p:nvPr/>
            </p:nvSpPr>
            <p:spPr>
              <a:xfrm flipH="1">
                <a:off x="1219320" y="5029200"/>
                <a:ext cx="1218960" cy="5335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81280" y="5105520"/>
                <a:ext cx="1371600" cy="4572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itioning Into Three Grou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[6, 2, 8, 5, 11, 10, 4, 1, 9, 7, 3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most element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other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left to right (omit the pivot in this scan), placing elemen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left end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remaining elements at the right end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vot is placed at the remaining position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itioning Example Using Additional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914400" y="1676520"/>
            <a:ext cx="5943600" cy="579960"/>
            <a:chOff x="914400" y="1676520"/>
            <a:chExt cx="5943600" cy="579960"/>
          </a:xfrm>
        </p:grpSpPr>
        <p:grpSp>
          <p:nvGrpSpPr>
            <p:cNvPr id="402" name=""/>
            <p:cNvGrpSpPr/>
            <p:nvPr/>
          </p:nvGrpSpPr>
          <p:grpSpPr>
            <a:xfrm>
              <a:off x="1758960" y="1676520"/>
              <a:ext cx="5099040" cy="519120"/>
              <a:chOff x="1758960" y="1676520"/>
              <a:chExt cx="5099040" cy="519120"/>
            </a:xfrm>
          </p:grpSpPr>
          <p:sp>
            <p:nvSpPr>
              <p:cNvPr id="403" name=""/>
              <p:cNvSpPr/>
              <p:nvPr/>
            </p:nvSpPr>
            <p:spPr>
              <a:xfrm>
                <a:off x="1758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12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16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70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73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27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30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84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587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565440" y="16765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044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22640" y="16765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02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56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959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013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16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0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73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9277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30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384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914400" y="16765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990720" y="3276720"/>
            <a:ext cx="5708520" cy="579960"/>
            <a:chOff x="990720" y="3276720"/>
            <a:chExt cx="5708520" cy="579960"/>
          </a:xfrm>
        </p:grpSpPr>
        <p:sp>
          <p:nvSpPr>
            <p:cNvPr id="427" name=""/>
            <p:cNvSpPr/>
            <p:nvPr/>
          </p:nvSpPr>
          <p:spPr>
            <a:xfrm>
              <a:off x="1682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398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970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542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114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8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258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830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402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974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54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907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82640" y="3276720"/>
            <a:ext cx="444600" cy="519120"/>
            <a:chOff x="1682640" y="3276720"/>
            <a:chExt cx="444600" cy="519120"/>
          </a:xfrm>
        </p:grpSpPr>
        <p:sp>
          <p:nvSpPr>
            <p:cNvPr id="440" name=""/>
            <p:cNvSpPr/>
            <p:nvPr/>
          </p:nvSpPr>
          <p:spPr>
            <a:xfrm>
              <a:off x="16826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36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254640" y="3276720"/>
            <a:ext cx="444600" cy="519120"/>
            <a:chOff x="6254640" y="3276720"/>
            <a:chExt cx="444600" cy="519120"/>
          </a:xfrm>
        </p:grpSpPr>
        <p:sp>
          <p:nvSpPr>
            <p:cNvPr id="443" name=""/>
            <p:cNvSpPr/>
            <p:nvPr/>
          </p:nvSpPr>
          <p:spPr>
            <a:xfrm>
              <a:off x="62546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08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139840" y="3276720"/>
            <a:ext cx="444600" cy="519120"/>
            <a:chOff x="2139840" y="3276720"/>
            <a:chExt cx="444600" cy="519120"/>
          </a:xfrm>
        </p:grpSpPr>
        <p:sp>
          <p:nvSpPr>
            <p:cNvPr id="446" name=""/>
            <p:cNvSpPr/>
            <p:nvPr/>
          </p:nvSpPr>
          <p:spPr>
            <a:xfrm>
              <a:off x="21398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938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775480" y="3276720"/>
            <a:ext cx="701640" cy="519120"/>
            <a:chOff x="5775480" y="3276720"/>
            <a:chExt cx="701640" cy="519120"/>
          </a:xfrm>
        </p:grpSpPr>
        <p:sp>
          <p:nvSpPr>
            <p:cNvPr id="449" name=""/>
            <p:cNvSpPr/>
            <p:nvPr/>
          </p:nvSpPr>
          <p:spPr>
            <a:xfrm>
              <a:off x="57974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75480" y="327672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318280" y="3276720"/>
            <a:ext cx="701640" cy="519120"/>
            <a:chOff x="5318280" y="3276720"/>
            <a:chExt cx="701640" cy="519120"/>
          </a:xfrm>
        </p:grpSpPr>
        <p:sp>
          <p:nvSpPr>
            <p:cNvPr id="452" name=""/>
            <p:cNvSpPr/>
            <p:nvPr/>
          </p:nvSpPr>
          <p:spPr>
            <a:xfrm>
              <a:off x="53402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18280" y="327672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597040" y="3276720"/>
            <a:ext cx="444600" cy="519120"/>
            <a:chOff x="2597040" y="3276720"/>
            <a:chExt cx="444600" cy="519120"/>
          </a:xfrm>
        </p:grpSpPr>
        <p:sp>
          <p:nvSpPr>
            <p:cNvPr id="455" name=""/>
            <p:cNvSpPr/>
            <p:nvPr/>
          </p:nvSpPr>
          <p:spPr>
            <a:xfrm>
              <a:off x="25970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510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054240" y="3276720"/>
            <a:ext cx="444600" cy="519120"/>
            <a:chOff x="3054240" y="3276720"/>
            <a:chExt cx="444600" cy="519120"/>
          </a:xfrm>
        </p:grpSpPr>
        <p:sp>
          <p:nvSpPr>
            <p:cNvPr id="458" name=""/>
            <p:cNvSpPr/>
            <p:nvPr/>
          </p:nvSpPr>
          <p:spPr>
            <a:xfrm>
              <a:off x="30542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082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83040" y="3276720"/>
            <a:ext cx="444600" cy="519120"/>
            <a:chOff x="4883040" y="3276720"/>
            <a:chExt cx="444600" cy="519120"/>
          </a:xfrm>
        </p:grpSpPr>
        <p:sp>
          <p:nvSpPr>
            <p:cNvPr id="461" name=""/>
            <p:cNvSpPr/>
            <p:nvPr/>
          </p:nvSpPr>
          <p:spPr>
            <a:xfrm>
              <a:off x="48830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370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425840" y="3276720"/>
            <a:ext cx="444600" cy="519120"/>
            <a:chOff x="4425840" y="3276720"/>
            <a:chExt cx="444600" cy="519120"/>
          </a:xfrm>
        </p:grpSpPr>
        <p:sp>
          <p:nvSpPr>
            <p:cNvPr id="464" name=""/>
            <p:cNvSpPr/>
            <p:nvPr/>
          </p:nvSpPr>
          <p:spPr>
            <a:xfrm>
              <a:off x="44258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798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511440" y="3276720"/>
            <a:ext cx="444600" cy="519120"/>
            <a:chOff x="3511440" y="3276720"/>
            <a:chExt cx="444600" cy="519120"/>
          </a:xfrm>
        </p:grpSpPr>
        <p:sp>
          <p:nvSpPr>
            <p:cNvPr id="467" name=""/>
            <p:cNvSpPr/>
            <p:nvPr/>
          </p:nvSpPr>
          <p:spPr>
            <a:xfrm>
              <a:off x="35114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54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968640" y="3276720"/>
            <a:ext cx="444600" cy="519120"/>
            <a:chOff x="3968640" y="3276720"/>
            <a:chExt cx="444600" cy="519120"/>
          </a:xfrm>
        </p:grpSpPr>
        <p:sp>
          <p:nvSpPr>
            <p:cNvPr id="470" name=""/>
            <p:cNvSpPr/>
            <p:nvPr/>
          </p:nvSpPr>
          <p:spPr>
            <a:xfrm>
              <a:off x="3968640" y="335916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22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914400" y="48769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left and right groups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place Partitio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leftmost element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rightmost element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o the left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Place Partition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143000" y="1143000"/>
            <a:ext cx="5943600" cy="579960"/>
            <a:chOff x="1143000" y="1143000"/>
            <a:chExt cx="5943600" cy="579960"/>
          </a:xfrm>
        </p:grpSpPr>
        <p:grpSp>
          <p:nvGrpSpPr>
            <p:cNvPr id="477" name=""/>
            <p:cNvGrpSpPr/>
            <p:nvPr/>
          </p:nvGrpSpPr>
          <p:grpSpPr>
            <a:xfrm>
              <a:off x="1143000" y="1143000"/>
              <a:ext cx="5943600" cy="579960"/>
              <a:chOff x="1143000" y="1143000"/>
              <a:chExt cx="5943600" cy="579960"/>
            </a:xfrm>
          </p:grpSpPr>
          <p:sp>
            <p:nvSpPr>
              <p:cNvPr id="478" name=""/>
              <p:cNvSpPr/>
              <p:nvPr/>
            </p:nvSpPr>
            <p:spPr>
              <a:xfrm>
                <a:off x="1987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41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447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987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019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559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591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131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163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94040" y="11430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73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251240" y="1143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307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847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1879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419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451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991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023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563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59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13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43000" y="11430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987560" y="1143000"/>
              <a:ext cx="527040" cy="519120"/>
              <a:chOff x="1987560" y="1143000"/>
              <a:chExt cx="527040" cy="519120"/>
            </a:xfrm>
          </p:grpSpPr>
          <p:sp>
            <p:nvSpPr>
              <p:cNvPr id="502" name=""/>
              <p:cNvSpPr/>
              <p:nvPr/>
            </p:nvSpPr>
            <p:spPr>
              <a:xfrm>
                <a:off x="1987560" y="12254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2901960" y="1143000"/>
            <a:ext cx="527040" cy="519120"/>
            <a:chOff x="2901960" y="1143000"/>
            <a:chExt cx="527040" cy="519120"/>
          </a:xfrm>
        </p:grpSpPr>
        <p:sp>
          <p:nvSpPr>
            <p:cNvPr id="505" name=""/>
            <p:cNvSpPr/>
            <p:nvPr/>
          </p:nvSpPr>
          <p:spPr>
            <a:xfrm>
              <a:off x="2901960" y="122544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55960" y="11430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559560" y="1143000"/>
            <a:ext cx="527040" cy="519120"/>
            <a:chOff x="6559560" y="1143000"/>
            <a:chExt cx="527040" cy="519120"/>
          </a:xfrm>
        </p:grpSpPr>
        <p:sp>
          <p:nvSpPr>
            <p:cNvPr id="508" name=""/>
            <p:cNvSpPr/>
            <p:nvPr/>
          </p:nvSpPr>
          <p:spPr>
            <a:xfrm>
              <a:off x="6559560" y="122544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13560" y="11430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143000" y="2057400"/>
            <a:ext cx="5943600" cy="579960"/>
            <a:chOff x="1143000" y="2057400"/>
            <a:chExt cx="5943600" cy="579960"/>
          </a:xfrm>
        </p:grpSpPr>
        <p:grpSp>
          <p:nvGrpSpPr>
            <p:cNvPr id="511" name=""/>
            <p:cNvGrpSpPr/>
            <p:nvPr/>
          </p:nvGrpSpPr>
          <p:grpSpPr>
            <a:xfrm>
              <a:off x="1143000" y="2057400"/>
              <a:ext cx="5943600" cy="579960"/>
              <a:chOff x="1143000" y="2057400"/>
              <a:chExt cx="5943600" cy="579960"/>
            </a:xfrm>
          </p:grpSpPr>
          <p:sp>
            <p:nvSpPr>
              <p:cNvPr id="512" name=""/>
              <p:cNvSpPr/>
              <p:nvPr/>
            </p:nvSpPr>
            <p:spPr>
              <a:xfrm>
                <a:off x="1987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041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447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4987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019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559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3591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4131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163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94040" y="20574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273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51240" y="20574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307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847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879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419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6451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91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023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563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59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3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143000" y="20574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1987560" y="2057400"/>
              <a:ext cx="527040" cy="519120"/>
              <a:chOff x="1987560" y="2057400"/>
              <a:chExt cx="527040" cy="519120"/>
            </a:xfrm>
          </p:grpSpPr>
          <p:sp>
            <p:nvSpPr>
              <p:cNvPr id="536" name=""/>
              <p:cNvSpPr/>
              <p:nvPr/>
            </p:nvSpPr>
            <p:spPr>
              <a:xfrm>
                <a:off x="1987560" y="21398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41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3794040" y="2057400"/>
            <a:ext cx="625680" cy="519120"/>
            <a:chOff x="3794040" y="2057400"/>
            <a:chExt cx="625680" cy="519120"/>
          </a:xfrm>
        </p:grpSpPr>
        <p:sp>
          <p:nvSpPr>
            <p:cNvPr id="539" name=""/>
            <p:cNvSpPr/>
            <p:nvPr/>
          </p:nvSpPr>
          <p:spPr>
            <a:xfrm>
              <a:off x="3816360" y="213984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94040" y="205740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187960" y="2057400"/>
            <a:ext cx="527040" cy="519120"/>
            <a:chOff x="5187960" y="2057400"/>
            <a:chExt cx="527040" cy="519120"/>
          </a:xfrm>
        </p:grpSpPr>
        <p:sp>
          <p:nvSpPr>
            <p:cNvPr id="542" name=""/>
            <p:cNvSpPr/>
            <p:nvPr/>
          </p:nvSpPr>
          <p:spPr>
            <a:xfrm>
              <a:off x="5187960" y="213984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41960" y="20574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143000" y="2895480"/>
            <a:ext cx="5943600" cy="579960"/>
            <a:chOff x="1143000" y="2895480"/>
            <a:chExt cx="5943600" cy="579960"/>
          </a:xfrm>
        </p:grpSpPr>
        <p:grpSp>
          <p:nvGrpSpPr>
            <p:cNvPr id="545" name=""/>
            <p:cNvGrpSpPr/>
            <p:nvPr/>
          </p:nvGrpSpPr>
          <p:grpSpPr>
            <a:xfrm>
              <a:off x="1143000" y="2895480"/>
              <a:ext cx="5943600" cy="579960"/>
              <a:chOff x="1143000" y="2895480"/>
              <a:chExt cx="5943600" cy="579960"/>
            </a:xfrm>
          </p:grpSpPr>
          <p:sp>
            <p:nvSpPr>
              <p:cNvPr id="546" name=""/>
              <p:cNvSpPr/>
              <p:nvPr/>
            </p:nvSpPr>
            <p:spPr>
              <a:xfrm>
                <a:off x="1987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041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4447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987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9019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559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3591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4131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163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870360" y="289548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73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251240" y="289548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307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847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1879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165640" y="289548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451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6991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1023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1563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59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13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143000" y="289548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987560" y="2895480"/>
              <a:ext cx="527040" cy="519120"/>
              <a:chOff x="1987560" y="2895480"/>
              <a:chExt cx="527040" cy="519120"/>
            </a:xfrm>
          </p:grpSpPr>
          <p:sp>
            <p:nvSpPr>
              <p:cNvPr id="570" name=""/>
              <p:cNvSpPr/>
              <p:nvPr/>
            </p:nvSpPr>
            <p:spPr>
              <a:xfrm>
                <a:off x="1987560" y="297828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41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4251240" y="2895480"/>
            <a:ext cx="625680" cy="519120"/>
            <a:chOff x="4251240" y="2895480"/>
            <a:chExt cx="625680" cy="519120"/>
          </a:xfrm>
        </p:grpSpPr>
        <p:sp>
          <p:nvSpPr>
            <p:cNvPr id="573" name=""/>
            <p:cNvSpPr/>
            <p:nvPr/>
          </p:nvSpPr>
          <p:spPr>
            <a:xfrm>
              <a:off x="4273560" y="2978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51240" y="289548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730760" y="2895480"/>
            <a:ext cx="527040" cy="519120"/>
            <a:chOff x="4730760" y="2895480"/>
            <a:chExt cx="527040" cy="519120"/>
          </a:xfrm>
        </p:grpSpPr>
        <p:sp>
          <p:nvSpPr>
            <p:cNvPr id="576" name=""/>
            <p:cNvSpPr/>
            <p:nvPr/>
          </p:nvSpPr>
          <p:spPr>
            <a:xfrm>
              <a:off x="4730760" y="2978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84760" y="2895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143000" y="3733920"/>
            <a:ext cx="5943600" cy="579960"/>
            <a:chOff x="1143000" y="3733920"/>
            <a:chExt cx="5943600" cy="579960"/>
          </a:xfrm>
        </p:grpSpPr>
        <p:grpSp>
          <p:nvGrpSpPr>
            <p:cNvPr id="579" name=""/>
            <p:cNvGrpSpPr/>
            <p:nvPr/>
          </p:nvGrpSpPr>
          <p:grpSpPr>
            <a:xfrm>
              <a:off x="1143000" y="3733920"/>
              <a:ext cx="5943600" cy="579960"/>
              <a:chOff x="1143000" y="3733920"/>
              <a:chExt cx="5943600" cy="579960"/>
            </a:xfrm>
          </p:grpSpPr>
          <p:sp>
            <p:nvSpPr>
              <p:cNvPr id="580" name=""/>
              <p:cNvSpPr/>
              <p:nvPr/>
            </p:nvSpPr>
            <p:spPr>
              <a:xfrm>
                <a:off x="1987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41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447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987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019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9559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591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131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8163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70360" y="373392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273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27560" y="37339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307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632480" y="37339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1879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165640" y="37339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451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991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023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563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559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13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43000" y="373392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1987560" y="3733920"/>
              <a:ext cx="527040" cy="519120"/>
              <a:chOff x="1987560" y="3733920"/>
              <a:chExt cx="527040" cy="519120"/>
            </a:xfrm>
          </p:grpSpPr>
          <p:sp>
            <p:nvSpPr>
              <p:cNvPr id="604" name=""/>
              <p:cNvSpPr/>
              <p:nvPr/>
            </p:nvSpPr>
            <p:spPr>
              <a:xfrm>
                <a:off x="1987560" y="381636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41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4708440" y="3733920"/>
            <a:ext cx="625680" cy="519120"/>
            <a:chOff x="4708440" y="3733920"/>
            <a:chExt cx="625680" cy="519120"/>
          </a:xfrm>
        </p:grpSpPr>
        <p:sp>
          <p:nvSpPr>
            <p:cNvPr id="607" name=""/>
            <p:cNvSpPr/>
            <p:nvPr/>
          </p:nvSpPr>
          <p:spPr>
            <a:xfrm>
              <a:off x="4730760" y="38163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08440" y="373392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273560" y="3733920"/>
            <a:ext cx="527040" cy="519120"/>
            <a:chOff x="4273560" y="3733920"/>
            <a:chExt cx="527040" cy="519120"/>
          </a:xfrm>
        </p:grpSpPr>
        <p:sp>
          <p:nvSpPr>
            <p:cNvPr id="610" name=""/>
            <p:cNvSpPr/>
            <p:nvPr/>
          </p:nvSpPr>
          <p:spPr>
            <a:xfrm>
              <a:off x="4273560" y="381636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27560" y="373392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04920" y="472428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to left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erminate process. Swa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295280" y="5943600"/>
            <a:ext cx="5943600" cy="579960"/>
            <a:chOff x="1295280" y="5943600"/>
            <a:chExt cx="5943600" cy="579960"/>
          </a:xfrm>
        </p:grpSpPr>
        <p:grpSp>
          <p:nvGrpSpPr>
            <p:cNvPr id="614" name=""/>
            <p:cNvGrpSpPr/>
            <p:nvPr/>
          </p:nvGrpSpPr>
          <p:grpSpPr>
            <a:xfrm>
              <a:off x="1295280" y="5943600"/>
              <a:ext cx="5943600" cy="579960"/>
              <a:chOff x="1295280" y="5943600"/>
              <a:chExt cx="5943600" cy="579960"/>
            </a:xfrm>
          </p:grpSpPr>
          <p:sp>
            <p:nvSpPr>
              <p:cNvPr id="615" name=""/>
              <p:cNvSpPr/>
              <p:nvPr/>
            </p:nvSpPr>
            <p:spPr>
              <a:xfrm>
                <a:off x="62546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398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93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5970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6510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0542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082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5114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5654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686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022640" y="59436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79840" y="59436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402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318280" y="594360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974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514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3086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118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65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95280" y="59436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79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830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84760" y="59436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425840" y="5943600"/>
              <a:ext cx="527040" cy="519120"/>
              <a:chOff x="4425840" y="5943600"/>
              <a:chExt cx="527040" cy="519120"/>
            </a:xfrm>
          </p:grpSpPr>
          <p:sp>
            <p:nvSpPr>
              <p:cNvPr id="641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79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43434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is done by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ert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sor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grpSp>
          <p:nvGrpSpPr>
            <p:cNvPr id="63" name=""/>
            <p:cNvGrpSpPr/>
            <p:nvPr/>
          </p:nvGrpSpPr>
          <p:grpSpPr>
            <a:xfrm>
              <a:off x="304920" y="1523880"/>
              <a:ext cx="8533800" cy="1143000"/>
              <a:chOff x="304920" y="1523880"/>
              <a:chExt cx="8533800" cy="1143000"/>
            </a:xfrm>
          </p:grpSpPr>
          <p:sp>
            <p:nvSpPr>
              <p:cNvPr id="64" name=""/>
              <p:cNvSpPr/>
              <p:nvPr/>
            </p:nvSpPr>
            <p:spPr>
              <a:xfrm>
                <a:off x="609480" y="2133360"/>
                <a:ext cx="7391160" cy="5335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15238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48360" y="16761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09480" y="1600200"/>
              <a:ext cx="7162920" cy="1066680"/>
              <a:chOff x="609480" y="1600200"/>
              <a:chExt cx="7162920" cy="1066680"/>
            </a:xfrm>
          </p:grpSpPr>
          <p:sp>
            <p:nvSpPr>
              <p:cNvPr id="68" name=""/>
              <p:cNvSpPr/>
              <p:nvPr/>
            </p:nvSpPr>
            <p:spPr>
              <a:xfrm>
                <a:off x="609480" y="2133720"/>
                <a:ext cx="701028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1680" y="1600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620120" y="2133720"/>
              <a:ext cx="380880" cy="5331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partition an array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needed to 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|left|) + t(|right|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ximum whe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left|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|right|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ing each partitio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appens, for example, when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iv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ways the small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worst-case 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n-1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peated substitution to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case arises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left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right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equal (or differ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llowing each partiti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best case, the recurrence is the same as for merge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6108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best-cas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complexity is al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elp get partitions with almost equal size, change in-place swap ru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eftmost element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rightmost element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 the left of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ace is needed for the recursion stack. May be reduced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Exercise 19.2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mprove performance, define a small instance to be on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ay) and sort small instances using insertion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arrays.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5960" y="213336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a primitive data type are sorted using quick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 7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 &lt;= n &lt;= 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of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40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 median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ly spac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median of each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edian of th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d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arrays.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5960" y="213336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a nonprimitive data type are sorted using merge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 7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p merge when last elemen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elemen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lative order of elements with equal keys is not chang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sort is not s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a large instance into two smaller instances, first find the larg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st element defines one of the smaller instances; the rema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 the secon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sp>
          <p:nvSpPr>
            <p:cNvPr id="74" name=""/>
            <p:cNvSpPr/>
            <p:nvPr/>
          </p:nvSpPr>
          <p:spPr>
            <a:xfrm>
              <a:off x="609480" y="2133360"/>
              <a:ext cx="7391160" cy="533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1523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48360" y="1676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480" y="1600200"/>
            <a:ext cx="7162920" cy="1066680"/>
            <a:chOff x="609480" y="1600200"/>
            <a:chExt cx="7162920" cy="1066680"/>
          </a:xfrm>
        </p:grpSpPr>
        <p:sp>
          <p:nvSpPr>
            <p:cNvPr id="78" name=""/>
            <p:cNvSpPr/>
            <p:nvPr/>
          </p:nvSpPr>
          <p:spPr>
            <a:xfrm>
              <a:off x="609480" y="2133720"/>
              <a:ext cx="7010280" cy="533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816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620120" y="2133720"/>
            <a:ext cx="38088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ond smaller instanc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 the first smaller instance (largest element) to the right end of the sorte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grpSp>
          <p:nvGrpSpPr>
            <p:cNvPr id="84" name=""/>
            <p:cNvGrpSpPr/>
            <p:nvPr/>
          </p:nvGrpSpPr>
          <p:grpSpPr>
            <a:xfrm>
              <a:off x="304920" y="1523880"/>
              <a:ext cx="8533800" cy="1143000"/>
              <a:chOff x="304920" y="1523880"/>
              <a:chExt cx="85338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609480" y="2133360"/>
                <a:ext cx="7391160" cy="5335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4920" y="15238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48360" y="16761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09480" y="1600200"/>
              <a:ext cx="7162920" cy="1066680"/>
              <a:chOff x="609480" y="1600200"/>
              <a:chExt cx="7162920" cy="1066680"/>
            </a:xfrm>
          </p:grpSpPr>
          <p:sp>
            <p:nvSpPr>
              <p:cNvPr id="89" name=""/>
              <p:cNvSpPr/>
              <p:nvPr/>
            </p:nvSpPr>
            <p:spPr>
              <a:xfrm>
                <a:off x="609480" y="2133720"/>
                <a:ext cx="701028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81680" y="1600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620120" y="2133720"/>
              <a:ext cx="380880" cy="5331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bbl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bble sort may also be viewed as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vide-and-conqu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 sort, selection sort and bubble sort divide a large instance into one smaller instance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nother one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ree sort methods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-and-conquer algorithms generally have best complexity when a large instance is divided into smaller instances of approximately the sam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vide into two smaller instance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vide into two smaller instance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n/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define one of the smaller instances; rema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loor(n/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define the secon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f the two smaller instances 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rted smaller instances are combined using a process called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2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1, 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smallest elements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maller in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2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0:30Z</dcterms:modified>
  <cp:revision>141</cp:revision>
  <dc:subject/>
  <dc:title>Data Representation Methods</dc:title>
</cp:coreProperties>
</file>