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B10D-00D2-4AC2-AEB9-82025908F8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nstruct shortest paths from the computed p[]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to the problem consists of up to n paths. The greedy method suggests building these n paths in order of increasing length. First build the shortest of the up to n paths (I.e., the path to the nearest destination). Then build the second shortest path,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CF1-5C64-4BC0-9B0D-FADF073A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DD9-0992-4FDE-9A48-8833C22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BF0-A561-49CD-B78F-55ADFA08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96E-F728-4E63-A4DF-96CAC19B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9C3-FFC6-4957-8F2E-F8CD392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DEE-B109-4B6A-8885-A567F56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2F1-6748-4A9A-8640-540B991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FB5-EC1F-4ED5-A29B-440BFB1D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9D5-2C6A-4861-BF10-ECD5ED59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65C-636B-48AE-AA72-95B1BFBE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8FF-1C77-46FE-BA0A-0A3A3C5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DE0-C066-4A04-847B-72359E7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C185-B066-4618-9C42-31C2E5B9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sum of weights of edges on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begin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r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end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stin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stanceFromSource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length of a shortest one edge extension of an already generated shortest path, the one edge extension ends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hortest path is to an as yet unreached vertex for which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s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redecessor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shortest one edge extensio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413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42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426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430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82840" y="1432080"/>
            <a:ext cx="444600" cy="466560"/>
            <a:chOff x="3282840" y="1432080"/>
            <a:chExt cx="444600" cy="466560"/>
          </a:xfrm>
        </p:grpSpPr>
        <p:sp>
          <p:nvSpPr>
            <p:cNvPr id="434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43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442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45160" y="4883040"/>
            <a:ext cx="527040" cy="527040"/>
            <a:chOff x="5645160" y="4883040"/>
            <a:chExt cx="527040" cy="527040"/>
          </a:xfrm>
        </p:grpSpPr>
        <p:sp>
          <p:nvSpPr>
            <p:cNvPr id="457" name=""/>
            <p:cNvSpPr/>
            <p:nvPr/>
          </p:nvSpPr>
          <p:spPr>
            <a:xfrm>
              <a:off x="5645160" y="4883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9916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5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5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5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5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536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07080" y="2117880"/>
            <a:ext cx="444240" cy="466560"/>
            <a:chOff x="4807080" y="2117880"/>
            <a:chExt cx="444240" cy="466560"/>
          </a:xfrm>
        </p:grpSpPr>
        <p:sp>
          <p:nvSpPr>
            <p:cNvPr id="54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711840" y="1127160"/>
            <a:ext cx="444600" cy="466560"/>
            <a:chOff x="6711840" y="1127160"/>
            <a:chExt cx="444600" cy="466560"/>
          </a:xfrm>
        </p:grpSpPr>
        <p:sp>
          <p:nvSpPr>
            <p:cNvPr id="54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547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550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553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556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934320" y="4881600"/>
            <a:ext cx="47304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6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6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6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6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635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638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641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644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647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657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66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178680" y="4883040"/>
            <a:ext cx="755640" cy="527040"/>
            <a:chOff x="6178680" y="4883040"/>
            <a:chExt cx="755640" cy="527040"/>
          </a:xfrm>
        </p:grpSpPr>
        <p:sp>
          <p:nvSpPr>
            <p:cNvPr id="664" name=""/>
            <p:cNvSpPr/>
            <p:nvPr/>
          </p:nvSpPr>
          <p:spPr>
            <a:xfrm>
              <a:off x="61786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578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254640" y="5340240"/>
            <a:ext cx="755640" cy="527040"/>
            <a:chOff x="6254640" y="5340240"/>
            <a:chExt cx="755640" cy="527040"/>
          </a:xfrm>
        </p:grpSpPr>
        <p:sp>
          <p:nvSpPr>
            <p:cNvPr id="667" name=""/>
            <p:cNvSpPr/>
            <p:nvPr/>
          </p:nvSpPr>
          <p:spPr>
            <a:xfrm>
              <a:off x="6254640" y="5340240"/>
              <a:ext cx="7495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34200" y="5348160"/>
              <a:ext cx="6760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9528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71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720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723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740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746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749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752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755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758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767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774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3244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819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828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831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848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854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857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860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863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872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58760" y="6232680"/>
            <a:ext cx="3416400" cy="466560"/>
            <a:chOff x="158760" y="6232680"/>
            <a:chExt cx="3416400" cy="466560"/>
          </a:xfrm>
        </p:grpSpPr>
        <p:sp>
          <p:nvSpPr>
            <p:cNvPr id="878" name=""/>
            <p:cNvSpPr/>
            <p:nvPr/>
          </p:nvSpPr>
          <p:spPr>
            <a:xfrm>
              <a:off x="1587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24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49480" y="6254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0312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48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984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9348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0020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305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842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90920" y="6477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89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894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897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7620120" y="4876920"/>
            <a:ext cx="541080" cy="94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94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95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968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971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974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977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80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983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82440" y="4403880"/>
            <a:ext cx="2425680" cy="466560"/>
            <a:chOff x="82440" y="4403880"/>
            <a:chExt cx="2425680" cy="466560"/>
          </a:xfrm>
        </p:grpSpPr>
        <p:sp>
          <p:nvSpPr>
            <p:cNvPr id="986" name=""/>
            <p:cNvSpPr/>
            <p:nvPr/>
          </p:nvSpPr>
          <p:spPr>
            <a:xfrm>
              <a:off x="82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608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73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2680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3520" y="4648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638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1752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23880" y="46483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99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99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8386920" y="5342040"/>
            <a:ext cx="755640" cy="527040"/>
            <a:chOff x="8386920" y="5342040"/>
            <a:chExt cx="755640" cy="527040"/>
          </a:xfrm>
        </p:grpSpPr>
        <p:sp>
          <p:nvSpPr>
            <p:cNvPr id="1002" name=""/>
            <p:cNvSpPr/>
            <p:nvPr/>
          </p:nvSpPr>
          <p:spPr>
            <a:xfrm>
              <a:off x="8386920" y="5342040"/>
              <a:ext cx="749160" cy="44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466120" y="5349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6320" y="990720"/>
            <a:ext cx="4572000" cy="5632200"/>
            <a:chOff x="76320" y="990720"/>
            <a:chExt cx="4572000" cy="5632200"/>
          </a:xfrm>
        </p:grpSpPr>
        <p:sp>
          <p:nvSpPr>
            <p:cNvPr id="1006" name=""/>
            <p:cNvSpPr/>
            <p:nvPr/>
          </p:nvSpPr>
          <p:spPr>
            <a:xfrm>
              <a:off x="76320" y="9907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a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5080" y="1454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872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09880" y="14479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5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8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54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7908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5800" y="2438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09880" y="2133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50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7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2544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7908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5800" y="3124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9880" y="28954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1616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698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76520" y="3124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50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7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790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58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80988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50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7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254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790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58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09880" y="4267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161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698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765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068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605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668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50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87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254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790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58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5760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161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698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765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50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87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254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790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858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65760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161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698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765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06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605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668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52680" y="990720"/>
              <a:ext cx="129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324320" y="4052880"/>
            <a:ext cx="4818240" cy="1434960"/>
            <a:chOff x="4324320" y="4052880"/>
            <a:chExt cx="4818240" cy="1434960"/>
          </a:xfrm>
        </p:grpSpPr>
        <p:grpSp>
          <p:nvGrpSpPr>
            <p:cNvPr id="1066" name=""/>
            <p:cNvGrpSpPr/>
            <p:nvPr/>
          </p:nvGrpSpPr>
          <p:grpSpPr>
            <a:xfrm>
              <a:off x="4730760" y="4052880"/>
              <a:ext cx="4278240" cy="519120"/>
              <a:chOff x="4730760" y="4052880"/>
              <a:chExt cx="4278240" cy="519120"/>
            </a:xfrm>
          </p:grpSpPr>
          <p:sp>
            <p:nvSpPr>
              <p:cNvPr id="1067" name=""/>
              <p:cNvSpPr/>
              <p:nvPr/>
            </p:nvSpPr>
            <p:spPr>
              <a:xfrm>
                <a:off x="473076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1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4024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2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50080" y="4052880"/>
                <a:ext cx="6220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3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5632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4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5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77564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6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8512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7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4324320" y="4510080"/>
              <a:ext cx="420840" cy="976320"/>
              <a:chOff x="4324320" y="4510080"/>
              <a:chExt cx="420840" cy="976320"/>
            </a:xfrm>
          </p:grpSpPr>
          <p:sp>
            <p:nvSpPr>
              <p:cNvPr id="1075" name=""/>
              <p:cNvSpPr/>
              <p:nvPr/>
            </p:nvSpPr>
            <p:spPr>
              <a:xfrm>
                <a:off x="4324320" y="45100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24320" y="49672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79916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9916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7380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7380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8328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8328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38760" y="4510080"/>
              <a:ext cx="609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92760" y="4967280"/>
              <a:ext cx="41940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0260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0260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1208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208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99520" y="4510080"/>
              <a:ext cx="541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520120" y="4967280"/>
              <a:ext cx="420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7188120" y="4502160"/>
              <a:ext cx="466920" cy="527040"/>
              <a:chOff x="7188120" y="4502160"/>
              <a:chExt cx="466920" cy="527040"/>
            </a:xfrm>
          </p:grpSpPr>
          <p:sp>
            <p:nvSpPr>
              <p:cNvPr id="1092" name=""/>
              <p:cNvSpPr/>
              <p:nvPr/>
            </p:nvSpPr>
            <p:spPr>
              <a:xfrm>
                <a:off x="7188120" y="45021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236000" y="45100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188120" y="4959360"/>
              <a:ext cx="466920" cy="527040"/>
              <a:chOff x="7188120" y="4959360"/>
              <a:chExt cx="466920" cy="527040"/>
            </a:xfrm>
          </p:grpSpPr>
          <p:sp>
            <p:nvSpPr>
              <p:cNvPr id="1095" name=""/>
              <p:cNvSpPr/>
              <p:nvPr/>
            </p:nvSpPr>
            <p:spPr>
              <a:xfrm>
                <a:off x="718812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3600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7728120" y="4502160"/>
              <a:ext cx="671400" cy="527040"/>
              <a:chOff x="7728120" y="4502160"/>
              <a:chExt cx="671400" cy="527040"/>
            </a:xfrm>
          </p:grpSpPr>
          <p:sp>
            <p:nvSpPr>
              <p:cNvPr id="1098" name=""/>
              <p:cNvSpPr/>
              <p:nvPr/>
            </p:nvSpPr>
            <p:spPr>
              <a:xfrm>
                <a:off x="7728120" y="4502160"/>
                <a:ext cx="66492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9796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864560" y="4959360"/>
              <a:ext cx="466560" cy="527040"/>
              <a:chOff x="7864560" y="4959360"/>
              <a:chExt cx="466560" cy="527040"/>
            </a:xfrm>
          </p:grpSpPr>
          <p:sp>
            <p:nvSpPr>
              <p:cNvPr id="1101" name=""/>
              <p:cNvSpPr/>
              <p:nvPr/>
            </p:nvSpPr>
            <p:spPr>
              <a:xfrm>
                <a:off x="786456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1208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407440" y="4959360"/>
              <a:ext cx="669960" cy="527040"/>
              <a:chOff x="8407440" y="4959360"/>
              <a:chExt cx="669960" cy="527040"/>
            </a:xfrm>
          </p:grpSpPr>
          <p:sp>
            <p:nvSpPr>
              <p:cNvPr id="1107" name=""/>
              <p:cNvSpPr/>
              <p:nvPr/>
            </p:nvSpPr>
            <p:spPr>
              <a:xfrm>
                <a:off x="8407440" y="4959360"/>
                <a:ext cx="6634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75840" y="49672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8470800" y="4960800"/>
              <a:ext cx="671760" cy="527040"/>
              <a:chOff x="8470800" y="4960800"/>
              <a:chExt cx="671760" cy="527040"/>
            </a:xfrm>
          </p:grpSpPr>
          <p:sp>
            <p:nvSpPr>
              <p:cNvPr id="1113" name=""/>
              <p:cNvSpPr/>
              <p:nvPr/>
            </p:nvSpPr>
            <p:spPr>
              <a:xfrm>
                <a:off x="8470800" y="496080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42440" y="4968720"/>
                <a:ext cx="60012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single source all destinations greedy algorithm as soon as shortest path to desired vertex has been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ata Structures For Dijkstra’s Algorith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dy single source all destinations algorithm is known as Dijkstra’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1D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 to which shortest path is yet to be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nd remov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small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of vertices adjacent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54040" y="1889280"/>
            <a:ext cx="444600" cy="466560"/>
            <a:chOff x="1454040" y="1889280"/>
            <a:chExt cx="444600" cy="466560"/>
          </a:xfrm>
        </p:grpSpPr>
        <p:sp>
          <p:nvSpPr>
            <p:cNvPr id="93" name=""/>
            <p:cNvSpPr/>
            <p:nvPr/>
          </p:nvSpPr>
          <p:spPr>
            <a:xfrm>
              <a:off x="1454040" y="19112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07680" y="1889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007480" y="3489480"/>
            <a:ext cx="444240" cy="466560"/>
            <a:chOff x="8007480" y="3489480"/>
            <a:chExt cx="444240" cy="466560"/>
          </a:xfrm>
        </p:grpSpPr>
        <p:sp>
          <p:nvSpPr>
            <p:cNvPr id="96" name=""/>
            <p:cNvSpPr/>
            <p:nvPr/>
          </p:nvSpPr>
          <p:spPr>
            <a:xfrm>
              <a:off x="8007480" y="35114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lect next destination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out-degre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and update done once for each vertex to which a shortest path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e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min heap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in place of the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,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(n+e)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ca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operation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ke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) operations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a min heap is worse than using a linear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ibonacci heap is used, the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singl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all dest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airs (every vertex is a source and destin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greedy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source vertex using cheapest/shorte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new vertex using cheapest edge subject to the constraint that a new vertex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until destination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hortest 1 To 7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hortest path. Algorithm doesn’t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generate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umber of vertices) paths (including path from source to itsel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these up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s in order of increasing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edge costs (lengths)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no path has leng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hortest path is from the source vertex to itself. The length of this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26708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4343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1040" y="4861080"/>
            <a:ext cx="2889360" cy="534960"/>
            <a:chOff x="311040" y="4861080"/>
            <a:chExt cx="2889360" cy="534960"/>
          </a:xfrm>
        </p:grpSpPr>
        <p:sp>
          <p:nvSpPr>
            <p:cNvPr id="240" name=""/>
            <p:cNvSpPr/>
            <p:nvPr/>
          </p:nvSpPr>
          <p:spPr>
            <a:xfrm>
              <a:off x="311040" y="4883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80" y="486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520" y="4876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1040" y="5410080"/>
            <a:ext cx="2889360" cy="527040"/>
            <a:chOff x="311040" y="5410080"/>
            <a:chExt cx="2889360" cy="527040"/>
          </a:xfrm>
        </p:grpSpPr>
        <p:sp>
          <p:nvSpPr>
            <p:cNvPr id="244" name=""/>
            <p:cNvSpPr/>
            <p:nvPr/>
          </p:nvSpPr>
          <p:spPr>
            <a:xfrm>
              <a:off x="31104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68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0176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5540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715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1952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1040" y="6095880"/>
            <a:ext cx="2889360" cy="527040"/>
            <a:chOff x="311040" y="6095880"/>
            <a:chExt cx="2889360" cy="527040"/>
          </a:xfrm>
        </p:grpSpPr>
        <p:sp>
          <p:nvSpPr>
            <p:cNvPr id="251" name=""/>
            <p:cNvSpPr/>
            <p:nvPr/>
          </p:nvSpPr>
          <p:spPr>
            <a:xfrm>
              <a:off x="311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01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55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60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2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6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2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02160" y="4343400"/>
            <a:ext cx="4336920" cy="603360"/>
            <a:chOff x="4502160" y="4343400"/>
            <a:chExt cx="4336920" cy="603360"/>
          </a:xfrm>
        </p:grpSpPr>
        <p:sp>
          <p:nvSpPr>
            <p:cNvPr id="261" name=""/>
            <p:cNvSpPr/>
            <p:nvPr/>
          </p:nvSpPr>
          <p:spPr>
            <a:xfrm>
              <a:off x="45021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58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928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65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28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5820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502160" y="5105520"/>
            <a:ext cx="4336920" cy="527040"/>
            <a:chOff x="4502160" y="5105520"/>
            <a:chExt cx="4336920" cy="527040"/>
          </a:xfrm>
        </p:grpSpPr>
        <p:sp>
          <p:nvSpPr>
            <p:cNvPr id="268" name=""/>
            <p:cNvSpPr/>
            <p:nvPr/>
          </p:nvSpPr>
          <p:spPr>
            <a:xfrm>
              <a:off x="4502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558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2880" y="5187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4652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5105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324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688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739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76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410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02160" y="5715000"/>
            <a:ext cx="4336920" cy="527040"/>
            <a:chOff x="4502160" y="5715000"/>
            <a:chExt cx="4336920" cy="527040"/>
          </a:xfrm>
        </p:grpSpPr>
        <p:sp>
          <p:nvSpPr>
            <p:cNvPr id="281" name=""/>
            <p:cNvSpPr/>
            <p:nvPr/>
          </p:nvSpPr>
          <p:spPr>
            <a:xfrm>
              <a:off x="450216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580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2880" y="5797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4652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5715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324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3688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360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02160" y="6248520"/>
            <a:ext cx="4336920" cy="527040"/>
            <a:chOff x="4502160" y="6248520"/>
            <a:chExt cx="4336920" cy="527040"/>
          </a:xfrm>
        </p:grpSpPr>
        <p:sp>
          <p:nvSpPr>
            <p:cNvPr id="291" name=""/>
            <p:cNvSpPr/>
            <p:nvPr/>
          </p:nvSpPr>
          <p:spPr>
            <a:xfrm>
              <a:off x="45021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558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2880" y="6330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4652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288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29600" y="6248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324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3688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360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739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76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6553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9907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914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680" y="1454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32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6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732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4040" y="2216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0768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243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36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73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404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768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895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476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9840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3124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3680" y="3429000"/>
            <a:ext cx="4336920" cy="603360"/>
            <a:chOff x="463680" y="3429000"/>
            <a:chExt cx="4336920" cy="603360"/>
          </a:xfrm>
        </p:grpSpPr>
        <p:sp>
          <p:nvSpPr>
            <p:cNvPr id="326" name=""/>
            <p:cNvSpPr/>
            <p:nvPr/>
          </p:nvSpPr>
          <p:spPr>
            <a:xfrm>
              <a:off x="4636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73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540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076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3429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63680" y="4267080"/>
            <a:ext cx="4336920" cy="527040"/>
            <a:chOff x="463680" y="4267080"/>
            <a:chExt cx="4336920" cy="527040"/>
          </a:xfrm>
        </p:grpSpPr>
        <p:sp>
          <p:nvSpPr>
            <p:cNvPr id="33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73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40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76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1972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984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891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63680" y="5181480"/>
            <a:ext cx="4336920" cy="527040"/>
            <a:chOff x="463680" y="5181480"/>
            <a:chExt cx="4336920" cy="527040"/>
          </a:xfrm>
        </p:grpSpPr>
        <p:sp>
          <p:nvSpPr>
            <p:cNvPr id="346" name=""/>
            <p:cNvSpPr/>
            <p:nvPr/>
          </p:nvSpPr>
          <p:spPr>
            <a:xfrm>
              <a:off x="4636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3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40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76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44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112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47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3680" y="6095880"/>
            <a:ext cx="4336920" cy="527040"/>
            <a:chOff x="463680" y="6095880"/>
            <a:chExt cx="4336920" cy="527040"/>
          </a:xfrm>
        </p:grpSpPr>
        <p:sp>
          <p:nvSpPr>
            <p:cNvPr id="356" name=""/>
            <p:cNvSpPr/>
            <p:nvPr/>
          </p:nvSpPr>
          <p:spPr>
            <a:xfrm>
              <a:off x="4636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73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54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07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144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9112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4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8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5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89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334120" y="1371600"/>
            <a:ext cx="37335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th (other than first) is a one edge extension of a previous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hortest path is the shortest one edge extension of an already generated shortest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14:20Z</dcterms:modified>
  <cp:revision>85</cp:revision>
  <dc:subject/>
  <dc:title>Data Representation Methods</dc:title>
</cp:coreProperties>
</file>