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gif" ContentType="image/gif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2.gif" ContentType="image/gif"/>
  <Override PartName="/ppt/media/image7.gif" ContentType="image/gif"/>
  <Override PartName="/ppt/media/image4.png" ContentType="image/png"/>
  <Override PartName="/ppt/media/image1.gif" ContentType="image/gif"/>
  <Override PartName="/ppt/media/image3.gif" ContentType="image/gif"/>
  <Override PartName="/ppt/media/image6.png" ContentType="image/png"/>
  <Override PartName="/ppt/media/image26.wmf" ContentType="image/x-wmf"/>
  <Override PartName="/ppt/media/image25.png" ContentType="image/png"/>
  <Override PartName="/ppt/media/image22.gif" ContentType="image/gif"/>
  <Override PartName="/ppt/media/image2.gif" ContentType="image/gif"/>
  <Override PartName="/ppt/media/image23.png" ContentType="image/png"/>
  <Override PartName="/ppt/media/image20.gif" ContentType="image/gif"/>
  <Override PartName="/ppt/media/image21.gif" ContentType="image/gif"/>
  <Override PartName="/ppt/media/image24.png" ContentType="image/png"/>
  <Override PartName="/ppt/media/image19.gif" ContentType="image/gif"/>
  <Override PartName="/ppt/media/image17.gif" ContentType="image/gif"/>
  <Override PartName="/ppt/media/image16.png" ContentType="image/png"/>
  <Override PartName="/ppt/media/image18.png" ContentType="image/png"/>
  <Override PartName="/ppt/media/image15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376F9A-A046-4D57-A140-A20D024404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ruck lo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ship loading to maximize earnings. Each container has a weight and pro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094-E388-43EE-A814-BC05C053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C2C-1AA0-4496-AE6E-06499AB3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CF8-4ED4-4193-B420-0983A6A0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F9A-6728-473C-AF9E-FB9070D7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D8B-C7DF-4B9E-93D3-59666027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1EC-7C08-4A25-9C0C-6E6D3B70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630-5D57-4BC1-B385-5C4B1A1F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45B-BC75-49AC-A1EE-DBC29760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B9D-70FE-4D72-8D43-94E4043C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D7F-8D6C-4288-BCC6-6889F56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EDB-8CF2-413B-8A4F-04BC9E67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9A8-93B3-4883-B9BF-A9A258D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CA41-1CFB-4262-8D89-3130822CE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gif"/><Relationship Id="rId12" Type="http://schemas.openxmlformats.org/officeDocument/2006/relationships/image" Target="../media/image16.png"/><Relationship Id="rId13" Type="http://schemas.openxmlformats.org/officeDocument/2006/relationships/image" Target="../media/image17.gif"/><Relationship Id="rId14" Type="http://schemas.openxmlformats.org/officeDocument/2006/relationships/image" Target="../media/image18.png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ZW not on syllab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3% / 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d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4573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Cost 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panning tree that has minimum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m of edg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lec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of the give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ected edges must form 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easible And Optimal Solu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easible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olution that satisfies the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al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easible solution that optimizes the objective/optimiz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problem by making a 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are made one by one in som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ecision is made using a greedy criter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, once made, is (usually) not changed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jobs  one by one and in decreasing order of process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is scheduled on the machine on which it finishes earli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decisions are made serially using a greedy criterion (minimize finish time of this jo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PT scheduling is an application of the greedy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does not guarantee minimum finish time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LPT Finish Time)/(Minimum Finish Time) &lt;= 4/3 - 1/(3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inish time scheduling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the greedy method does not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 does, however, give us a good heuristic for machine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p has 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rs are available for lo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of contain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weight is a positiv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container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s many containers as is possible without sinking the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140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141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166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containers in increasing order of weight until we get to a container that doesn’t 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greedy algorithm always load the maximum number of contain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. May be proved using a proof by induction (see tex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193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194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219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 With 2 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ll containers be loaded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ips whose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ach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in pack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sufficient for all i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machine schedul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l jobs be complet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uni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SHIP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7" name="SHIP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971800" y="1600200"/>
            <a:ext cx="5638320" cy="299520"/>
            <a:chOff x="2971800" y="1600200"/>
            <a:chExt cx="5638320" cy="299520"/>
          </a:xfrm>
        </p:grpSpPr>
        <p:grpSp>
          <p:nvGrpSpPr>
            <p:cNvPr id="249" name=""/>
            <p:cNvGrpSpPr/>
            <p:nvPr/>
          </p:nvGrpSpPr>
          <p:grpSpPr>
            <a:xfrm>
              <a:off x="2971800" y="1600200"/>
              <a:ext cx="2742840" cy="299520"/>
              <a:chOff x="2971800" y="1600200"/>
              <a:chExt cx="2742840" cy="299520"/>
            </a:xfrm>
          </p:grpSpPr>
          <p:sp>
            <p:nvSpPr>
              <p:cNvPr id="250" name=""/>
              <p:cNvSpPr/>
              <p:nvPr/>
            </p:nvSpPr>
            <p:spPr>
              <a:xfrm>
                <a:off x="3011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46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81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16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51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86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4218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569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92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27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62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597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71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06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41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7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912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47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826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177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2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87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22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58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867280" y="1600200"/>
              <a:ext cx="2742840" cy="299520"/>
              <a:chOff x="5867280" y="1600200"/>
              <a:chExt cx="2742840" cy="299520"/>
            </a:xfrm>
          </p:grpSpPr>
          <p:sp>
            <p:nvSpPr>
              <p:cNvPr id="275" name=""/>
              <p:cNvSpPr/>
              <p:nvPr/>
            </p:nvSpPr>
            <p:spPr>
              <a:xfrm>
                <a:off x="5906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41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76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611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468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819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17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52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87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22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257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92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7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02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37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72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076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426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78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13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48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83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18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453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0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301" name="BOOK003" descr=""/>
          <p:cNvPicPr/>
          <p:nvPr/>
        </p:nvPicPr>
        <p:blipFill>
          <a:blip r:embed="rId2"/>
          <a:stretch/>
        </p:blipFill>
        <p:spPr>
          <a:xfrm>
            <a:off x="3962520" y="5029200"/>
            <a:ext cx="250560" cy="320760"/>
          </a:xfrm>
          <a:prstGeom prst="rect">
            <a:avLst/>
          </a:prstGeom>
          <a:ln w="0">
            <a:noFill/>
          </a:ln>
        </p:spPr>
      </p:pic>
      <p:pic>
        <p:nvPicPr>
          <p:cNvPr id="302" name="CAMERA24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457200" cy="571680"/>
          </a:xfrm>
          <a:prstGeom prst="rect">
            <a:avLst/>
          </a:prstGeom>
          <a:ln w="0">
            <a:noFill/>
          </a:ln>
        </p:spPr>
      </p:pic>
      <p:pic>
        <p:nvPicPr>
          <p:cNvPr id="303" name="CELLO" descr=""/>
          <p:cNvPicPr/>
          <p:nvPr/>
        </p:nvPicPr>
        <p:blipFill>
          <a:blip r:embed="rId4"/>
          <a:stretch/>
        </p:blipFill>
        <p:spPr>
          <a:xfrm>
            <a:off x="5334120" y="470844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1219320" y="4038480"/>
            <a:ext cx="685800" cy="1096920"/>
            <a:chOff x="1219320" y="4038480"/>
            <a:chExt cx="685800" cy="1096920"/>
          </a:xfrm>
        </p:grpSpPr>
        <p:sp>
          <p:nvSpPr>
            <p:cNvPr id="305" name=""/>
            <p:cNvSpPr/>
            <p:nvPr/>
          </p:nvSpPr>
          <p:spPr>
            <a:xfrm>
              <a:off x="1219320" y="4038480"/>
              <a:ext cx="685800" cy="1096920"/>
            </a:xfrm>
            <a:custGeom>
              <a:avLst/>
              <a:gdLst/>
              <a:ahLst/>
              <a:rect l="l" t="t" r="r" b="b"/>
              <a:pathLst>
                <a:path w="1167" h="2001">
                  <a:moveTo>
                    <a:pt x="722" y="0"/>
                  </a:moveTo>
                  <a:cubicBezTo>
                    <a:pt x="707" y="61"/>
                    <a:pt x="689" y="112"/>
                    <a:pt x="643" y="158"/>
                  </a:cubicBezTo>
                  <a:cubicBezTo>
                    <a:pt x="616" y="185"/>
                    <a:pt x="581" y="201"/>
                    <a:pt x="553" y="226"/>
                  </a:cubicBezTo>
                  <a:cubicBezTo>
                    <a:pt x="517" y="258"/>
                    <a:pt x="497" y="278"/>
                    <a:pt x="451" y="294"/>
                  </a:cubicBezTo>
                  <a:cubicBezTo>
                    <a:pt x="385" y="342"/>
                    <a:pt x="314" y="376"/>
                    <a:pt x="259" y="440"/>
                  </a:cubicBezTo>
                  <a:cubicBezTo>
                    <a:pt x="170" y="544"/>
                    <a:pt x="114" y="693"/>
                    <a:pt x="79" y="824"/>
                  </a:cubicBezTo>
                  <a:cubicBezTo>
                    <a:pt x="69" y="861"/>
                    <a:pt x="68" y="900"/>
                    <a:pt x="56" y="937"/>
                  </a:cubicBezTo>
                  <a:cubicBezTo>
                    <a:pt x="52" y="948"/>
                    <a:pt x="49" y="960"/>
                    <a:pt x="45" y="971"/>
                  </a:cubicBezTo>
                  <a:cubicBezTo>
                    <a:pt x="29" y="1104"/>
                    <a:pt x="41" y="1040"/>
                    <a:pt x="11" y="1163"/>
                  </a:cubicBezTo>
                  <a:cubicBezTo>
                    <a:pt x="7" y="1178"/>
                    <a:pt x="0" y="1208"/>
                    <a:pt x="0" y="1208"/>
                  </a:cubicBezTo>
                  <a:cubicBezTo>
                    <a:pt x="9" y="1383"/>
                    <a:pt x="13" y="1536"/>
                    <a:pt x="113" y="1683"/>
                  </a:cubicBezTo>
                  <a:cubicBezTo>
                    <a:pt x="155" y="1812"/>
                    <a:pt x="348" y="1907"/>
                    <a:pt x="474" y="1931"/>
                  </a:cubicBezTo>
                  <a:cubicBezTo>
                    <a:pt x="578" y="2001"/>
                    <a:pt x="662" y="1955"/>
                    <a:pt x="801" y="1942"/>
                  </a:cubicBezTo>
                  <a:cubicBezTo>
                    <a:pt x="927" y="1901"/>
                    <a:pt x="1057" y="1813"/>
                    <a:pt x="1106" y="1683"/>
                  </a:cubicBezTo>
                  <a:cubicBezTo>
                    <a:pt x="1117" y="1653"/>
                    <a:pt x="1130" y="1623"/>
                    <a:pt x="1140" y="1592"/>
                  </a:cubicBezTo>
                  <a:cubicBezTo>
                    <a:pt x="1150" y="1563"/>
                    <a:pt x="1163" y="1502"/>
                    <a:pt x="1163" y="1502"/>
                  </a:cubicBezTo>
                  <a:cubicBezTo>
                    <a:pt x="1159" y="1393"/>
                    <a:pt x="1167" y="1282"/>
                    <a:pt x="1152" y="1174"/>
                  </a:cubicBezTo>
                  <a:cubicBezTo>
                    <a:pt x="1147" y="1141"/>
                    <a:pt x="1121" y="1114"/>
                    <a:pt x="1106" y="1084"/>
                  </a:cubicBezTo>
                  <a:cubicBezTo>
                    <a:pt x="1075" y="1024"/>
                    <a:pt x="1047" y="963"/>
                    <a:pt x="1016" y="903"/>
                  </a:cubicBezTo>
                  <a:cubicBezTo>
                    <a:pt x="982" y="836"/>
                    <a:pt x="967" y="758"/>
                    <a:pt x="937" y="689"/>
                  </a:cubicBezTo>
                  <a:cubicBezTo>
                    <a:pt x="918" y="645"/>
                    <a:pt x="887" y="609"/>
                    <a:pt x="869" y="565"/>
                  </a:cubicBezTo>
                  <a:cubicBezTo>
                    <a:pt x="839" y="489"/>
                    <a:pt x="822" y="406"/>
                    <a:pt x="801" y="327"/>
                  </a:cubicBezTo>
                  <a:cubicBezTo>
                    <a:pt x="805" y="282"/>
                    <a:pt x="804" y="236"/>
                    <a:pt x="813" y="192"/>
                  </a:cubicBezTo>
                  <a:cubicBezTo>
                    <a:pt x="823" y="144"/>
                    <a:pt x="902" y="114"/>
                    <a:pt x="937" y="79"/>
                  </a:cubicBezTo>
                  <a:cubicBezTo>
                    <a:pt x="896" y="71"/>
                    <a:pt x="854" y="66"/>
                    <a:pt x="813" y="56"/>
                  </a:cubicBezTo>
                  <a:cubicBezTo>
                    <a:pt x="790" y="50"/>
                    <a:pt x="745" y="34"/>
                    <a:pt x="745" y="34"/>
                  </a:cubicBezTo>
                  <a:cubicBezTo>
                    <a:pt x="737" y="23"/>
                    <a:pt x="722" y="0"/>
                    <a:pt x="722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6" name="TOPARROW" descr=""/>
            <p:cNvPicPr/>
            <p:nvPr/>
          </p:nvPicPr>
          <p:blipFill>
            <a:blip r:embed="rId5"/>
            <a:stretch/>
          </p:blipFill>
          <p:spPr>
            <a:xfrm>
              <a:off x="1487880" y="4651200"/>
              <a:ext cx="126720" cy="1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7" name="BEARANIM" descr=""/>
          <p:cNvPicPr/>
          <p:nvPr/>
        </p:nvPicPr>
        <p:blipFill>
          <a:blip r:embed="rId6"/>
          <a:stretch/>
        </p:blipFill>
        <p:spPr>
          <a:xfrm>
            <a:off x="3886200" y="4287960"/>
            <a:ext cx="685800" cy="39852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6248520" y="2743200"/>
            <a:ext cx="1901880" cy="2552760"/>
            <a:chOff x="6248520" y="2743200"/>
            <a:chExt cx="1901880" cy="2552760"/>
          </a:xfrm>
        </p:grpSpPr>
        <p:pic>
          <p:nvPicPr>
            <p:cNvPr id="309" name="APPLE" descr=""/>
            <p:cNvPicPr/>
            <p:nvPr/>
          </p:nvPicPr>
          <p:blipFill>
            <a:blip r:embed="rId7"/>
            <a:stretch/>
          </p:blipFill>
          <p:spPr>
            <a:xfrm>
              <a:off x="6248520" y="4952880"/>
              <a:ext cx="342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CAN1" descr=""/>
            <p:cNvPicPr/>
            <p:nvPr/>
          </p:nvPicPr>
          <p:blipFill>
            <a:blip r:embed="rId8"/>
            <a:stretch/>
          </p:blipFill>
          <p:spPr>
            <a:xfrm>
              <a:off x="6858000" y="4800600"/>
              <a:ext cx="39672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ENVELOP2" descr=""/>
            <p:cNvPicPr/>
            <p:nvPr/>
          </p:nvPicPr>
          <p:blipFill>
            <a:blip r:embed="rId9"/>
            <a:stretch/>
          </p:blipFill>
          <p:spPr>
            <a:xfrm>
              <a:off x="7696080" y="4876920"/>
              <a:ext cx="3430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DOCBAG3" descr=""/>
            <p:cNvPicPr/>
            <p:nvPr/>
          </p:nvPicPr>
          <p:blipFill>
            <a:blip r:embed="rId10"/>
            <a:stretch/>
          </p:blipFill>
          <p:spPr>
            <a:xfrm>
              <a:off x="6324480" y="4495680"/>
              <a:ext cx="32076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WHACKY" descr=""/>
            <p:cNvPicPr/>
            <p:nvPr/>
          </p:nvPicPr>
          <p:blipFill>
            <a:blip r:embed="rId11"/>
            <a:stretch/>
          </p:blipFill>
          <p:spPr>
            <a:xfrm>
              <a:off x="6858000" y="4343400"/>
              <a:ext cx="52380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NEWSPAP1" descr=""/>
            <p:cNvPicPr/>
            <p:nvPr/>
          </p:nvPicPr>
          <p:blipFill>
            <a:blip r:embed="rId12"/>
            <a:stretch/>
          </p:blipFill>
          <p:spPr>
            <a:xfrm>
              <a:off x="7620120" y="4343400"/>
              <a:ext cx="3888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UNUS_GLO" descr=""/>
            <p:cNvPicPr/>
            <p:nvPr/>
          </p:nvPicPr>
          <p:blipFill>
            <a:blip r:embed="rId13"/>
            <a:stretch/>
          </p:blipFill>
          <p:spPr>
            <a:xfrm>
              <a:off x="6248520" y="3733920"/>
              <a:ext cx="50616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BASKBALL" descr=""/>
            <p:cNvPicPr/>
            <p:nvPr/>
          </p:nvPicPr>
          <p:blipFill>
            <a:blip r:embed="rId14"/>
            <a:stretch/>
          </p:blipFill>
          <p:spPr>
            <a:xfrm>
              <a:off x="6934320" y="3962520"/>
              <a:ext cx="2062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BBQ" descr=""/>
            <p:cNvPicPr/>
            <p:nvPr/>
          </p:nvPicPr>
          <p:blipFill>
            <a:blip r:embed="rId15"/>
            <a:stretch/>
          </p:blipFill>
          <p:spPr>
            <a:xfrm>
              <a:off x="7467480" y="38098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KETTLE6" descr=""/>
            <p:cNvPicPr/>
            <p:nvPr/>
          </p:nvPicPr>
          <p:blipFill>
            <a:blip r:embed="rId16"/>
            <a:stretch/>
          </p:blipFill>
          <p:spPr>
            <a:xfrm>
              <a:off x="6248520" y="3276720"/>
              <a:ext cx="50328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TOASTER2" descr=""/>
            <p:cNvPicPr/>
            <p:nvPr/>
          </p:nvPicPr>
          <p:blipFill>
            <a:blip r:embed="rId17"/>
            <a:stretch/>
          </p:blipFill>
          <p:spPr>
            <a:xfrm>
              <a:off x="6934320" y="3276720"/>
              <a:ext cx="5587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COMPASS" descr=""/>
            <p:cNvPicPr/>
            <p:nvPr/>
          </p:nvPicPr>
          <p:blipFill>
            <a:blip r:embed="rId18"/>
            <a:stretch/>
          </p:blipFill>
          <p:spPr>
            <a:xfrm>
              <a:off x="7696080" y="3352680"/>
              <a:ext cx="41940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SEARCH" descr=""/>
            <p:cNvPicPr/>
            <p:nvPr/>
          </p:nvPicPr>
          <p:blipFill>
            <a:blip r:embed="rId19"/>
            <a:stretch/>
          </p:blipFill>
          <p:spPr>
            <a:xfrm>
              <a:off x="6324480" y="2819520"/>
              <a:ext cx="2588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LAPTOP" descr=""/>
            <p:cNvPicPr/>
            <p:nvPr/>
          </p:nvPicPr>
          <p:blipFill>
            <a:blip r:embed="rId20"/>
            <a:stretch/>
          </p:blipFill>
          <p:spPr>
            <a:xfrm>
              <a:off x="6858000" y="2743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VIDCAM01" descr=""/>
            <p:cNvPicPr/>
            <p:nvPr/>
          </p:nvPicPr>
          <p:blipFill>
            <a:blip r:embed="rId21"/>
            <a:stretch/>
          </p:blipFill>
          <p:spPr>
            <a:xfrm>
              <a:off x="7772400" y="2819520"/>
              <a:ext cx="378000" cy="27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2244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ker wishes to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on a tr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ght of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s are to be carried in a knapsack whose weight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can be carried in the knaps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me items must be lef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tems should be taken/le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Level (40%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73560" y="1835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9840" y="2825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3240" y="2825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36640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0196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64280" y="36640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213372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213372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920" y="320040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320040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638680" y="327672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37720" y="403848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03848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7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41148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737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038480"/>
            <a:ext cx="3812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94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03480" y="55926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447920" y="51055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7760" y="4578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41148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assigns a profit/valu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e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eights and profits are posi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wants to select a subse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to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of the subset should not exceed the capacity of the knapsack.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select a fraction of an ite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ubset  is the sum of the profits of the selected items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fun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elected subset should be maximu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criter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 and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28800" y="2666880"/>
            <a:ext cx="4343400" cy="1342080"/>
            <a:chOff x="1828800" y="2666880"/>
            <a:chExt cx="4343400" cy="1342080"/>
          </a:xfrm>
        </p:grpSpPr>
        <p:sp>
          <p:nvSpPr>
            <p:cNvPr id="333" name=""/>
            <p:cNvSpPr/>
            <p:nvPr/>
          </p:nvSpPr>
          <p:spPr>
            <a:xfrm>
              <a:off x="3668760" y="32004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34290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57600" y="26668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95680" y="2971800"/>
              <a:ext cx="16765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28800" y="3124080"/>
              <a:ext cx="19810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aximiz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962520"/>
            <a:ext cx="5105520" cy="1341720"/>
            <a:chOff x="1752480" y="3962520"/>
            <a:chExt cx="5105520" cy="1341720"/>
          </a:xfrm>
        </p:grpSpPr>
        <p:sp>
          <p:nvSpPr>
            <p:cNvPr id="339" name=""/>
            <p:cNvSpPr/>
            <p:nvPr/>
          </p:nvSpPr>
          <p:spPr>
            <a:xfrm>
              <a:off x="3592440" y="449568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472428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39625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19720" y="4267080"/>
              <a:ext cx="24382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w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lt;=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52480" y="4419720"/>
              <a:ext cx="182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bject 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981080" y="533412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capacity uti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increasing order of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2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3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7, 3, 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8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hen selecting a fraction of an item is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, if next item doesn’t fit take a fraction so as to fill knaps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/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ite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wit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weight of this subse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scard the sub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ubset w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ill as much of the remaining capacity as possible by being greedy on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ms and select the one that yields maximum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2465280"/>
            <a:ext cx="9143640" cy="4393080"/>
            <a:chOff x="0" y="2465280"/>
            <a:chExt cx="9143640" cy="4393080"/>
          </a:xfrm>
        </p:grpSpPr>
        <p:graphicFrame>
          <p:nvGraphicFramePr>
            <p:cNvPr id="359" name=""/>
            <p:cNvGraphicFramePr/>
            <p:nvPr/>
          </p:nvGraphicFramePr>
          <p:xfrm>
            <a:off x="72360" y="2465280"/>
            <a:ext cx="8762760" cy="4037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60" y="2465280"/>
                      <a:ext cx="8762760" cy="403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1" name=""/>
            <p:cNvSpPr/>
            <p:nvPr/>
          </p:nvSpPr>
          <p:spPr>
            <a:xfrm>
              <a:off x="0" y="6278400"/>
              <a:ext cx="914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umber of solutions (out of 600) within x% of bes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ort into decreasing order of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ets with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a subset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Min (74%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ed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the cutof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of two sc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Tu or 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up exam tonight, CSE 4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gorithm Design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and conqu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tr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 and b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POT-R" descr=""/>
          <p:cNvPicPr/>
          <p:nvPr/>
        </p:nvPicPr>
        <p:blipFill>
          <a:blip r:embed="rId1"/>
          <a:stretch/>
        </p:blipFill>
        <p:spPr>
          <a:xfrm>
            <a:off x="7658280" y="11430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117" name="SPOT-L" descr=""/>
          <p:cNvPicPr/>
          <p:nvPr/>
        </p:nvPicPr>
        <p:blipFill>
          <a:blip r:embed="rId2"/>
          <a:stretch/>
        </p:blipFill>
        <p:spPr>
          <a:xfrm>
            <a:off x="0" y="1143000"/>
            <a:ext cx="1486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Methods Not Cove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d Ann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u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timiz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blem in which some function (called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iz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bjective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o be optimized (usually minimized or maximized) subject to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the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nis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job is scheduled continuously on a single machine for an amount of time equal to its processing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machine processes more than one job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 items into bins using the fewest number of b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umber of b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item is packed into a single 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capacity of no bin is 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2-11-06T15:23:59Z</dcterms:modified>
  <cp:revision>95</cp:revision>
  <dc:subject/>
  <dc:title>Data Representation Methods</dc:title>
</cp:coreProperties>
</file>