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3AC54E-560A-4F24-B05F-8DD721031F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, mark, and label used as synony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rack of edges used to rreach new vertices. These edges form a spanning tree if the graph is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vertices adjacent from v are examined one at a time. As soon as an unreached adjacent vertex u is found, a depthFirstSearch(u) is done. Remaining vertices adjacent from v are examined after depthFirstSearch(u) compl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947-178A-4F28-8459-F37E097A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BF8-2BB7-40A4-B0BC-B1CC3960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D87-94E2-419D-ACDD-7AF50097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01C-49F1-4D58-A3E4-CF46DB38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878-6889-4F4C-B995-6FCA172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EBF-14A4-4EAB-98FD-C13B719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8D3-6E1B-4E57-AFB4-F2DC99C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257-8230-4DCE-B23D-B05C34A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955-B531-4B81-9B4A-C3B31E91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761-4F83-44F6-AE32-25EB3B6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A8C-9D94-4F3D-9BC8-328FBC6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A0A-43D8-4D9B-A7D9-CABA843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10D-5F7E-4507-B4B4-D792E7C5C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ach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51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8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39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39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0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44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44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44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45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45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6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0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0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1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1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1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2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6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6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7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7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7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8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6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6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64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64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648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8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9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97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00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0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07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1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15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75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76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76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6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7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7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7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8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8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83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84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84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12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953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958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961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964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6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7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7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arch method starts at a giv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visits/labels/marks every vertex that is reachabl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84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1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2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2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03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03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03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04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045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8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9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9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9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0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0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06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09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13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15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159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162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165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68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7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7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80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2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2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3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23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238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24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244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247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is empty. Search termin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3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3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3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31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31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Proper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ertices reachable from the start vertex (including the start vertex)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visited vertex is put on (and so removed from) the queue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vertex is removed from the queue, we examine its adjacent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vertex degre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list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vertices in the component that is searched (adjacency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0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sum of component vertex degre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j. li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O(n + number of edges in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From Vertex v To Vertex 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wh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sited or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 (whichever occurs fir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s The Graph Connecte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is connected if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get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raph problems solved using a search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from one vertex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raph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search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as yet unvisited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visited vertices (plus edges between them) define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ntil all vertices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1447920" y="1828800"/>
            <a:ext cx="5403240" cy="3667320"/>
            <a:chOff x="1447920" y="1828800"/>
            <a:chExt cx="5403240" cy="3667320"/>
          </a:xfrm>
        </p:grpSpPr>
        <p:sp>
          <p:nvSpPr>
            <p:cNvPr id="1332" name=""/>
            <p:cNvSpPr/>
            <p:nvPr/>
          </p:nvSpPr>
          <p:spPr>
            <a:xfrm>
              <a:off x="1447920" y="26668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38280" y="182880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38480" y="21333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38680" y="2438280"/>
              <a:ext cx="44388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400440" y="39621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57040" y="33526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81280" y="35049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5160" y="3657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9096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19160" y="480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0024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822320" y="2203200"/>
              <a:ext cx="609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36720" y="2279520"/>
              <a:ext cx="99000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22320" y="3117600"/>
              <a:ext cx="304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3879720" y="2508120"/>
              <a:ext cx="532800" cy="9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5326920" y="2889000"/>
              <a:ext cx="4568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6089400" y="441252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508120" y="18982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08320" y="21268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08520" y="25081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94320" y="40320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17400" y="27367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26880" y="33462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1120" y="35748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75000" y="3727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84480" y="50986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89000" y="4870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70080" y="50986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89000" y="2050920"/>
              <a:ext cx="114264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269880" y="4031640"/>
              <a:ext cx="190476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71520" y="1530360"/>
            <a:ext cx="4405320" cy="2946240"/>
          </a:xfrm>
          <a:custGeom>
            <a:avLst/>
            <a:gdLst/>
            <a:ahLst/>
            <a:rect l="l" t="t" r="r" b="b"/>
            <a:pathLst>
              <a:path w="2775" h="1856">
                <a:moveTo>
                  <a:pt x="192" y="1803"/>
                </a:moveTo>
                <a:cubicBezTo>
                  <a:pt x="326" y="1811"/>
                  <a:pt x="458" y="1852"/>
                  <a:pt x="592" y="1853"/>
                </a:cubicBezTo>
                <a:cubicBezTo>
                  <a:pt x="909" y="1856"/>
                  <a:pt x="1227" y="1836"/>
                  <a:pt x="1544" y="1828"/>
                </a:cubicBezTo>
                <a:cubicBezTo>
                  <a:pt x="1758" y="1738"/>
                  <a:pt x="1524" y="1825"/>
                  <a:pt x="1970" y="1766"/>
                </a:cubicBezTo>
                <a:cubicBezTo>
                  <a:pt x="1989" y="1764"/>
                  <a:pt x="2076" y="1712"/>
                  <a:pt x="2120" y="1703"/>
                </a:cubicBezTo>
                <a:cubicBezTo>
                  <a:pt x="2196" y="1647"/>
                  <a:pt x="2282" y="1609"/>
                  <a:pt x="2358" y="1553"/>
                </a:cubicBezTo>
                <a:cubicBezTo>
                  <a:pt x="2427" y="1448"/>
                  <a:pt x="2375" y="1304"/>
                  <a:pt x="2433" y="1190"/>
                </a:cubicBezTo>
                <a:cubicBezTo>
                  <a:pt x="2465" y="1127"/>
                  <a:pt x="2507" y="1116"/>
                  <a:pt x="2546" y="1065"/>
                </a:cubicBezTo>
                <a:cubicBezTo>
                  <a:pt x="2641" y="942"/>
                  <a:pt x="2519" y="1062"/>
                  <a:pt x="2633" y="939"/>
                </a:cubicBezTo>
                <a:cubicBezTo>
                  <a:pt x="2665" y="904"/>
                  <a:pt x="2734" y="839"/>
                  <a:pt x="2734" y="839"/>
                </a:cubicBezTo>
                <a:cubicBezTo>
                  <a:pt x="2756" y="770"/>
                  <a:pt x="2757" y="697"/>
                  <a:pt x="2771" y="626"/>
                </a:cubicBezTo>
                <a:cubicBezTo>
                  <a:pt x="2767" y="522"/>
                  <a:pt x="2775" y="416"/>
                  <a:pt x="2759" y="313"/>
                </a:cubicBezTo>
                <a:cubicBezTo>
                  <a:pt x="2738" y="179"/>
                  <a:pt x="2470" y="193"/>
                  <a:pt x="2396" y="188"/>
                </a:cubicBezTo>
                <a:cubicBezTo>
                  <a:pt x="2358" y="171"/>
                  <a:pt x="2320" y="156"/>
                  <a:pt x="2283" y="138"/>
                </a:cubicBezTo>
                <a:cubicBezTo>
                  <a:pt x="2249" y="122"/>
                  <a:pt x="2220" y="91"/>
                  <a:pt x="2183" y="88"/>
                </a:cubicBezTo>
                <a:cubicBezTo>
                  <a:pt x="2124" y="84"/>
                  <a:pt x="2066" y="79"/>
                  <a:pt x="2007" y="75"/>
                </a:cubicBezTo>
                <a:cubicBezTo>
                  <a:pt x="1797" y="37"/>
                  <a:pt x="1593" y="20"/>
                  <a:pt x="1381" y="0"/>
                </a:cubicBezTo>
                <a:cubicBezTo>
                  <a:pt x="1373" y="13"/>
                  <a:pt x="1371" y="36"/>
                  <a:pt x="1356" y="38"/>
                </a:cubicBezTo>
                <a:cubicBezTo>
                  <a:pt x="1182" y="64"/>
                  <a:pt x="1005" y="52"/>
                  <a:pt x="830" y="63"/>
                </a:cubicBezTo>
                <a:cubicBezTo>
                  <a:pt x="736" y="94"/>
                  <a:pt x="542" y="138"/>
                  <a:pt x="542" y="138"/>
                </a:cubicBezTo>
                <a:cubicBezTo>
                  <a:pt x="471" y="191"/>
                  <a:pt x="445" y="266"/>
                  <a:pt x="380" y="326"/>
                </a:cubicBezTo>
                <a:cubicBezTo>
                  <a:pt x="345" y="358"/>
                  <a:pt x="303" y="382"/>
                  <a:pt x="267" y="413"/>
                </a:cubicBezTo>
                <a:cubicBezTo>
                  <a:pt x="220" y="454"/>
                  <a:pt x="188" y="490"/>
                  <a:pt x="154" y="539"/>
                </a:cubicBezTo>
                <a:cubicBezTo>
                  <a:pt x="137" y="564"/>
                  <a:pt x="104" y="614"/>
                  <a:pt x="104" y="614"/>
                </a:cubicBezTo>
                <a:cubicBezTo>
                  <a:pt x="79" y="693"/>
                  <a:pt x="60" y="771"/>
                  <a:pt x="41" y="852"/>
                </a:cubicBezTo>
                <a:cubicBezTo>
                  <a:pt x="53" y="1092"/>
                  <a:pt x="0" y="1120"/>
                  <a:pt x="179" y="1227"/>
                </a:cubicBezTo>
                <a:cubicBezTo>
                  <a:pt x="232" y="1431"/>
                  <a:pt x="199" y="1532"/>
                  <a:pt x="192" y="1803"/>
                </a:cubicBezTo>
                <a:close/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265480" y="2346480"/>
            <a:ext cx="4219560" cy="3008160"/>
          </a:xfrm>
          <a:custGeom>
            <a:avLst/>
            <a:gdLst/>
            <a:ahLst/>
            <a:rect l="l" t="t" r="r" b="b"/>
            <a:pathLst>
              <a:path w="2658" h="1895">
                <a:moveTo>
                  <a:pt x="126" y="1890"/>
                </a:moveTo>
                <a:cubicBezTo>
                  <a:pt x="130" y="1848"/>
                  <a:pt x="126" y="1805"/>
                  <a:pt x="138" y="1765"/>
                </a:cubicBezTo>
                <a:cubicBezTo>
                  <a:pt x="143" y="1748"/>
                  <a:pt x="166" y="1743"/>
                  <a:pt x="176" y="1728"/>
                </a:cubicBezTo>
                <a:cubicBezTo>
                  <a:pt x="183" y="1717"/>
                  <a:pt x="185" y="1703"/>
                  <a:pt x="188" y="1690"/>
                </a:cubicBezTo>
                <a:cubicBezTo>
                  <a:pt x="196" y="1657"/>
                  <a:pt x="189" y="1614"/>
                  <a:pt x="213" y="1590"/>
                </a:cubicBezTo>
                <a:cubicBezTo>
                  <a:pt x="222" y="1581"/>
                  <a:pt x="238" y="1579"/>
                  <a:pt x="251" y="1577"/>
                </a:cubicBezTo>
                <a:cubicBezTo>
                  <a:pt x="305" y="1570"/>
                  <a:pt x="360" y="1569"/>
                  <a:pt x="414" y="1565"/>
                </a:cubicBezTo>
                <a:cubicBezTo>
                  <a:pt x="473" y="1550"/>
                  <a:pt x="526" y="1536"/>
                  <a:pt x="576" y="1502"/>
                </a:cubicBezTo>
                <a:cubicBezTo>
                  <a:pt x="652" y="1393"/>
                  <a:pt x="797" y="1445"/>
                  <a:pt x="927" y="1440"/>
                </a:cubicBezTo>
                <a:cubicBezTo>
                  <a:pt x="948" y="1409"/>
                  <a:pt x="963" y="1388"/>
                  <a:pt x="977" y="1352"/>
                </a:cubicBezTo>
                <a:cubicBezTo>
                  <a:pt x="983" y="1336"/>
                  <a:pt x="979" y="1315"/>
                  <a:pt x="990" y="1302"/>
                </a:cubicBezTo>
                <a:cubicBezTo>
                  <a:pt x="1003" y="1286"/>
                  <a:pt x="1124" y="1277"/>
                  <a:pt x="1127" y="1277"/>
                </a:cubicBezTo>
                <a:cubicBezTo>
                  <a:pt x="1191" y="1259"/>
                  <a:pt x="1250" y="1240"/>
                  <a:pt x="1315" y="1227"/>
                </a:cubicBezTo>
                <a:cubicBezTo>
                  <a:pt x="1416" y="1176"/>
                  <a:pt x="1481" y="1104"/>
                  <a:pt x="1516" y="1001"/>
                </a:cubicBezTo>
                <a:cubicBezTo>
                  <a:pt x="1519" y="977"/>
                  <a:pt x="1520" y="888"/>
                  <a:pt x="1541" y="851"/>
                </a:cubicBezTo>
                <a:cubicBezTo>
                  <a:pt x="1589" y="767"/>
                  <a:pt x="1556" y="823"/>
                  <a:pt x="1616" y="788"/>
                </a:cubicBezTo>
                <a:cubicBezTo>
                  <a:pt x="1777" y="694"/>
                  <a:pt x="1674" y="730"/>
                  <a:pt x="1766" y="701"/>
                </a:cubicBezTo>
                <a:cubicBezTo>
                  <a:pt x="1783" y="688"/>
                  <a:pt x="1802" y="679"/>
                  <a:pt x="1816" y="663"/>
                </a:cubicBezTo>
                <a:cubicBezTo>
                  <a:pt x="1866" y="606"/>
                  <a:pt x="1859" y="565"/>
                  <a:pt x="1916" y="525"/>
                </a:cubicBezTo>
                <a:cubicBezTo>
                  <a:pt x="1972" y="441"/>
                  <a:pt x="1962" y="442"/>
                  <a:pt x="1991" y="350"/>
                </a:cubicBezTo>
                <a:cubicBezTo>
                  <a:pt x="1996" y="296"/>
                  <a:pt x="2005" y="84"/>
                  <a:pt x="2029" y="25"/>
                </a:cubicBezTo>
                <a:cubicBezTo>
                  <a:pt x="2035" y="11"/>
                  <a:pt x="2054" y="8"/>
                  <a:pt x="2067" y="0"/>
                </a:cubicBezTo>
                <a:cubicBezTo>
                  <a:pt x="2171" y="4"/>
                  <a:pt x="2276" y="1"/>
                  <a:pt x="2380" y="12"/>
                </a:cubicBezTo>
                <a:cubicBezTo>
                  <a:pt x="2399" y="14"/>
                  <a:pt x="2413" y="30"/>
                  <a:pt x="2430" y="37"/>
                </a:cubicBezTo>
                <a:cubicBezTo>
                  <a:pt x="2471" y="52"/>
                  <a:pt x="2514" y="61"/>
                  <a:pt x="2555" y="75"/>
                </a:cubicBezTo>
                <a:cubicBezTo>
                  <a:pt x="2567" y="79"/>
                  <a:pt x="2592" y="87"/>
                  <a:pt x="2592" y="87"/>
                </a:cubicBezTo>
                <a:cubicBezTo>
                  <a:pt x="2609" y="137"/>
                  <a:pt x="2620" y="185"/>
                  <a:pt x="2630" y="237"/>
                </a:cubicBezTo>
                <a:cubicBezTo>
                  <a:pt x="2576" y="504"/>
                  <a:pt x="2658" y="410"/>
                  <a:pt x="2380" y="438"/>
                </a:cubicBezTo>
                <a:cubicBezTo>
                  <a:pt x="2367" y="439"/>
                  <a:pt x="2355" y="446"/>
                  <a:pt x="2342" y="450"/>
                </a:cubicBezTo>
                <a:cubicBezTo>
                  <a:pt x="2350" y="475"/>
                  <a:pt x="2359" y="500"/>
                  <a:pt x="2367" y="525"/>
                </a:cubicBezTo>
                <a:cubicBezTo>
                  <a:pt x="2371" y="538"/>
                  <a:pt x="2380" y="563"/>
                  <a:pt x="2380" y="563"/>
                </a:cubicBezTo>
                <a:cubicBezTo>
                  <a:pt x="2374" y="613"/>
                  <a:pt x="2382" y="670"/>
                  <a:pt x="2355" y="713"/>
                </a:cubicBezTo>
                <a:cubicBezTo>
                  <a:pt x="2232" y="909"/>
                  <a:pt x="2373" y="637"/>
                  <a:pt x="2267" y="851"/>
                </a:cubicBezTo>
                <a:cubicBezTo>
                  <a:pt x="2251" y="929"/>
                  <a:pt x="2263" y="1012"/>
                  <a:pt x="2242" y="1089"/>
                </a:cubicBezTo>
                <a:cubicBezTo>
                  <a:pt x="2239" y="1102"/>
                  <a:pt x="2217" y="1097"/>
                  <a:pt x="2204" y="1101"/>
                </a:cubicBezTo>
                <a:cubicBezTo>
                  <a:pt x="2080" y="1135"/>
                  <a:pt x="2125" y="1125"/>
                  <a:pt x="1991" y="1139"/>
                </a:cubicBezTo>
                <a:cubicBezTo>
                  <a:pt x="1937" y="1166"/>
                  <a:pt x="1873" y="1183"/>
                  <a:pt x="1829" y="1227"/>
                </a:cubicBezTo>
                <a:cubicBezTo>
                  <a:pt x="1804" y="1252"/>
                  <a:pt x="1779" y="1277"/>
                  <a:pt x="1754" y="1302"/>
                </a:cubicBezTo>
                <a:cubicBezTo>
                  <a:pt x="1743" y="1313"/>
                  <a:pt x="1740" y="1330"/>
                  <a:pt x="1728" y="1339"/>
                </a:cubicBezTo>
                <a:cubicBezTo>
                  <a:pt x="1637" y="1411"/>
                  <a:pt x="1523" y="1453"/>
                  <a:pt x="1415" y="1490"/>
                </a:cubicBezTo>
                <a:cubicBezTo>
                  <a:pt x="1398" y="1502"/>
                  <a:pt x="1378" y="1511"/>
                  <a:pt x="1365" y="1527"/>
                </a:cubicBezTo>
                <a:cubicBezTo>
                  <a:pt x="1357" y="1537"/>
                  <a:pt x="1360" y="1553"/>
                  <a:pt x="1353" y="1565"/>
                </a:cubicBezTo>
                <a:cubicBezTo>
                  <a:pt x="1335" y="1596"/>
                  <a:pt x="1309" y="1622"/>
                  <a:pt x="1290" y="1652"/>
                </a:cubicBezTo>
                <a:cubicBezTo>
                  <a:pt x="1250" y="1716"/>
                  <a:pt x="1227" y="1777"/>
                  <a:pt x="1152" y="1803"/>
                </a:cubicBezTo>
                <a:cubicBezTo>
                  <a:pt x="1090" y="1799"/>
                  <a:pt x="1027" y="1787"/>
                  <a:pt x="965" y="1790"/>
                </a:cubicBezTo>
                <a:cubicBezTo>
                  <a:pt x="885" y="1794"/>
                  <a:pt x="944" y="1827"/>
                  <a:pt x="877" y="1840"/>
                </a:cubicBezTo>
                <a:cubicBezTo>
                  <a:pt x="767" y="1861"/>
                  <a:pt x="650" y="1859"/>
                  <a:pt x="539" y="1878"/>
                </a:cubicBezTo>
                <a:cubicBezTo>
                  <a:pt x="514" y="1874"/>
                  <a:pt x="484" y="1881"/>
                  <a:pt x="464" y="1865"/>
                </a:cubicBezTo>
                <a:cubicBezTo>
                  <a:pt x="454" y="1857"/>
                  <a:pt x="488" y="1834"/>
                  <a:pt x="476" y="1828"/>
                </a:cubicBezTo>
                <a:cubicBezTo>
                  <a:pt x="463" y="1822"/>
                  <a:pt x="454" y="1852"/>
                  <a:pt x="439" y="1853"/>
                </a:cubicBezTo>
                <a:cubicBezTo>
                  <a:pt x="293" y="1864"/>
                  <a:pt x="146" y="1861"/>
                  <a:pt x="0" y="1865"/>
                </a:cubicBezTo>
                <a:cubicBezTo>
                  <a:pt x="92" y="1895"/>
                  <a:pt x="49" y="1890"/>
                  <a:pt x="126" y="1890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32400" y="4809960"/>
            <a:ext cx="873000" cy="1082880"/>
          </a:xfrm>
          <a:custGeom>
            <a:avLst/>
            <a:gdLst/>
            <a:ahLst/>
            <a:rect l="l" t="t" r="r" b="b"/>
            <a:pathLst>
              <a:path w="550" h="682">
                <a:moveTo>
                  <a:pt x="288" y="614"/>
                </a:moveTo>
                <a:cubicBezTo>
                  <a:pt x="321" y="610"/>
                  <a:pt x="357" y="613"/>
                  <a:pt x="388" y="601"/>
                </a:cubicBezTo>
                <a:cubicBezTo>
                  <a:pt x="402" y="595"/>
                  <a:pt x="402" y="574"/>
                  <a:pt x="413" y="564"/>
                </a:cubicBezTo>
                <a:cubicBezTo>
                  <a:pt x="424" y="553"/>
                  <a:pt x="438" y="547"/>
                  <a:pt x="451" y="539"/>
                </a:cubicBezTo>
                <a:cubicBezTo>
                  <a:pt x="471" y="505"/>
                  <a:pt x="497" y="475"/>
                  <a:pt x="513" y="439"/>
                </a:cubicBezTo>
                <a:cubicBezTo>
                  <a:pt x="525" y="411"/>
                  <a:pt x="529" y="380"/>
                  <a:pt x="538" y="351"/>
                </a:cubicBezTo>
                <a:cubicBezTo>
                  <a:pt x="528" y="263"/>
                  <a:pt x="550" y="162"/>
                  <a:pt x="501" y="88"/>
                </a:cubicBezTo>
                <a:cubicBezTo>
                  <a:pt x="471" y="43"/>
                  <a:pt x="363" y="0"/>
                  <a:pt x="363" y="0"/>
                </a:cubicBezTo>
                <a:cubicBezTo>
                  <a:pt x="265" y="8"/>
                  <a:pt x="170" y="13"/>
                  <a:pt x="75" y="38"/>
                </a:cubicBezTo>
                <a:cubicBezTo>
                  <a:pt x="58" y="90"/>
                  <a:pt x="30" y="143"/>
                  <a:pt x="0" y="188"/>
                </a:cubicBezTo>
                <a:cubicBezTo>
                  <a:pt x="4" y="276"/>
                  <a:pt x="6" y="363"/>
                  <a:pt x="12" y="451"/>
                </a:cubicBezTo>
                <a:cubicBezTo>
                  <a:pt x="19" y="560"/>
                  <a:pt x="25" y="604"/>
                  <a:pt x="125" y="639"/>
                </a:cubicBezTo>
                <a:cubicBezTo>
                  <a:pt x="375" y="625"/>
                  <a:pt x="307" y="682"/>
                  <a:pt x="388" y="60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53200" y="3773520"/>
            <a:ext cx="1803240" cy="2090880"/>
          </a:xfrm>
          <a:custGeom>
            <a:avLst/>
            <a:gdLst/>
            <a:ahLst/>
            <a:rect l="l" t="t" r="r" b="b"/>
            <a:pathLst>
              <a:path w="1136" h="1317">
                <a:moveTo>
                  <a:pt x="510" y="1242"/>
                </a:moveTo>
                <a:cubicBezTo>
                  <a:pt x="522" y="1238"/>
                  <a:pt x="539" y="1239"/>
                  <a:pt x="547" y="1229"/>
                </a:cubicBezTo>
                <a:cubicBezTo>
                  <a:pt x="583" y="1184"/>
                  <a:pt x="563" y="1075"/>
                  <a:pt x="597" y="1029"/>
                </a:cubicBezTo>
                <a:cubicBezTo>
                  <a:pt x="672" y="928"/>
                  <a:pt x="634" y="995"/>
                  <a:pt x="710" y="941"/>
                </a:cubicBezTo>
                <a:cubicBezTo>
                  <a:pt x="753" y="911"/>
                  <a:pt x="738" y="899"/>
                  <a:pt x="785" y="879"/>
                </a:cubicBezTo>
                <a:cubicBezTo>
                  <a:pt x="813" y="867"/>
                  <a:pt x="844" y="863"/>
                  <a:pt x="873" y="854"/>
                </a:cubicBezTo>
                <a:cubicBezTo>
                  <a:pt x="932" y="764"/>
                  <a:pt x="926" y="653"/>
                  <a:pt x="961" y="553"/>
                </a:cubicBezTo>
                <a:cubicBezTo>
                  <a:pt x="967" y="537"/>
                  <a:pt x="965" y="518"/>
                  <a:pt x="973" y="503"/>
                </a:cubicBezTo>
                <a:cubicBezTo>
                  <a:pt x="1067" y="315"/>
                  <a:pt x="997" y="471"/>
                  <a:pt x="1086" y="353"/>
                </a:cubicBezTo>
                <a:cubicBezTo>
                  <a:pt x="1106" y="326"/>
                  <a:pt x="1117" y="293"/>
                  <a:pt x="1136" y="265"/>
                </a:cubicBezTo>
                <a:cubicBezTo>
                  <a:pt x="1132" y="227"/>
                  <a:pt x="1135" y="188"/>
                  <a:pt x="1123" y="152"/>
                </a:cubicBezTo>
                <a:cubicBezTo>
                  <a:pt x="1112" y="120"/>
                  <a:pt x="1028" y="83"/>
                  <a:pt x="1011" y="77"/>
                </a:cubicBezTo>
                <a:cubicBezTo>
                  <a:pt x="812" y="0"/>
                  <a:pt x="913" y="63"/>
                  <a:pt x="823" y="2"/>
                </a:cubicBezTo>
                <a:cubicBezTo>
                  <a:pt x="810" y="6"/>
                  <a:pt x="797" y="9"/>
                  <a:pt x="785" y="15"/>
                </a:cubicBezTo>
                <a:cubicBezTo>
                  <a:pt x="772" y="22"/>
                  <a:pt x="762" y="35"/>
                  <a:pt x="748" y="40"/>
                </a:cubicBezTo>
                <a:cubicBezTo>
                  <a:pt x="715" y="52"/>
                  <a:pt x="681" y="57"/>
                  <a:pt x="647" y="65"/>
                </a:cubicBezTo>
                <a:cubicBezTo>
                  <a:pt x="589" y="108"/>
                  <a:pt x="548" y="109"/>
                  <a:pt x="485" y="140"/>
                </a:cubicBezTo>
                <a:cubicBezTo>
                  <a:pt x="443" y="265"/>
                  <a:pt x="451" y="299"/>
                  <a:pt x="347" y="378"/>
                </a:cubicBezTo>
                <a:cubicBezTo>
                  <a:pt x="311" y="479"/>
                  <a:pt x="343" y="377"/>
                  <a:pt x="322" y="603"/>
                </a:cubicBezTo>
                <a:cubicBezTo>
                  <a:pt x="310" y="734"/>
                  <a:pt x="226" y="835"/>
                  <a:pt x="97" y="866"/>
                </a:cubicBezTo>
                <a:cubicBezTo>
                  <a:pt x="0" y="959"/>
                  <a:pt x="150" y="980"/>
                  <a:pt x="209" y="1004"/>
                </a:cubicBezTo>
                <a:cubicBezTo>
                  <a:pt x="243" y="1037"/>
                  <a:pt x="276" y="1062"/>
                  <a:pt x="297" y="1104"/>
                </a:cubicBezTo>
                <a:cubicBezTo>
                  <a:pt x="321" y="1152"/>
                  <a:pt x="316" y="1224"/>
                  <a:pt x="347" y="1267"/>
                </a:cubicBezTo>
                <a:cubicBezTo>
                  <a:pt x="361" y="1286"/>
                  <a:pt x="380" y="1300"/>
                  <a:pt x="397" y="1317"/>
                </a:cubicBezTo>
                <a:cubicBezTo>
                  <a:pt x="450" y="1308"/>
                  <a:pt x="510" y="1309"/>
                  <a:pt x="510" y="1242"/>
                </a:cubicBez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6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8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51920" y="5689080"/>
            <a:ext cx="8990280" cy="5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earc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8264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6733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735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8737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92480" y="3359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1636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40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0542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35680" y="5035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666880" y="38098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114800" y="2514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14800" y="39625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3200" y="19051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343400" y="2133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2514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752480" y="2743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6232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6200" y="3581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410080" y="3733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4080" y="4876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105520" y="5105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26708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82640" y="2673360"/>
            <a:ext cx="444600" cy="467280"/>
            <a:chOff x="1682640" y="2673360"/>
            <a:chExt cx="444600" cy="467280"/>
          </a:xfrm>
        </p:grpSpPr>
        <p:sp>
          <p:nvSpPr>
            <p:cNvPr id="1402" name=""/>
            <p:cNvSpPr/>
            <p:nvPr/>
          </p:nvSpPr>
          <p:spPr>
            <a:xfrm>
              <a:off x="1682640" y="26733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52480" y="2743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2673360" y="1835280"/>
            <a:ext cx="444600" cy="467280"/>
            <a:chOff x="2673360" y="1835280"/>
            <a:chExt cx="444600" cy="467280"/>
          </a:xfrm>
        </p:grpSpPr>
        <p:sp>
          <p:nvSpPr>
            <p:cNvPr id="1405" name=""/>
            <p:cNvSpPr/>
            <p:nvPr/>
          </p:nvSpPr>
          <p:spPr>
            <a:xfrm>
              <a:off x="2673360" y="18352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43200" y="1905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2292480" y="3352680"/>
            <a:ext cx="444240" cy="451080"/>
            <a:chOff x="2292480" y="3352680"/>
            <a:chExt cx="444240" cy="451080"/>
          </a:xfrm>
        </p:grpSpPr>
        <p:sp>
          <p:nvSpPr>
            <p:cNvPr id="1409" name=""/>
            <p:cNvSpPr/>
            <p:nvPr/>
          </p:nvSpPr>
          <p:spPr>
            <a:xfrm>
              <a:off x="2292480" y="3359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62320" y="33526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4273560" y="2133720"/>
            <a:ext cx="444600" cy="450720"/>
            <a:chOff x="4273560" y="2133720"/>
            <a:chExt cx="444600" cy="450720"/>
          </a:xfrm>
        </p:grpSpPr>
        <p:sp>
          <p:nvSpPr>
            <p:cNvPr id="1413" name=""/>
            <p:cNvSpPr/>
            <p:nvPr/>
          </p:nvSpPr>
          <p:spPr>
            <a:xfrm>
              <a:off x="4273560" y="2139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3400" y="2133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3054240" y="4807080"/>
            <a:ext cx="444600" cy="467280"/>
            <a:chOff x="3054240" y="4807080"/>
            <a:chExt cx="444600" cy="467280"/>
          </a:xfrm>
        </p:grpSpPr>
        <p:sp>
          <p:nvSpPr>
            <p:cNvPr id="1417" name=""/>
            <p:cNvSpPr/>
            <p:nvPr/>
          </p:nvSpPr>
          <p:spPr>
            <a:xfrm>
              <a:off x="3054240" y="4807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124080" y="4876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3816360" y="3511440"/>
            <a:ext cx="444600" cy="467280"/>
            <a:chOff x="3816360" y="3511440"/>
            <a:chExt cx="444600" cy="467280"/>
          </a:xfrm>
        </p:grpSpPr>
        <p:sp>
          <p:nvSpPr>
            <p:cNvPr id="1421" name=""/>
            <p:cNvSpPr/>
            <p:nvPr/>
          </p:nvSpPr>
          <p:spPr>
            <a:xfrm>
              <a:off x="3816360" y="3511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886200" y="3581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5340240" y="3664080"/>
            <a:ext cx="444600" cy="467280"/>
            <a:chOff x="5340240" y="3664080"/>
            <a:chExt cx="444600" cy="467280"/>
          </a:xfrm>
        </p:grpSpPr>
        <p:sp>
          <p:nvSpPr>
            <p:cNvPr id="1425" name=""/>
            <p:cNvSpPr/>
            <p:nvPr/>
          </p:nvSpPr>
          <p:spPr>
            <a:xfrm>
              <a:off x="5340240" y="3664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080" y="373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035680" y="5035680"/>
            <a:ext cx="444240" cy="467280"/>
            <a:chOff x="5035680" y="5035680"/>
            <a:chExt cx="444240" cy="467280"/>
          </a:xfrm>
        </p:grpSpPr>
        <p:sp>
          <p:nvSpPr>
            <p:cNvPr id="1429" name=""/>
            <p:cNvSpPr/>
            <p:nvPr/>
          </p:nvSpPr>
          <p:spPr>
            <a:xfrm>
              <a:off x="5035680" y="503568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05520" y="5105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5873760" y="2444760"/>
            <a:ext cx="444600" cy="467280"/>
            <a:chOff x="5873760" y="2444760"/>
            <a:chExt cx="444600" cy="467280"/>
          </a:xfrm>
        </p:grpSpPr>
        <p:sp>
          <p:nvSpPr>
            <p:cNvPr id="1433" name=""/>
            <p:cNvSpPr/>
            <p:nvPr/>
          </p:nvSpPr>
          <p:spPr>
            <a:xfrm>
              <a:off x="5873760" y="2444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43600" y="251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280" y="62485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raph is connected,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get to unvisited vertices define a spanning tree (breadth-first spanning 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unreached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ct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1606680" y="1073160"/>
            <a:ext cx="5403600" cy="3667680"/>
            <a:chOff x="1606680" y="1073160"/>
            <a:chExt cx="5403600" cy="3667680"/>
          </a:xfrm>
        </p:grpSpPr>
        <p:sp>
          <p:nvSpPr>
            <p:cNvPr id="144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95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50080" y="4273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1981080" y="1447920"/>
              <a:ext cx="6098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95480" y="15238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981080" y="23623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304812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29000" y="43434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4038480" y="17524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8480" y="3200400"/>
              <a:ext cx="106704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5486400" y="21337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6248520" y="365724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3080" y="3276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43600" y="43434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91120" y="2971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48120" y="12952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43200" y="1523880"/>
              <a:ext cx="533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429000" y="327672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0" y="51814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600200" y="1905120"/>
            <a:ext cx="444240" cy="466920"/>
            <a:chOff x="1600200" y="1905120"/>
            <a:chExt cx="444240" cy="466920"/>
          </a:xfrm>
        </p:grpSpPr>
        <p:sp>
          <p:nvSpPr>
            <p:cNvPr id="1481" name=""/>
            <p:cNvSpPr/>
            <p:nvPr/>
          </p:nvSpPr>
          <p:spPr>
            <a:xfrm>
              <a:off x="1600200" y="190512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70040" y="197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2590920" y="1066680"/>
            <a:ext cx="444240" cy="467280"/>
            <a:chOff x="2590920" y="1066680"/>
            <a:chExt cx="444240" cy="467280"/>
          </a:xfrm>
        </p:grpSpPr>
        <p:sp>
          <p:nvSpPr>
            <p:cNvPr id="1484" name=""/>
            <p:cNvSpPr/>
            <p:nvPr/>
          </p:nvSpPr>
          <p:spPr>
            <a:xfrm>
              <a:off x="2590920" y="10666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60400" y="11365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617220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52280" y="487692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2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3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52280" y="49528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8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59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8600" y="502920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64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5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6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66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art vertex  and put into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a vertex from the queue, visit its unvisited adjacent vertices, put newly visited vertices into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28600" y="525924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06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0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1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1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2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6" name=""/>
          <p:cNvSpPr/>
          <p:nvPr/>
        </p:nvSpPr>
        <p:spPr>
          <a:xfrm flipV="1">
            <a:off x="5867280" y="2361960"/>
            <a:ext cx="1600200" cy="685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560" y="5943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73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7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8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9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9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0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1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808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85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6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7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7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8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9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0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32720" y="6033960"/>
            <a:ext cx="44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0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94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5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6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7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8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8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9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03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4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5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6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7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7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8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 flipV="1">
            <a:off x="5819760" y="2307960"/>
            <a:ext cx="154296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12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3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4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5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6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6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7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6640" y="5958000"/>
            <a:ext cx="214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18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222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3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4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4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5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7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4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6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71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382680" y="4890960"/>
            <a:ext cx="40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5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1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32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3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4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8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5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6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5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9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 flipH="1" flipV="1">
            <a:off x="926640" y="436320"/>
            <a:ext cx="1575000" cy="72684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41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2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3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4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5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8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2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6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6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1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73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"/>
          <p:cNvSpPr/>
          <p:nvPr/>
        </p:nvSpPr>
        <p:spPr>
          <a:xfrm flipH="1" flipV="1">
            <a:off x="151920" y="1294920"/>
            <a:ext cx="1435320" cy="630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Proper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complexity as B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perties with respect to path finding, connected components, and spanning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reach unlabeled vertices define a depth-first spanning tree when the graph is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blems for which bfs is better than dfs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5994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1040" y="1758960"/>
            <a:ext cx="5403960" cy="3667680"/>
            <a:chOff x="311040" y="1758960"/>
            <a:chExt cx="5403960" cy="3667680"/>
          </a:xfrm>
        </p:grpSpPr>
        <p:sp>
          <p:nvSpPr>
            <p:cNvPr id="1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64280" y="3892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54440" y="4959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4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43200" y="24382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1911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952880" y="434304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3962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50292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36576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19810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7920" y="2209680"/>
              <a:ext cx="53316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33720" y="39625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599436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/mark/label start vertex and put in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9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197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3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240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8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3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3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3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45:03Z</dcterms:modified>
  <cp:revision>76</cp:revision>
  <dc:subject/>
  <dc:title>Data Representation Methods</dc:title>
</cp:coreProperties>
</file>