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A4B84B-95FF-4892-B94C-6FC8ECE344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nnection. Vertices are computers. Send email from 1 to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efine balance factor as height or right subtree – height of left sub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alance factors on insert path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009-0CD4-40D2-A083-F9CFC861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1E0-85F9-4B04-8FFD-6204F1CD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160-5DB1-4164-94DF-35598F12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68B-7A0C-4740-A643-D88C0E9A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F36-7780-4FFD-91EB-56F7437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D26-7106-4C93-B9AC-45FBC0E7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4FE-C3E9-4397-B918-0E287FD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A1F-2F43-4481-8063-1AF05C02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BC5-7898-49FE-8050-958607FE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99A-DCA1-4185-82B6-BFC7B5F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05C-C98B-4393-B367-044DF51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78B-165F-4BC2-BE52-BAE5205B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F52E-CBBF-4128-9CFA-F0D7FBB14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Binary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elements in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L (Adelson-Velsky and Landis)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-black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, pu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7543800" y="7621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0772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44960" y="5568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021360"/>
            <a:ext cx="4953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R  rota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19360" y="51814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93320" y="5288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Rot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ored Node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is colo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and all external nodes are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oot-to-external-node path has two consecutive red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oot-to-external-node paths have the same number of black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35080" y="1987560"/>
            <a:ext cx="8750160" cy="4637160"/>
            <a:chOff x="235080" y="1987560"/>
            <a:chExt cx="8750160" cy="4637160"/>
          </a:xfrm>
        </p:grpSpPr>
        <p:sp>
          <p:nvSpPr>
            <p:cNvPr id="335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676520" y="335268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50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731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303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924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7336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6408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7240" y="5797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83040" y="63324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02360" y="63324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26040" y="56466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358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21680" y="480852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3116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932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426708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743200" y="42670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80520" y="53341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90720" y="53341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6765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37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266720" y="525780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29200" y="59436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6019920"/>
              <a:ext cx="533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171840" y="51055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7120" y="50292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467120" y="4191120"/>
              <a:ext cx="3812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077320" y="49528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10480" y="502920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ored Edge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pointers are colo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 to an external node is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oot to external node path has two consecuti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root to external node path has the same number of black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5080" y="1987560"/>
            <a:ext cx="8750160" cy="4637160"/>
            <a:chOff x="235080" y="1987560"/>
            <a:chExt cx="8750160" cy="4637160"/>
          </a:xfrm>
        </p:grpSpPr>
        <p:sp>
          <p:nvSpPr>
            <p:cNvPr id="405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676520" y="335268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0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31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303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924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336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408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97240" y="5797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83040" y="63324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02360" y="63324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26040" y="56466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358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21680" y="480852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3116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932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426708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743200" y="42670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80520" y="53341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90720" y="53341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765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266720" y="525780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029200" y="59436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91320" y="6019920"/>
              <a:ext cx="533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171840" y="51055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77120" y="50292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467120" y="4191120"/>
              <a:ext cx="3812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077320" y="49528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10480" y="502920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 red black 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ternal) nodes is betwe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TreeMap =&gt; red black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 = (V,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ertex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are also called nodes and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dg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connects two different vert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are also called arc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edge has an orien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279080" y="6033960"/>
            <a:ext cx="1769040" cy="519120"/>
            <a:chOff x="1279080" y="6033960"/>
            <a:chExt cx="1769040" cy="519120"/>
          </a:xfrm>
        </p:grpSpPr>
        <p:sp>
          <p:nvSpPr>
            <p:cNvPr id="476" name=""/>
            <p:cNvSpPr/>
            <p:nvPr/>
          </p:nvSpPr>
          <p:spPr>
            <a:xfrm>
              <a:off x="1600200" y="6324480"/>
              <a:ext cx="99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79080" y="60339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33720" y="6033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 edge has no orien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507680" y="2604960"/>
            <a:ext cx="1769040" cy="519120"/>
            <a:chOff x="1507680" y="2604960"/>
            <a:chExt cx="1769040" cy="519120"/>
          </a:xfrm>
        </p:grpSpPr>
        <p:sp>
          <p:nvSpPr>
            <p:cNvPr id="482" name=""/>
            <p:cNvSpPr/>
            <p:nvPr/>
          </p:nvSpPr>
          <p:spPr>
            <a:xfrm>
              <a:off x="1828800" y="2895480"/>
              <a:ext cx="99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07680" y="26049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2320" y="2604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62120" y="3733920"/>
            <a:ext cx="777240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 grap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oriente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grap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 edge ha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ent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directed Grap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488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Binary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AVL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red-black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operations als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rected Graph (Digraph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22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lications—Communication Network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= city, edge = communication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57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riving Distance/Time M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= city, edge  weight = driving distance/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92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57400" y="20574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29000" y="23623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95680" y="27432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8320" y="403848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14800" y="47242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71800" y="39625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05120" y="304812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67080" y="37339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00600" y="3352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0080" y="30481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24480" y="31240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67480" y="3352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eet M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62120" y="563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reets are on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639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67080" y="3733920"/>
              <a:ext cx="10670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86400" y="4114440"/>
              <a:ext cx="14479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te Undirected Grap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possible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4197240"/>
            <a:ext cx="1219320" cy="1107000"/>
            <a:chOff x="685800" y="4197240"/>
            <a:chExt cx="1219320" cy="1107000"/>
          </a:xfrm>
        </p:grpSpPr>
        <p:sp>
          <p:nvSpPr>
            <p:cNvPr id="676" name=""/>
            <p:cNvSpPr/>
            <p:nvPr/>
          </p:nvSpPr>
          <p:spPr>
            <a:xfrm>
              <a:off x="9968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" y="472428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133720" y="3130560"/>
            <a:ext cx="1218960" cy="2173680"/>
            <a:chOff x="2133720" y="3130560"/>
            <a:chExt cx="1218960" cy="2173680"/>
          </a:xfrm>
        </p:grpSpPr>
        <p:sp>
          <p:nvSpPr>
            <p:cNvPr id="679" name=""/>
            <p:cNvSpPr/>
            <p:nvPr/>
          </p:nvSpPr>
          <p:spPr>
            <a:xfrm>
              <a:off x="2368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84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920" y="3581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337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044960" y="3206880"/>
            <a:ext cx="1511280" cy="2097360"/>
            <a:chOff x="4044960" y="3206880"/>
            <a:chExt cx="1511280" cy="2097360"/>
          </a:xfrm>
        </p:grpSpPr>
        <p:sp>
          <p:nvSpPr>
            <p:cNvPr id="684" name=""/>
            <p:cNvSpPr/>
            <p:nvPr/>
          </p:nvSpPr>
          <p:spPr>
            <a:xfrm>
              <a:off x="4502160" y="3206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4496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116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35812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266720" y="358128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95680" y="44956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14800" y="472428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561000" y="3130560"/>
            <a:ext cx="1892520" cy="2021400"/>
            <a:chOff x="6561000" y="3130560"/>
            <a:chExt cx="1892520" cy="2021400"/>
          </a:xfrm>
        </p:grpSpPr>
        <p:sp>
          <p:nvSpPr>
            <p:cNvPr id="692" name=""/>
            <p:cNvSpPr/>
            <p:nvPr/>
          </p:nvSpPr>
          <p:spPr>
            <a:xfrm>
              <a:off x="66358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5664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08920" y="4121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6100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86600" y="33526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5328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0" y="3581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10280" y="44197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86600" y="3505320"/>
              <a:ext cx="9907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933960" y="3505320"/>
              <a:ext cx="9903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86600" y="4572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umber Of Edges—Undirected Graph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is of the for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!=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uch pairs i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ame as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edges in a complete un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 an un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n(n-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umber Of Edges—Directed Graph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is of the for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!=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uch pairs i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as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edges in a complete 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 a 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n(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ertex Deg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cident to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2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5)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3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10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 Of Vertex Deg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ed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048120" y="2286000"/>
            <a:ext cx="2584440" cy="1838160"/>
            <a:chOff x="3048120" y="2286000"/>
            <a:chExt cx="2584440" cy="1838160"/>
          </a:xfrm>
        </p:grpSpPr>
        <p:sp>
          <p:nvSpPr>
            <p:cNvPr id="745" name=""/>
            <p:cNvSpPr/>
            <p:nvPr/>
          </p:nvSpPr>
          <p:spPr>
            <a:xfrm>
              <a:off x="3581640" y="22860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048120" y="2355480"/>
              <a:ext cx="2584440" cy="1768680"/>
              <a:chOff x="3048120" y="2355480"/>
              <a:chExt cx="2584440" cy="1768680"/>
            </a:xfrm>
          </p:grpSpPr>
          <p:sp>
            <p:nvSpPr>
              <p:cNvPr id="747" name=""/>
              <p:cNvSpPr/>
              <p:nvPr/>
            </p:nvSpPr>
            <p:spPr>
              <a:xfrm>
                <a:off x="5181840" y="259020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48120" y="350460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360" y="365688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3270600" y="2736360"/>
                <a:ext cx="457200" cy="76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956400" y="2660040"/>
                <a:ext cx="914400" cy="9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870800" y="3040560"/>
                <a:ext cx="53316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651480" y="2355480"/>
                <a:ext cx="22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75360" y="266004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117960" y="3574440"/>
                <a:ext cx="22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565880" y="3726720"/>
                <a:ext cx="762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Degree Of A Verte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degree is number of incoming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gree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gree(8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60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balanced binary 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3 &amp; 2-3-4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-Degree Of A Verte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-degree is number of outbound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utdegree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utdegree(8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95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 Of In- And Out-Deg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contribut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in-degree of some vertex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out-degree of some other ve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in-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out-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edges in the di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fine its balance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alance factor of x = height of left subtree of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- height of right subtree of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factor of every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 Facto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6095520"/>
            <a:ext cx="6400800" cy="7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AVL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n AVL 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.44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i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92920" y="1706400"/>
            <a:ext cx="8237880" cy="4329720"/>
            <a:chOff x="592920" y="1706400"/>
            <a:chExt cx="8237880" cy="4329720"/>
          </a:xfrm>
        </p:grpSpPr>
        <p:sp>
          <p:nvSpPr>
            <p:cNvPr id="102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599840" y="33526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920" y="4602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16800" y="4602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0120" y="3535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2080" y="3611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6800" y="2697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4400" y="536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07000" y="45259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60200" y="4525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0880" y="3535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1760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60040" y="34592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69680" y="2697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3320" y="17064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4080" y="48070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191120"/>
            <a:ext cx="3808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2640" y="4602240"/>
            <a:ext cx="31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17360" y="356544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60320" y="2651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64987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7280" y="61786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6248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5867280"/>
            <a:ext cx="533520" cy="381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651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54920" y="53640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6120" y="4602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411880"/>
            <a:ext cx="49532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 imbalance =&gt; new node is in right subtree of right subtree of blue node (node with b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3:11Z</dcterms:modified>
  <cp:revision>68</cp:revision>
  <dc:subject/>
  <dc:title>Data Representation Methods</dc:title>
</cp:coreProperties>
</file>