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E8E120-E138-4136-914A-F6996BA7A9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nis lad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ext for case when number of players is not a powe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center in Jacksonville sends packages to distribution center in Miami. Use the fewest number of tru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077-9593-400B-8717-84E481F9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F13-F292-45A6-A3CD-FD68BF5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DC1-9538-4F99-9F5B-4885007F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693-3295-4854-9C91-54AAF8C8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E12-D5CF-4E96-A61D-9A68BDA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9EF-A2CB-42D7-8C2A-186F12D7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526-5891-400B-955F-F998906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920-5927-4492-A746-BBABD01E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C53-8977-4580-A22A-106BB463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7B1-B77C-4AC4-82EF-784384E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59D-9ED2-4720-985E-36BFAF7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0F1-1065-4751-A566-E1BFBEF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90C-839D-470F-A3B7-A6879C2A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ournamen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38862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rnal nod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nodes represent tournament pla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ternal node represents a match played between its two children; the winner of the match is stored at the internal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overall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50532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507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To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sort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1" name="CLOCK43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/replace winner and re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ta(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88000" y="1301760"/>
            <a:ext cx="8317800" cy="4307400"/>
            <a:chOff x="288000" y="1301760"/>
            <a:chExt cx="8317800" cy="4307400"/>
          </a:xfrm>
        </p:grpSpPr>
        <p:sp>
          <p:nvSpPr>
            <p:cNvPr id="232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609480" y="6019920"/>
            <a:ext cx="723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2840" y="1301760"/>
            <a:ext cx="8292960" cy="5389560"/>
            <a:chOff x="312840" y="1301760"/>
            <a:chExt cx="8292960" cy="5389560"/>
          </a:xfrm>
        </p:grpSpPr>
        <p:sp>
          <p:nvSpPr>
            <p:cNvPr id="5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2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1280" y="38098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8120" y="62546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6172200"/>
              <a:ext cx="205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5880" y="6172200"/>
              <a:ext cx="236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tch 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914400" y="601992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nent is player who lost last match played at this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tch node stores the match loser rather than the match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327560" y="1325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384960" y="2468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601992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element win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min winner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4273560" y="4636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4326480" y="487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4495680" y="914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4876560" y="6094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oser Tree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ore of a left child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2" name="CLOCK43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4" name=""/>
          <p:cNvGrpSpPr/>
          <p:nvPr/>
        </p:nvGrpSpPr>
        <p:grpSpPr>
          <a:xfrm>
            <a:off x="288000" y="463680"/>
            <a:ext cx="8317800" cy="5145480"/>
            <a:chOff x="288000" y="463680"/>
            <a:chExt cx="8317800" cy="5145480"/>
          </a:xfrm>
        </p:grpSpPr>
        <p:sp>
          <p:nvSpPr>
            <p:cNvPr id="3435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273560" y="463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326480" y="487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95680" y="914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4876560" y="6094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990720" y="594360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replay m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2590920" y="4432320"/>
            <a:ext cx="458640" cy="444600"/>
            <a:chOff x="2590920" y="4432320"/>
            <a:chExt cx="458640" cy="444600"/>
          </a:xfrm>
        </p:grpSpPr>
        <p:sp>
          <p:nvSpPr>
            <p:cNvPr id="3533" name=""/>
            <p:cNvSpPr/>
            <p:nvPr/>
          </p:nvSpPr>
          <p:spPr>
            <a:xfrm>
              <a:off x="2590920" y="443232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643840" y="4456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3124080" y="3429000"/>
            <a:ext cx="458640" cy="444600"/>
            <a:chOff x="3124080" y="3429000"/>
            <a:chExt cx="458640" cy="444600"/>
          </a:xfrm>
        </p:grpSpPr>
        <p:sp>
          <p:nvSpPr>
            <p:cNvPr id="3536" name=""/>
            <p:cNvSpPr/>
            <p:nvPr/>
          </p:nvSpPr>
          <p:spPr>
            <a:xfrm>
              <a:off x="3124080" y="3429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177000" y="3452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2361240" y="5181480"/>
            <a:ext cx="405360" cy="397440"/>
            <a:chOff x="2361240" y="5181480"/>
            <a:chExt cx="405360" cy="397440"/>
          </a:xfrm>
        </p:grpSpPr>
        <p:sp>
          <p:nvSpPr>
            <p:cNvPr id="3539" name=""/>
            <p:cNvSpPr/>
            <p:nvPr/>
          </p:nvSpPr>
          <p:spPr>
            <a:xfrm>
              <a:off x="2392560" y="5241600"/>
              <a:ext cx="374040" cy="3366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361240" y="5181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2133720" y="2286000"/>
            <a:ext cx="458640" cy="444600"/>
            <a:chOff x="2133720" y="2286000"/>
            <a:chExt cx="458640" cy="444600"/>
          </a:xfrm>
        </p:grpSpPr>
        <p:sp>
          <p:nvSpPr>
            <p:cNvPr id="3542" name=""/>
            <p:cNvSpPr/>
            <p:nvPr/>
          </p:nvSpPr>
          <p:spPr>
            <a:xfrm>
              <a:off x="2133720" y="2286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186640" y="2309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4267080" y="1308240"/>
            <a:ext cx="458640" cy="444240"/>
            <a:chOff x="4267080" y="1308240"/>
            <a:chExt cx="458640" cy="444240"/>
          </a:xfrm>
        </p:grpSpPr>
        <p:sp>
          <p:nvSpPr>
            <p:cNvPr id="3545" name=""/>
            <p:cNvSpPr/>
            <p:nvPr/>
          </p:nvSpPr>
          <p:spPr>
            <a:xfrm>
              <a:off x="4267080" y="1308240"/>
              <a:ext cx="458640" cy="444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320000" y="1331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4267080" y="469800"/>
            <a:ext cx="458640" cy="444600"/>
            <a:chOff x="4267080" y="469800"/>
            <a:chExt cx="458640" cy="444600"/>
          </a:xfrm>
        </p:grpSpPr>
        <p:sp>
          <p:nvSpPr>
            <p:cNvPr id="3548" name=""/>
            <p:cNvSpPr/>
            <p:nvPr/>
          </p:nvSpPr>
          <p:spPr>
            <a:xfrm>
              <a:off x="4267080" y="4698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320000" y="493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level that has a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log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2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re Tournament Tree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merging of runs during an external merge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to be loaded into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ckage has a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uck has a capacity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number of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533520" y="1828800"/>
            <a:ext cx="7864200" cy="822240"/>
            <a:chOff x="533520" y="1828800"/>
            <a:chExt cx="7864200" cy="822240"/>
          </a:xfrm>
        </p:grpSpPr>
        <p:pic>
          <p:nvPicPr>
            <p:cNvPr id="3558" name="truck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9" name="truck" descr=""/>
            <p:cNvPicPr/>
            <p:nvPr/>
          </p:nvPicPr>
          <p:blipFill>
            <a:blip r:embed="rId2"/>
            <a:stretch/>
          </p:blipFill>
          <p:spPr>
            <a:xfrm>
              <a:off x="266688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0" name="truck" descr=""/>
            <p:cNvPicPr/>
            <p:nvPr/>
          </p:nvPicPr>
          <p:blipFill>
            <a:blip r:embed="rId3"/>
            <a:stretch/>
          </p:blipFill>
          <p:spPr>
            <a:xfrm>
              <a:off x="480060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1" name="truck" descr=""/>
            <p:cNvPicPr/>
            <p:nvPr/>
          </p:nvPicPr>
          <p:blipFill>
            <a:blip r:embed="rId4"/>
            <a:stretch/>
          </p:blipFill>
          <p:spPr>
            <a:xfrm>
              <a:off x="69343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2" name=""/>
          <p:cNvGrpSpPr/>
          <p:nvPr/>
        </p:nvGrpSpPr>
        <p:grpSpPr>
          <a:xfrm>
            <a:off x="1523880" y="3124080"/>
            <a:ext cx="5638320" cy="299520"/>
            <a:chOff x="1523880" y="3124080"/>
            <a:chExt cx="5638320" cy="299520"/>
          </a:xfrm>
        </p:grpSpPr>
        <p:grpSp>
          <p:nvGrpSpPr>
            <p:cNvPr id="3563" name=""/>
            <p:cNvGrpSpPr/>
            <p:nvPr/>
          </p:nvGrpSpPr>
          <p:grpSpPr>
            <a:xfrm>
              <a:off x="1523880" y="3124080"/>
              <a:ext cx="2742840" cy="299520"/>
              <a:chOff x="1523880" y="3124080"/>
              <a:chExt cx="2742840" cy="299520"/>
            </a:xfrm>
          </p:grpSpPr>
          <p:sp>
            <p:nvSpPr>
              <p:cNvPr id="3564" name=""/>
              <p:cNvSpPr/>
              <p:nvPr/>
            </p:nvSpPr>
            <p:spPr>
              <a:xfrm>
                <a:off x="1563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798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033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268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503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738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9739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2090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44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679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914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149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523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758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994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229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464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699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9347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1698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404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639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875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110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8" name=""/>
            <p:cNvGrpSpPr/>
            <p:nvPr/>
          </p:nvGrpSpPr>
          <p:grpSpPr>
            <a:xfrm>
              <a:off x="4419360" y="3124080"/>
              <a:ext cx="2742840" cy="299520"/>
              <a:chOff x="4419360" y="3124080"/>
              <a:chExt cx="2742840" cy="299520"/>
            </a:xfrm>
          </p:grpSpPr>
          <p:sp>
            <p:nvSpPr>
              <p:cNvPr id="3589" name=""/>
              <p:cNvSpPr/>
              <p:nvPr/>
            </p:nvSpPr>
            <p:spPr>
              <a:xfrm>
                <a:off x="4458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693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928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63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989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6340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869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04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39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74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809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044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419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654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889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24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3596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5947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830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065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300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535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770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005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ad packages from left to right. If a package doesn’t fit into current truck, start loading a new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85800" y="4038480"/>
            <a:ext cx="80773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ses 3 trucks when 2 trucks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685800" y="4038480"/>
            <a:ext cx="8077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to be packed into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 has a capacit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number of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6019920"/>
            <a:ext cx="845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player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ck loading is same as bin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ck is a bin that is to be packed (load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ackage is an item/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 to minimize number of bins is NP-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ast heuristic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are arranged in left to right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tem is packed into leftmost bin into which it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bin into which current item fits, start a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514600" y="510552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ck red item into first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96840" y="5340240"/>
            <a:ext cx="673200" cy="7495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743200" y="4724280"/>
            <a:ext cx="6172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ck blue item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esn’t fit, so start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3657600" y="5181480"/>
            <a:ext cx="518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ck yellow item into first bin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4038480" y="5105520"/>
            <a:ext cx="4953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ck gree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eed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04496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4044960" y="5111640"/>
            <a:ext cx="673200" cy="978120"/>
          </a:xfrm>
          <a:prstGeom prst="rect">
            <a:avLst/>
          </a:prstGeom>
          <a:solidFill>
            <a:srgbClr val="33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4952880" y="4572000"/>
            <a:ext cx="3962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bin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fir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bin for an item, first determine s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into which the item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 is 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start a new bin and put item into this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pack into bin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least available ca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lay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be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and best f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7/10)(Minimum Bins)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decreasing and best fit decrea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1/9)(Minimum Bins)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4" name="3skel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ax tournament tree in which the players 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 and the value of a player is the available capacity in the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7" name="CLOCK43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elements to be sorted into a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extract the winner and replace by a larg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38862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0:30Z</dcterms:modified>
  <cp:revision>60</cp:revision>
  <dc:subject/>
  <dc:title>Data Representation Methods</dc:title>
</cp:coreProperties>
</file>