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7309A0-87B8-48EA-A7D3-B4D23885E8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() values may be computed easily using a postorder traver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4B9-AC7D-4B36-BE64-7DF9176B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4EE-3887-4B0E-835F-39DCE634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D5D-BF6E-4B5C-B133-96B532FA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B37-0F11-40F6-A2FC-41A035DE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67D-1740-4BFC-A6C7-24DC51D9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D2F-0D04-4944-A2DC-80EC08D7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B26-B47D-42E8-924F-0DFF4220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20D-737F-4BF1-BCFF-BE14EADD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01D-3C09-41F7-953F-997D06BF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900-9ED1-493F-86DC-7B71C170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489-4FF3-4287-A8B2-B9E66D04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AE8-3CA7-49BE-BCE5-AC8CE76E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09F4-454F-45D8-989B-51FE5BEA5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array 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-, 1, 2, 3, 4, 5, 6, 7, 8, 9, 10, 1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5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419720"/>
              <a:ext cx="533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1523880"/>
              <a:ext cx="83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3720" y="251460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740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441972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210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76520" y="563868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460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5638680"/>
            <a:ext cx="861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, move to next lower array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78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117880" y="25146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4920" y="4878360"/>
            <a:ext cx="84582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heap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ubtrees with root at leve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2 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each subtree i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O(h-j+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CLOCK4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04920" y="1523880"/>
            <a:ext cx="84582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leve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trees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-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h-j+1) = t(j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1) + t(2) + … + t(h-1) = 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CLOCK4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d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o everything a heap can do and in the same asymptotic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eld two leftist tree priority queue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53337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t rightmost array position that has a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943600"/>
            <a:ext cx="7696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tended Binary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06668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y binary tree and add an external node wherever there is an empty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xtend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 Extended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71600" y="6095880"/>
            <a:ext cx="601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xternal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Function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extended binary tree,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ength of a 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external node in the subtree rooted 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Value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35080" y="1454040"/>
            <a:ext cx="8140680" cy="4102200"/>
            <a:chOff x="235080" y="1454040"/>
            <a:chExt cx="8140680" cy="4102200"/>
          </a:xfrm>
        </p:grpSpPr>
        <p:sp>
          <p:nvSpPr>
            <p:cNvPr id="72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21080" y="44258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82840" y="4425840"/>
              <a:ext cx="29232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21480" y="44258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083440" y="34354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50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208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780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98756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590920" y="3733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00400" y="365760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304560" y="472428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38080" y="4800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523880" y="4724280"/>
              <a:ext cx="1526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81080" y="4800600"/>
              <a:ext cx="152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86400" y="3733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81680" y="2819520"/>
              <a:ext cx="1447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121280" y="518796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87960" y="518796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190760" y="4648320"/>
              <a:ext cx="5331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29200" y="46483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Value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perties Of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xternal node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x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wi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x) = min {s(leftChild(x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rightChild(x))}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Biased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 is a (height biased) leftist tree iff for every internal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leftChild(x)) &gt;= s(rightChild(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--Property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leftist tree, the rightmost path is a shortest root to external node path and the length of this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next lower array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914400" y="6172200"/>
            <a:ext cx="632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rightmost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—Property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internal nodes is at l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s(root)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leve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no ex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 &lt;= log(n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" y="5943600"/>
            <a:ext cx="845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no ex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—Property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rightmost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 in a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from Properties 1 and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 As Priority Que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52280" y="2362320"/>
            <a:ext cx="845820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leftist tree … leftist tree that is a m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a min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leftist tree … leftist tree that is a ma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a 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Min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Min Leftist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04920" y="1981080"/>
            <a:ext cx="8610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eld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itializ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move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eld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571500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ingle node min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397640" y="5721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26880" y="5745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800" y="5487840"/>
            <a:ext cx="76201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ingle node min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the two min leftist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397640" y="5721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526880" y="5745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57200" y="5181480"/>
            <a:ext cx="7238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57200" y="5181480"/>
            <a:ext cx="7238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the two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63680" y="2444760"/>
            <a:ext cx="7607160" cy="2349360"/>
            <a:chOff x="463680" y="2444760"/>
            <a:chExt cx="7607160" cy="2349360"/>
          </a:xfrm>
        </p:grpSpPr>
        <p:sp>
          <p:nvSpPr>
            <p:cNvPr id="120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707720" y="4297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365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262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6795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81680" y="2819520"/>
              <a:ext cx="9907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152280" y="541008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rse only the rightmost paths so as to get logarithmic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063880" y="1301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07280" y="1301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731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82564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879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63680" y="3206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06680" y="3206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1371240" y="1676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438280" y="1676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5562720" y="1752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62120" y="2514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47920" y="2514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654440" y="3130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4952520" y="2590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16600" y="3230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59600" y="3230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707720" y="3154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60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87892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2408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1680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53652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624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7952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81680" y="1676520"/>
            <a:ext cx="9907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0880" y="419112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407280" y="1530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07316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8256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879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63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606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371240" y="19051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438280" y="19051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5562720" y="19810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762120" y="27432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447920" y="27432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5444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4952520" y="28195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16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59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07720" y="3382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260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789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2408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53652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6262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6795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28600" y="4343400"/>
            <a:ext cx="800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07316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256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63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06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1371240" y="19051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762120" y="27432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7432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16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59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1260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8789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664080" y="14540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71700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28600" y="4343400"/>
            <a:ext cx="800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438280" y="19051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664080" y="14540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71700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28600" y="4343400"/>
            <a:ext cx="80010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ubtree of 6 is empty. So, result of melding right subtree of tree with smaller root and other tree is the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0" y="487692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0" y="23623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2063880" y="1454040"/>
            <a:ext cx="2044440" cy="520920"/>
            <a:chOff x="2063880" y="1454040"/>
            <a:chExt cx="2044440" cy="520920"/>
          </a:xfrm>
        </p:grpSpPr>
        <p:sp>
          <p:nvSpPr>
            <p:cNvPr id="1315" name=""/>
            <p:cNvSpPr/>
            <p:nvPr/>
          </p:nvSpPr>
          <p:spPr>
            <a:xfrm>
              <a:off x="2063880" y="1530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16800" y="1554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664080" y="1454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71700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054240" y="3130560"/>
            <a:ext cx="1047960" cy="1504800"/>
            <a:chOff x="3054240" y="3130560"/>
            <a:chExt cx="1047960" cy="1504800"/>
          </a:xfrm>
        </p:grpSpPr>
        <p:sp>
          <p:nvSpPr>
            <p:cNvPr id="1320" name=""/>
            <p:cNvSpPr/>
            <p:nvPr/>
          </p:nvSpPr>
          <p:spPr>
            <a:xfrm>
              <a:off x="3054240" y="31305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10752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57600" y="419112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32840" y="4191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76720" y="3581280"/>
              <a:ext cx="6094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7245360" y="5111640"/>
            <a:ext cx="749160" cy="1511280"/>
            <a:chOff x="7245360" y="5111640"/>
            <a:chExt cx="749160" cy="1511280"/>
          </a:xfrm>
        </p:grpSpPr>
        <p:sp>
          <p:nvSpPr>
            <p:cNvPr id="1326" name=""/>
            <p:cNvSpPr/>
            <p:nvPr/>
          </p:nvSpPr>
          <p:spPr>
            <a:xfrm>
              <a:off x="7550280" y="51116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603200" y="5135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45360" y="61786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98280" y="6202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7467120" y="55627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5416560" y="1378080"/>
            <a:ext cx="2806560" cy="2349360"/>
            <a:chOff x="5416560" y="1378080"/>
            <a:chExt cx="2806560" cy="2349360"/>
          </a:xfrm>
        </p:grpSpPr>
        <p:sp>
          <p:nvSpPr>
            <p:cNvPr id="1333" name=""/>
            <p:cNvSpPr/>
            <p:nvPr/>
          </p:nvSpPr>
          <p:spPr>
            <a:xfrm>
              <a:off x="7016760" y="137808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26040" y="22161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78880" y="22161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16560" y="32828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59560" y="32828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324120" y="175248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391520" y="175248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5715000" y="2590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400800" y="2590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469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12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07932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83180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069680" y="1401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473960" y="32828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26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7695720" y="2666880"/>
              <a:ext cx="2286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463680" y="1530360"/>
            <a:ext cx="3568680" cy="2349360"/>
            <a:chOff x="463680" y="1530360"/>
            <a:chExt cx="3568680" cy="2349360"/>
          </a:xfrm>
        </p:grpSpPr>
        <p:sp>
          <p:nvSpPr>
            <p:cNvPr id="1351" name=""/>
            <p:cNvSpPr/>
            <p:nvPr/>
          </p:nvSpPr>
          <p:spPr>
            <a:xfrm>
              <a:off x="2063880" y="153036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073160" y="23684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3680" y="3435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606680" y="3435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1371240" y="19051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762120" y="27432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447920" y="27432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16600" y="3459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59600" y="3459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126080" y="2392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116800" y="1554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8776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0680" y="1706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828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336120" y="2773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3504960" y="21337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0" y="457200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0" y="5867280"/>
            <a:ext cx="67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2063880" y="1378080"/>
            <a:ext cx="2197080" cy="2273040"/>
            <a:chOff x="2063880" y="1378080"/>
            <a:chExt cx="2197080" cy="2273040"/>
          </a:xfrm>
        </p:grpSpPr>
        <p:sp>
          <p:nvSpPr>
            <p:cNvPr id="1371" name=""/>
            <p:cNvSpPr/>
            <p:nvPr/>
          </p:nvSpPr>
          <p:spPr>
            <a:xfrm>
              <a:off x="3816360" y="1378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97040" y="2216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2971800" y="182880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63880" y="3206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362320" y="266688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116800" y="3230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5032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945600" y="1401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152280" y="6172200"/>
            <a:ext cx="746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2280" y="525780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273560" y="2292480"/>
            <a:ext cx="2806560" cy="2349360"/>
            <a:chOff x="4273560" y="2292480"/>
            <a:chExt cx="2806560" cy="2349360"/>
          </a:xfrm>
        </p:grpSpPr>
        <p:sp>
          <p:nvSpPr>
            <p:cNvPr id="1382" name=""/>
            <p:cNvSpPr/>
            <p:nvPr/>
          </p:nvSpPr>
          <p:spPr>
            <a:xfrm>
              <a:off x="5873760" y="22924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83040" y="313056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35880" y="313056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735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165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5181120" y="266688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248520" y="266688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4572000" y="35053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57800" y="35053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3264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4694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93632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8880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92668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309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838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552720" y="3581280"/>
              <a:ext cx="2286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4191120" y="175248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1636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6451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2971800" y="18288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111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409720" y="28954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16492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980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945600" y="1401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673360" y="2139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82640" y="29782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435480" y="2978280"/>
            <a:ext cx="44424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731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161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980720" y="251460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048120" y="251460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1371600" y="335268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057400" y="335268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1260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690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359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488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7262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1305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1834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3352320" y="3429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191120" y="175248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In O(n)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node min leftist trees and place them in a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remove two min leftist trees from the FIFO queue, meld them, and put the resulting min leftist tree into the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terminates when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 leftist tree remains in the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is the same as for heap initialization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563868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29:13Z</dcterms:modified>
  <cp:revision>54</cp:revision>
  <dc:subject/>
  <dc:title>Data Representation Methods</dc:title>
</cp:coreProperties>
</file>