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73710D4-2B0B-47DB-8A69-C204A3F2C7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schedule is constructed by scheduling the jobs in the order they appear in the given job list (left to right); each job is scheduled on the machine on which it will complete earli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height must be an integer, the precise expression for height is ceiling(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log</a:t>
            </a:r>
            <a:r>
              <a:rPr b="0" lang="en-US" sz="1200" spc="-1" strike="noStrike" baseline="-25000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 (n+1)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9D3-7B09-4430-B38D-BD38EDDD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7EE-49DC-40B2-BBB0-292E3957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1ED-D515-4BE7-A3AD-3B85147A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EBE-9AFA-47AA-A6B7-DCE253FC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29A-FD13-417B-9698-7F541836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A67-7524-4644-8C6D-584B8000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B11-383C-4AFF-840E-B9B7395D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6F9-B355-45BF-91BA-76A83FE6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93B-D063-41F1-BE86-A05DC752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999-4C2A-45D6-A970-C5089D23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851-8CF9-46F1-8DE5-B9E2E22C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D26-F95D-42DF-92CB-E202DB94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A929-A545-4EB8-BD07-30811FE7E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ority Queu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kinds of priority que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R" descr=""/>
          <p:cNvPicPr/>
          <p:nvPr/>
        </p:nvPicPr>
        <p:blipFill>
          <a:blip r:embed="rId1"/>
          <a:stretch/>
        </p:blipFill>
        <p:spPr>
          <a:xfrm>
            <a:off x="7162920" y="990720"/>
            <a:ext cx="1485720" cy="1028520"/>
          </a:xfrm>
          <a:prstGeom prst="rect">
            <a:avLst/>
          </a:prstGeom>
          <a:ln w="0">
            <a:noFill/>
          </a:ln>
        </p:spPr>
      </p:pic>
      <p:pic>
        <p:nvPicPr>
          <p:cNvPr id="51" name="SPOT-L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1485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Third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74560" y="25290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Fourth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Fifth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Sor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operation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 O(n log 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move max operation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 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wi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rt methods of Chapter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ap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max priority queue that is implemented as a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put operations are replaced by a heap initialization step that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dentical machines (drill press, cutter, sander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s/tasks to be per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jobs to machines so that the time at which the last job completes is 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times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6, 2, 3, 5, 10, 7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343400"/>
            <a:ext cx="70102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5181480"/>
            <a:ext cx="701028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6019920"/>
            <a:ext cx="701028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4520" y="41450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4880" y="498312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4880" y="582120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6400800"/>
            <a:ext cx="312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-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82640" y="4121280"/>
            <a:ext cx="978120" cy="215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81168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82640" y="4959360"/>
            <a:ext cx="29232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464832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82640" y="5797440"/>
            <a:ext cx="444600" cy="216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54100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82640" y="4959360"/>
            <a:ext cx="29232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464832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7560" y="4959360"/>
            <a:ext cx="90180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9840" y="5797440"/>
            <a:ext cx="2121120" cy="216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54100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73360" y="4121280"/>
            <a:ext cx="1587600" cy="215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38116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01960" y="4959360"/>
            <a:ext cx="295920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464832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0" y="5105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time =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bjectiv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nd schedules with minimum finis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2362320"/>
            <a:ext cx="70102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200400"/>
            <a:ext cx="701028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038480"/>
            <a:ext cx="701028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98200" y="21636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98560" y="300204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98560" y="384012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191120"/>
            <a:ext cx="31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-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6680" y="2139840"/>
            <a:ext cx="977760" cy="216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183024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6680" y="2978280"/>
            <a:ext cx="29196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6668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6680" y="3816360"/>
            <a:ext cx="444240" cy="216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34290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6680" y="2978280"/>
            <a:ext cx="29196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66688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11240" y="2978280"/>
            <a:ext cx="90180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63880" y="3816360"/>
            <a:ext cx="2120760" cy="216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342900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7040" y="2139840"/>
            <a:ext cx="1587600" cy="216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183024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5640" y="2978280"/>
            <a:ext cx="295920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66688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e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cess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s are scheduled in the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4, 10, 7, 6, 5, 3,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is scheduled on the machine on which it finishes earli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4, 10, 7, 6, 5, 3, 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3657600"/>
            <a:ext cx="678204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342900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4419720"/>
            <a:ext cx="678204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4760" y="4184640"/>
            <a:ext cx="393480" cy="397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5257800"/>
            <a:ext cx="678204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4760" y="5022720"/>
            <a:ext cx="393480" cy="397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44560" y="3359160"/>
            <a:ext cx="318780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2971800"/>
            <a:ext cx="5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44560" y="4121280"/>
            <a:ext cx="21970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380988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4560" y="4959360"/>
            <a:ext cx="158760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6483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44760" y="4959360"/>
            <a:ext cx="158760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648320"/>
            <a:ext cx="5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54240" y="4121280"/>
            <a:ext cx="1511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3809880"/>
            <a:ext cx="5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44960" y="4959360"/>
            <a:ext cx="12063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6483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44960" y="3359160"/>
            <a:ext cx="128268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29200" y="29718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58672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time is 16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Priority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priority or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following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/put an element into the priority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element with min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element with min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rule does not guarantee minimum finish time sched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LPT Finish Time)/(Minimum Finish Time) &lt;= 4/3 - 1/(3m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LPT finish time is much closer to minimum finis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finish time scheduling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P-hard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amous class of problems for which no one has developed a polynomial time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no algorithm whose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consta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known for any NP-hard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includes thousands of real-world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y unlikely that any NP-hard problem can be solved by a polynomial time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P-hard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even polynomial time algorithms with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ay) are not practical for lar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must change our expectations of the algorithm that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develop fast heuristics for NP-hard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that gives a solution close to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s in acceptable amount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rule is good heuristic for minimum finish time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LPT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jobs into decreasing order of task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umber of job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 jobs in this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job to machine that becomes availabl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find minimum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machines) finish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m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using simple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ne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m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to schedule al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sing A Min Priority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priority queue has the finish times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finish times are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chedule a job remove machine with minimum finish time from the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he finish time of the selected machine and put the machine back into the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sing A Min Priority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operations to initialize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move min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t to schedule each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ut and remove min operation take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m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schedul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time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 + n log m) = O(n log (mn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uffman C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in lossless com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used in conjunction with LZW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from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Tree Defini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ee node has a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n any node is the minimum value in the subtree for which that node is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, no descendent has a smaller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Tree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63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7336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1636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164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756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68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971800" y="243828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7080" y="2438280"/>
            <a:ext cx="9907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2096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34290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1164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4516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0216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8006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22096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38862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39625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39625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48006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48006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has minimum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 Tree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163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7336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1636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1164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756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68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971800" y="243828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67080" y="2438280"/>
            <a:ext cx="9907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2096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4290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164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4516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0216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8006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864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22096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148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7400" y="38862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39625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39625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48006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48006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has maximum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priority or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following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/put an element into the priority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element wit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element wi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Heap Defini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240" y="213372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Heap With 9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302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Heap With 9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that is also a mi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322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 Heap With 9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that is also a max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351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ap Heigh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a heap is a complete binary tree, the height of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heap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n+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371600" y="5280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22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94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66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638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210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782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354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926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98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70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642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214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786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358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930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502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074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765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37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81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769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193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65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81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197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60199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 Heap Is Efficiently Represented As An Arra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419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ving Up And Down A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57200" y="1066680"/>
            <a:ext cx="7848720" cy="4207680"/>
            <a:chOff x="457200" y="1066680"/>
            <a:chExt cx="7848720" cy="4207680"/>
          </a:xfrm>
        </p:grpSpPr>
        <p:sp>
          <p:nvSpPr>
            <p:cNvPr id="447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95680" y="106668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33720" y="19810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553080" y="198108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720" y="28195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6720" y="28954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76920" y="28954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924680" y="281952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7200" y="48769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76520" y="48769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485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2438280" y="3733920"/>
            <a:ext cx="526680" cy="1060200"/>
            <a:chOff x="2438280" y="3733920"/>
            <a:chExt cx="526680" cy="1060200"/>
          </a:xfrm>
        </p:grpSpPr>
        <p:sp>
          <p:nvSpPr>
            <p:cNvPr id="512" name=""/>
            <p:cNvSpPr/>
            <p:nvPr/>
          </p:nvSpPr>
          <p:spPr>
            <a:xfrm>
              <a:off x="24912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38280" y="434988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2736360" y="37339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1371240" y="281952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33526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good implementations are heaps and leftist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Empty, size, and g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O(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and 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O(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size of the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Pu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heap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463680" y="1454040"/>
            <a:ext cx="7530840" cy="3363120"/>
            <a:chOff x="463680" y="1454040"/>
            <a:chExt cx="7530840" cy="3363120"/>
          </a:xfrm>
        </p:grpSpPr>
        <p:sp>
          <p:nvSpPr>
            <p:cNvPr id="82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884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4447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2742840" y="37339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14600" y="4419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91120" y="1523880"/>
              <a:ext cx="838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354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200400" y="365760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057400" y="25146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24280" y="3733920"/>
            <a:ext cx="603000" cy="1136520"/>
            <a:chOff x="4724280" y="3733920"/>
            <a:chExt cx="603000" cy="1136520"/>
          </a:xfrm>
        </p:grpSpPr>
        <p:sp>
          <p:nvSpPr>
            <p:cNvPr id="855" name=""/>
            <p:cNvSpPr/>
            <p:nvPr/>
          </p:nvSpPr>
          <p:spPr>
            <a:xfrm>
              <a:off x="4724280" y="442620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5022360" y="3733920"/>
              <a:ext cx="3049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element is in the 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463680" y="1454040"/>
            <a:ext cx="7530840" cy="3363120"/>
            <a:chOff x="463680" y="1454040"/>
            <a:chExt cx="7530840" cy="3363120"/>
          </a:xfrm>
        </p:grpSpPr>
        <p:sp>
          <p:nvSpPr>
            <p:cNvPr id="86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884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447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2742840" y="37339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14600" y="4419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91120" y="1523880"/>
              <a:ext cx="838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354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200400" y="365760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57400" y="25146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ax element is rem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element key as pri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elements to be sorted into a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ct elements in priority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in priority queue is used, elements are extracted in ascending order of priority (or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ax priority queue is used, elements are extracted in descending order of priority (or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p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0f36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447920" y="6019920"/>
            <a:ext cx="640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191120" y="144792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91120" y="144792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91120" y="144792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ax element is rem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91120" y="14479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p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0f36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191120" y="14479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191120" y="14479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91120" y="1447920"/>
            <a:ext cx="304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191120" y="1447920"/>
            <a:ext cx="304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133720" y="243828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954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five elements whose keys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, 8, 2, 4,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max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the five elements into a max priority que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five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max operations placing removed elements into the sorted array from right to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Remov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463680" y="1447920"/>
            <a:ext cx="7530840" cy="3346200"/>
            <a:chOff x="463680" y="1447920"/>
            <a:chExt cx="7530840" cy="3346200"/>
          </a:xfrm>
        </p:grpSpPr>
        <p:sp>
          <p:nvSpPr>
            <p:cNvPr id="1247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191120" y="1447920"/>
              <a:ext cx="304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133720" y="24382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954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Putting Into Max Priority Queu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528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5524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74560" y="25290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2684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First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528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74560" y="25290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2684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Second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74560" y="25290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684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28:13Z</dcterms:modified>
  <cp:revision>43</cp:revision>
  <dc:subject/>
  <dc:title>Data Representation Methods</dc:title>
</cp:coreProperties>
</file>