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868-059D-49B1-9B32-CE99286CF9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lone using postorder traversal … clone the left subtree, clone the right subtree, clone the root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height using postorder traversal … determine the height of the left subtree, determine the height of the right subtree, in the visit step add 1 to the max of the already determined heights of the left and right sub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number of nodes using preorder, inorder, or postorder traversal … initialize a counter to 0, add 1 to the counter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s the root of the subtree being tra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traversal, t starts at the root, moves to the left child b of the root, then to the left child d of b. When the traversal of the left subtree of b is complete, t, once again, points to the node b. The t moves into the right subtree of b. When the traversal of this right subtree is complete, t again points to b. Following this, t points to a. We see that t points to every node in the binary tree three times – once when you get to the node from its parent (or in the case of the root, t is initially at the root), once when you return from the left subtree of the node, and once when you return from the node’s right subtree. Of these three times that t points to a node, the node is visited the fir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844-A476-4901-9D91-ECAE6DD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ED8-E2B7-4FF9-AF4E-F9191B99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695-DB62-4B52-99C1-BB0E68FE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373-287F-4462-B07B-5A492504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7E1-1515-4EA3-ADAF-44E38E38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078-9838-4F81-8575-DFC1974C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814-C251-4D07-B02B-5E98F21E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F68-C829-492C-89EE-E816306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EF6-DE44-465C-A790-985668A0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6E5-544E-42F1-9E73-3FFA250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DB5-4D7E-4DD7-AEC8-63BE05D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A7B-734D-49A9-B084-30225BA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BF4-C68B-46FC-B438-B0DBAFDE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1189080" cy="109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1237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 of a binary tree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By Projection (Squishin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66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73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78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97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311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66680" y="5486400"/>
            <a:ext cx="5486400" cy="657720"/>
            <a:chOff x="1066680" y="5486400"/>
            <a:chExt cx="5486400" cy="657720"/>
          </a:xfrm>
        </p:grpSpPr>
        <p:sp>
          <p:nvSpPr>
            <p:cNvPr id="316" name=""/>
            <p:cNvSpPr/>
            <p:nvPr/>
          </p:nvSpPr>
          <p:spPr>
            <a:xfrm>
              <a:off x="1066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86400" y="5562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2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1828800"/>
            <a:ext cx="5029200" cy="3581280"/>
            <a:chOff x="1295280" y="1828800"/>
            <a:chExt cx="5029200" cy="3581280"/>
          </a:xfrm>
        </p:grpSpPr>
        <p:sp>
          <p:nvSpPr>
            <p:cNvPr id="327" name=""/>
            <p:cNvSpPr/>
            <p:nvPr/>
          </p:nvSpPr>
          <p:spPr>
            <a:xfrm>
              <a:off x="6324480" y="2819520"/>
              <a:ext cx="0" cy="2590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419720"/>
              <a:ext cx="0" cy="99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38680" y="35812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8320" y="18288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809880"/>
              <a:ext cx="0" cy="1524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71800" y="28954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28800" y="38862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339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infix form of expression (sans parenthes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600200" y="1600200"/>
            <a:ext cx="5410080" cy="3581280"/>
            <a:chOff x="1600200" y="1600200"/>
            <a:chExt cx="5410080" cy="3581280"/>
          </a:xfrm>
        </p:grpSpPr>
        <p:sp>
          <p:nvSpPr>
            <p:cNvPr id="373" name=""/>
            <p:cNvSpPr/>
            <p:nvPr/>
          </p:nvSpPr>
          <p:spPr>
            <a:xfrm>
              <a:off x="6477120" y="2666880"/>
              <a:ext cx="0" cy="2514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360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16002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2428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3809880"/>
              <a:ext cx="0" cy="1371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26668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3720" y="36576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020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392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1028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71600" y="5105520"/>
            <a:ext cx="5867280" cy="581400"/>
            <a:chOff x="1371600" y="5105520"/>
            <a:chExt cx="5867280" cy="581400"/>
          </a:xfrm>
        </p:grpSpPr>
        <p:sp>
          <p:nvSpPr>
            <p:cNvPr id="385" name=""/>
            <p:cNvSpPr/>
            <p:nvPr/>
          </p:nvSpPr>
          <p:spPr>
            <a:xfrm>
              <a:off x="5791320" y="5105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371600" y="5105520"/>
              <a:ext cx="5867280" cy="581400"/>
              <a:chOff x="1371600" y="5105520"/>
              <a:chExt cx="5867280" cy="581400"/>
            </a:xfrm>
          </p:grpSpPr>
          <p:sp>
            <p:nvSpPr>
              <p:cNvPr id="387" name=""/>
              <p:cNvSpPr/>
              <p:nvPr/>
            </p:nvSpPr>
            <p:spPr>
              <a:xfrm>
                <a:off x="1371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5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38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81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56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00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/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80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384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ost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leftChild)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righ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401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02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420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427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435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442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46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51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465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481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ost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versal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43000" y="990720"/>
            <a:ext cx="5562720" cy="3322080"/>
            <a:chOff x="1143000" y="990720"/>
            <a:chExt cx="5562720" cy="3322080"/>
          </a:xfrm>
        </p:grpSpPr>
        <p:grpSp>
          <p:nvGrpSpPr>
            <p:cNvPr id="527" name=""/>
            <p:cNvGrpSpPr/>
            <p:nvPr/>
          </p:nvGrpSpPr>
          <p:grpSpPr>
            <a:xfrm>
              <a:off x="1600200" y="3047760"/>
              <a:ext cx="380880" cy="579240"/>
              <a:chOff x="1600200" y="3047760"/>
              <a:chExt cx="380880" cy="579240"/>
            </a:xfrm>
          </p:grpSpPr>
          <p:sp>
            <p:nvSpPr>
              <p:cNvPr id="528" name=""/>
              <p:cNvSpPr/>
              <p:nvPr/>
            </p:nvSpPr>
            <p:spPr>
              <a:xfrm>
                <a:off x="1600200" y="3123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00200" y="3047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143000" y="3733560"/>
              <a:ext cx="380880" cy="579240"/>
              <a:chOff x="1143000" y="3733560"/>
              <a:chExt cx="380880" cy="579240"/>
            </a:xfrm>
          </p:grpSpPr>
          <p:sp>
            <p:nvSpPr>
              <p:cNvPr id="531" name=""/>
              <p:cNvSpPr/>
              <p:nvPr/>
            </p:nvSpPr>
            <p:spPr>
              <a:xfrm>
                <a:off x="114300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133720" y="3733560"/>
              <a:ext cx="380880" cy="579240"/>
              <a:chOff x="2133720" y="3733560"/>
              <a:chExt cx="380880" cy="579240"/>
            </a:xfrm>
          </p:grpSpPr>
          <p:sp>
            <p:nvSpPr>
              <p:cNvPr id="534" name=""/>
              <p:cNvSpPr/>
              <p:nvPr/>
            </p:nvSpPr>
            <p:spPr>
              <a:xfrm>
                <a:off x="213372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3372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1447560" y="34286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581280" y="2971440"/>
              <a:ext cx="380880" cy="579240"/>
              <a:chOff x="3581280" y="2971440"/>
              <a:chExt cx="380880" cy="579240"/>
            </a:xfrm>
          </p:grpSpPr>
          <p:sp>
            <p:nvSpPr>
              <p:cNvPr id="539" name=""/>
              <p:cNvSpPr/>
              <p:nvPr/>
            </p:nvSpPr>
            <p:spPr>
              <a:xfrm>
                <a:off x="3581280" y="304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1280" y="297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8480" y="3733560"/>
              <a:ext cx="380880" cy="579240"/>
              <a:chOff x="4038480" y="3733560"/>
              <a:chExt cx="380880" cy="57924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848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3848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88620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943600" y="2057040"/>
              <a:ext cx="380880" cy="579240"/>
              <a:chOff x="5943600" y="2057040"/>
              <a:chExt cx="380880" cy="579240"/>
            </a:xfrm>
          </p:grpSpPr>
          <p:sp>
            <p:nvSpPr>
              <p:cNvPr id="546" name=""/>
              <p:cNvSpPr/>
              <p:nvPr/>
            </p:nvSpPr>
            <p:spPr>
              <a:xfrm>
                <a:off x="59436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9436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486400" y="2742840"/>
              <a:ext cx="380880" cy="579240"/>
              <a:chOff x="5486400" y="2742840"/>
              <a:chExt cx="380880" cy="579240"/>
            </a:xfrm>
          </p:grpSpPr>
          <p:sp>
            <p:nvSpPr>
              <p:cNvPr id="549" name=""/>
              <p:cNvSpPr/>
              <p:nvPr/>
            </p:nvSpPr>
            <p:spPr>
              <a:xfrm>
                <a:off x="5486400" y="2818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400" y="2742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flipH="1">
              <a:off x="5790960" y="243828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743200" y="2057040"/>
              <a:ext cx="380880" cy="579240"/>
              <a:chOff x="2743200" y="2057040"/>
              <a:chExt cx="380880" cy="579240"/>
            </a:xfrm>
          </p:grpSpPr>
          <p:sp>
            <p:nvSpPr>
              <p:cNvPr id="553" name=""/>
              <p:cNvSpPr/>
              <p:nvPr/>
            </p:nvSpPr>
            <p:spPr>
              <a:xfrm>
                <a:off x="27432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432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flipH="1">
              <a:off x="1905120" y="2361960"/>
              <a:ext cx="8380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24080" y="2361960"/>
              <a:ext cx="5335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419720" y="990720"/>
              <a:ext cx="380880" cy="579240"/>
              <a:chOff x="4419720" y="990720"/>
              <a:chExt cx="380880" cy="579240"/>
            </a:xfrm>
          </p:grpSpPr>
          <p:sp>
            <p:nvSpPr>
              <p:cNvPr id="558" name=""/>
              <p:cNvSpPr/>
              <p:nvPr/>
            </p:nvSpPr>
            <p:spPr>
              <a:xfrm>
                <a:off x="4419720" y="1066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19720" y="990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>
              <a:off x="3048120" y="129528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1371240"/>
              <a:ext cx="1295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990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36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047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9714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640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37335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3733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867280" y="3581280"/>
              <a:ext cx="380880" cy="578880"/>
              <a:chOff x="5867280" y="3581280"/>
              <a:chExt cx="380880" cy="578880"/>
            </a:xfrm>
          </p:grpSpPr>
          <p:sp>
            <p:nvSpPr>
              <p:cNvPr id="572" name=""/>
              <p:cNvSpPr/>
              <p:nvPr/>
            </p:nvSpPr>
            <p:spPr>
              <a:xfrm>
                <a:off x="5867280" y="36572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35812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5000" y="320004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3600" y="3581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57200" y="44956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!=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put its children on a FIFO que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node from the FIFO queue and call 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remove returns null when queue i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-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581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585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588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593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596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600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603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07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12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626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elements in a binary tree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onstruct the binary tree from which a given traversal sequence c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versal sequence has more than one element, the binary tree is not unique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tree from which the sequence was obtained cannot be reconstructed uniqu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1676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86200" y="838080"/>
            <a:ext cx="1295280" cy="1189080"/>
            <a:chOff x="3886200" y="838080"/>
            <a:chExt cx="1295280" cy="1189080"/>
          </a:xfrm>
        </p:grpSpPr>
        <p:grpSp>
          <p:nvGrpSpPr>
            <p:cNvPr id="645" name=""/>
            <p:cNvGrpSpPr/>
            <p:nvPr/>
          </p:nvGrpSpPr>
          <p:grpSpPr>
            <a:xfrm>
              <a:off x="3886200" y="1447560"/>
              <a:ext cx="380880" cy="579600"/>
              <a:chOff x="3886200" y="1447560"/>
              <a:chExt cx="380880" cy="579600"/>
            </a:xfrm>
          </p:grpSpPr>
          <p:sp>
            <p:nvSpPr>
              <p:cNvPr id="646" name=""/>
              <p:cNvSpPr/>
              <p:nvPr/>
            </p:nvSpPr>
            <p:spPr>
              <a:xfrm>
                <a:off x="3886200" y="15238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86200" y="14475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419720" y="838080"/>
              <a:ext cx="380880" cy="579600"/>
              <a:chOff x="4419720" y="838080"/>
              <a:chExt cx="380880" cy="579600"/>
            </a:xfrm>
          </p:grpSpPr>
          <p:sp>
            <p:nvSpPr>
              <p:cNvPr id="649" name=""/>
              <p:cNvSpPr/>
              <p:nvPr/>
            </p:nvSpPr>
            <p:spPr>
              <a:xfrm>
                <a:off x="441972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972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419720" y="8380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86200" y="1447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191120" y="12189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29400" y="838080"/>
            <a:ext cx="1295280" cy="1189080"/>
            <a:chOff x="6629400" y="838080"/>
            <a:chExt cx="1295280" cy="1189080"/>
          </a:xfrm>
        </p:grpSpPr>
        <p:grpSp>
          <p:nvGrpSpPr>
            <p:cNvPr id="655" name=""/>
            <p:cNvGrpSpPr/>
            <p:nvPr/>
          </p:nvGrpSpPr>
          <p:grpSpPr>
            <a:xfrm>
              <a:off x="7162920" y="1447920"/>
              <a:ext cx="380880" cy="579240"/>
              <a:chOff x="7162920" y="1447920"/>
              <a:chExt cx="380880" cy="579240"/>
            </a:xfrm>
          </p:grpSpPr>
          <p:sp>
            <p:nvSpPr>
              <p:cNvPr id="656" name=""/>
              <p:cNvSpPr/>
              <p:nvPr/>
            </p:nvSpPr>
            <p:spPr>
              <a:xfrm>
                <a:off x="7162920" y="1523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62920" y="1447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629400" y="838080"/>
              <a:ext cx="380880" cy="579600"/>
              <a:chOff x="6629400" y="838080"/>
              <a:chExt cx="380880" cy="579600"/>
            </a:xfrm>
          </p:grpSpPr>
          <p:sp>
            <p:nvSpPr>
              <p:cNvPr id="659" name=""/>
              <p:cNvSpPr/>
              <p:nvPr/>
            </p:nvSpPr>
            <p:spPr>
              <a:xfrm>
                <a:off x="66294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294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6294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2920" y="1447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34320" y="1219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838080" y="2286000"/>
            <a:ext cx="167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962520" y="2286000"/>
            <a:ext cx="1295280" cy="1189080"/>
            <a:chOff x="3962520" y="2286000"/>
            <a:chExt cx="1295280" cy="1189080"/>
          </a:xfrm>
        </p:grpSpPr>
        <p:grpSp>
          <p:nvGrpSpPr>
            <p:cNvPr id="666" name=""/>
            <p:cNvGrpSpPr/>
            <p:nvPr/>
          </p:nvGrpSpPr>
          <p:grpSpPr>
            <a:xfrm>
              <a:off x="3962520" y="2895480"/>
              <a:ext cx="380880" cy="579600"/>
              <a:chOff x="3962520" y="2895480"/>
              <a:chExt cx="380880" cy="579600"/>
            </a:xfrm>
          </p:grpSpPr>
          <p:sp>
            <p:nvSpPr>
              <p:cNvPr id="667" name=""/>
              <p:cNvSpPr/>
              <p:nvPr/>
            </p:nvSpPr>
            <p:spPr>
              <a:xfrm>
                <a:off x="3962520" y="2971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2520" y="2895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96040" y="2286000"/>
              <a:ext cx="380880" cy="579600"/>
              <a:chOff x="4496040" y="2286000"/>
              <a:chExt cx="380880" cy="579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49604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604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4496040" y="2286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62520" y="2895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67440" y="26668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705720" y="2286000"/>
            <a:ext cx="1295280" cy="1189080"/>
            <a:chOff x="6705720" y="2286000"/>
            <a:chExt cx="1295280" cy="1189080"/>
          </a:xfrm>
        </p:grpSpPr>
        <p:grpSp>
          <p:nvGrpSpPr>
            <p:cNvPr id="676" name=""/>
            <p:cNvGrpSpPr/>
            <p:nvPr/>
          </p:nvGrpSpPr>
          <p:grpSpPr>
            <a:xfrm>
              <a:off x="7239240" y="2895840"/>
              <a:ext cx="380880" cy="579240"/>
              <a:chOff x="7239240" y="2895840"/>
              <a:chExt cx="380880" cy="579240"/>
            </a:xfrm>
          </p:grpSpPr>
          <p:sp>
            <p:nvSpPr>
              <p:cNvPr id="677" name=""/>
              <p:cNvSpPr/>
              <p:nvPr/>
            </p:nvSpPr>
            <p:spPr>
              <a:xfrm>
                <a:off x="7239240" y="2971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39240" y="2895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705720" y="2286000"/>
              <a:ext cx="380880" cy="579600"/>
              <a:chOff x="6705720" y="2286000"/>
              <a:chExt cx="380880" cy="579600"/>
            </a:xfrm>
          </p:grpSpPr>
          <p:sp>
            <p:nvSpPr>
              <p:cNvPr id="680" name=""/>
              <p:cNvSpPr/>
              <p:nvPr/>
            </p:nvSpPr>
            <p:spPr>
              <a:xfrm>
                <a:off x="670572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0572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6705720" y="2286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39240" y="2895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10640" y="26672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62120" y="37339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886200" y="3733920"/>
            <a:ext cx="1295280" cy="1189080"/>
            <a:chOff x="3886200" y="3733920"/>
            <a:chExt cx="1295280" cy="1189080"/>
          </a:xfrm>
        </p:grpSpPr>
        <p:grpSp>
          <p:nvGrpSpPr>
            <p:cNvPr id="687" name=""/>
            <p:cNvGrpSpPr/>
            <p:nvPr/>
          </p:nvGrpSpPr>
          <p:grpSpPr>
            <a:xfrm>
              <a:off x="3886200" y="4343400"/>
              <a:ext cx="380880" cy="579600"/>
              <a:chOff x="3886200" y="4343400"/>
              <a:chExt cx="380880" cy="579600"/>
            </a:xfrm>
          </p:grpSpPr>
          <p:sp>
            <p:nvSpPr>
              <p:cNvPr id="688" name=""/>
              <p:cNvSpPr/>
              <p:nvPr/>
            </p:nvSpPr>
            <p:spPr>
              <a:xfrm>
                <a:off x="38862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6200" y="4343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419720" y="3733920"/>
              <a:ext cx="380880" cy="579600"/>
              <a:chOff x="4419720" y="3733920"/>
              <a:chExt cx="380880" cy="579600"/>
            </a:xfrm>
          </p:grpSpPr>
          <p:sp>
            <p:nvSpPr>
              <p:cNvPr id="691" name=""/>
              <p:cNvSpPr/>
              <p:nvPr/>
            </p:nvSpPr>
            <p:spPr>
              <a:xfrm>
                <a:off x="441972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1972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4419720" y="3733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3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191120" y="411480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629400" y="3733920"/>
            <a:ext cx="1295280" cy="1189080"/>
            <a:chOff x="6629400" y="3733920"/>
            <a:chExt cx="1295280" cy="1189080"/>
          </a:xfrm>
        </p:grpSpPr>
        <p:grpSp>
          <p:nvGrpSpPr>
            <p:cNvPr id="697" name=""/>
            <p:cNvGrpSpPr/>
            <p:nvPr/>
          </p:nvGrpSpPr>
          <p:grpSpPr>
            <a:xfrm>
              <a:off x="7162920" y="4343760"/>
              <a:ext cx="380880" cy="579240"/>
              <a:chOff x="7162920" y="4343760"/>
              <a:chExt cx="380880" cy="579240"/>
            </a:xfrm>
          </p:grpSpPr>
          <p:sp>
            <p:nvSpPr>
              <p:cNvPr id="698" name=""/>
              <p:cNvSpPr/>
              <p:nvPr/>
            </p:nvSpPr>
            <p:spPr>
              <a:xfrm>
                <a:off x="7162920" y="4419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62920" y="4343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629400" y="3733920"/>
              <a:ext cx="380880" cy="579600"/>
              <a:chOff x="6629400" y="3733920"/>
              <a:chExt cx="380880" cy="579600"/>
            </a:xfrm>
          </p:grpSpPr>
          <p:sp>
            <p:nvSpPr>
              <p:cNvPr id="701" name=""/>
              <p:cNvSpPr/>
              <p:nvPr/>
            </p:nvSpPr>
            <p:spPr>
              <a:xfrm>
                <a:off x="662940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940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629400" y="3733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43437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34320" y="411516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838080" y="5181480"/>
            <a:ext cx="221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962520" y="5181480"/>
            <a:ext cx="1295280" cy="1189080"/>
            <a:chOff x="3962520" y="5181480"/>
            <a:chExt cx="1295280" cy="1189080"/>
          </a:xfrm>
        </p:grpSpPr>
        <p:grpSp>
          <p:nvGrpSpPr>
            <p:cNvPr id="708" name=""/>
            <p:cNvGrpSpPr/>
            <p:nvPr/>
          </p:nvGrpSpPr>
          <p:grpSpPr>
            <a:xfrm>
              <a:off x="3962520" y="5790960"/>
              <a:ext cx="380880" cy="579600"/>
              <a:chOff x="3962520" y="5790960"/>
              <a:chExt cx="380880" cy="579600"/>
            </a:xfrm>
          </p:grpSpPr>
          <p:sp>
            <p:nvSpPr>
              <p:cNvPr id="709" name=""/>
              <p:cNvSpPr/>
              <p:nvPr/>
            </p:nvSpPr>
            <p:spPr>
              <a:xfrm>
                <a:off x="3962520" y="58672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62520" y="57909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496040" y="5181480"/>
              <a:ext cx="380880" cy="579600"/>
              <a:chOff x="4496040" y="5181480"/>
              <a:chExt cx="380880" cy="579600"/>
            </a:xfrm>
          </p:grpSpPr>
          <p:sp>
            <p:nvSpPr>
              <p:cNvPr id="712" name=""/>
              <p:cNvSpPr/>
              <p:nvPr/>
            </p:nvSpPr>
            <p:spPr>
              <a:xfrm>
                <a:off x="449604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9604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496040" y="51814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267440" y="55623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705720" y="5181480"/>
            <a:ext cx="1295280" cy="1189080"/>
            <a:chOff x="6705720" y="5181480"/>
            <a:chExt cx="1295280" cy="1189080"/>
          </a:xfrm>
        </p:grpSpPr>
        <p:grpSp>
          <p:nvGrpSpPr>
            <p:cNvPr id="718" name=""/>
            <p:cNvGrpSpPr/>
            <p:nvPr/>
          </p:nvGrpSpPr>
          <p:grpSpPr>
            <a:xfrm>
              <a:off x="7239240" y="5791320"/>
              <a:ext cx="380880" cy="579240"/>
              <a:chOff x="7239240" y="5791320"/>
              <a:chExt cx="380880" cy="579240"/>
            </a:xfrm>
          </p:grpSpPr>
          <p:sp>
            <p:nvSpPr>
              <p:cNvPr id="719" name=""/>
              <p:cNvSpPr/>
              <p:nvPr/>
            </p:nvSpPr>
            <p:spPr>
              <a:xfrm>
                <a:off x="7239240" y="58672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39240" y="57913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705720" y="5181480"/>
              <a:ext cx="380880" cy="579600"/>
              <a:chOff x="6705720" y="5181480"/>
              <a:chExt cx="380880" cy="579600"/>
            </a:xfrm>
          </p:grpSpPr>
          <p:sp>
            <p:nvSpPr>
              <p:cNvPr id="722" name=""/>
              <p:cNvSpPr/>
              <p:nvPr/>
            </p:nvSpPr>
            <p:spPr>
              <a:xfrm>
                <a:off x="670572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72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705720" y="5181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9240" y="5791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640" y="55627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construct the binary tree, given two traversal sequen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which two sequences are gi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86200" y="1371600"/>
            <a:ext cx="1295280" cy="1189080"/>
            <a:chOff x="3886200" y="1371600"/>
            <a:chExt cx="1295280" cy="1189080"/>
          </a:xfrm>
        </p:grpSpPr>
        <p:grpSp>
          <p:nvGrpSpPr>
            <p:cNvPr id="732" name=""/>
            <p:cNvGrpSpPr/>
            <p:nvPr/>
          </p:nvGrpSpPr>
          <p:grpSpPr>
            <a:xfrm>
              <a:off x="3886200" y="1981080"/>
              <a:ext cx="380880" cy="579600"/>
              <a:chOff x="3886200" y="1981080"/>
              <a:chExt cx="380880" cy="579600"/>
            </a:xfrm>
          </p:grpSpPr>
          <p:sp>
            <p:nvSpPr>
              <p:cNvPr id="733" name=""/>
              <p:cNvSpPr/>
              <p:nvPr/>
            </p:nvSpPr>
            <p:spPr>
              <a:xfrm>
                <a:off x="3886200" y="2057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86200" y="1981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7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620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91120" y="17524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629400" y="1371600"/>
            <a:ext cx="1295280" cy="1189080"/>
            <a:chOff x="6629400" y="1371600"/>
            <a:chExt cx="1295280" cy="1189080"/>
          </a:xfrm>
        </p:grpSpPr>
        <p:grpSp>
          <p:nvGrpSpPr>
            <p:cNvPr id="742" name=""/>
            <p:cNvGrpSpPr/>
            <p:nvPr/>
          </p:nvGrpSpPr>
          <p:grpSpPr>
            <a:xfrm>
              <a:off x="7162920" y="1981440"/>
              <a:ext cx="380880" cy="579240"/>
              <a:chOff x="7162920" y="1981440"/>
              <a:chExt cx="380880" cy="579240"/>
            </a:xfrm>
          </p:grpSpPr>
          <p:sp>
            <p:nvSpPr>
              <p:cNvPr id="743" name=""/>
              <p:cNvSpPr/>
              <p:nvPr/>
            </p:nvSpPr>
            <p:spPr>
              <a:xfrm>
                <a:off x="7162920" y="205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62920" y="198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629400" y="1371600"/>
              <a:ext cx="380880" cy="579600"/>
              <a:chOff x="6629400" y="1371600"/>
              <a:chExt cx="380880" cy="579600"/>
            </a:xfrm>
          </p:grpSpPr>
          <p:sp>
            <p:nvSpPr>
              <p:cNvPr id="746" name=""/>
              <p:cNvSpPr/>
              <p:nvPr/>
            </p:nvSpPr>
            <p:spPr>
              <a:xfrm>
                <a:off x="662940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2940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629400" y="1371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2920" y="19814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4320" y="17528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2120" y="19810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200400"/>
            <a:ext cx="8534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and postorder do not uniquely define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re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ost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a b d g h e i c f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the preorder left to right using the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of the 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4495680"/>
            <a:ext cx="4572000" cy="1663560"/>
            <a:chOff x="2286000" y="4495680"/>
            <a:chExt cx="4572000" cy="1663560"/>
          </a:xfrm>
        </p:grpSpPr>
        <p:grpSp>
          <p:nvGrpSpPr>
            <p:cNvPr id="756" name=""/>
            <p:cNvGrpSpPr/>
            <p:nvPr/>
          </p:nvGrpSpPr>
          <p:grpSpPr>
            <a:xfrm>
              <a:off x="4267080" y="4495680"/>
              <a:ext cx="380880" cy="579600"/>
              <a:chOff x="4267080" y="4495680"/>
              <a:chExt cx="380880" cy="5796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6708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95480" y="4800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8769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6708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6272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b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d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05120" y="838080"/>
            <a:ext cx="4572000" cy="1663560"/>
            <a:chOff x="1905120" y="838080"/>
            <a:chExt cx="4572000" cy="1663560"/>
          </a:xfrm>
        </p:grpSpPr>
        <p:grpSp>
          <p:nvGrpSpPr>
            <p:cNvPr id="767" name=""/>
            <p:cNvGrpSpPr/>
            <p:nvPr/>
          </p:nvGrpSpPr>
          <p:grpSpPr>
            <a:xfrm>
              <a:off x="3886200" y="838080"/>
              <a:ext cx="380880" cy="579600"/>
              <a:chOff x="3886200" y="838080"/>
              <a:chExt cx="380880" cy="579600"/>
            </a:xfrm>
          </p:grpSpPr>
          <p:sp>
            <p:nvSpPr>
              <p:cNvPr id="768" name=""/>
              <p:cNvSpPr/>
              <p:nvPr/>
            </p:nvSpPr>
            <p:spPr>
              <a:xfrm>
                <a:off x="38862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62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2514600" y="1143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91120" y="1219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512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8184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447920" y="4267080"/>
            <a:ext cx="4724280" cy="2273400"/>
            <a:chOff x="1447920" y="4267080"/>
            <a:chExt cx="4724280" cy="2273400"/>
          </a:xfrm>
        </p:grpSpPr>
        <p:grpSp>
          <p:nvGrpSpPr>
            <p:cNvPr id="776" name=""/>
            <p:cNvGrpSpPr/>
            <p:nvPr/>
          </p:nvGrpSpPr>
          <p:grpSpPr>
            <a:xfrm>
              <a:off x="3581280" y="4267080"/>
              <a:ext cx="380880" cy="579600"/>
              <a:chOff x="3581280" y="4267080"/>
              <a:chExt cx="380880" cy="579600"/>
            </a:xfrm>
          </p:grpSpPr>
          <p:sp>
            <p:nvSpPr>
              <p:cNvPr id="777" name=""/>
              <p:cNvSpPr/>
              <p:nvPr/>
            </p:nvSpPr>
            <p:spPr>
              <a:xfrm>
                <a:off x="3581280" y="4343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280" y="4267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2209680" y="4572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6200" y="4648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81280" y="4267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7920" y="6019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76920" y="5410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981080" y="5334120"/>
              <a:ext cx="380880" cy="579240"/>
              <a:chOff x="1981080" y="5334120"/>
              <a:chExt cx="380880" cy="579240"/>
            </a:xfrm>
          </p:grpSpPr>
          <p:sp>
            <p:nvSpPr>
              <p:cNvPr id="785" name=""/>
              <p:cNvSpPr/>
              <p:nvPr/>
            </p:nvSpPr>
            <p:spPr>
              <a:xfrm>
                <a:off x="1981080" y="5410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81080" y="5334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981080" y="5334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38280" y="6019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752120" y="57913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86000" y="57913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8800" y="685800"/>
            <a:ext cx="4724280" cy="2273040"/>
            <a:chOff x="1828800" y="685800"/>
            <a:chExt cx="4724280" cy="2273040"/>
          </a:xfrm>
        </p:grpSpPr>
        <p:grpSp>
          <p:nvGrpSpPr>
            <p:cNvPr id="794" name=""/>
            <p:cNvGrpSpPr/>
            <p:nvPr/>
          </p:nvGrpSpPr>
          <p:grpSpPr>
            <a:xfrm>
              <a:off x="3962160" y="685800"/>
              <a:ext cx="380880" cy="579240"/>
              <a:chOff x="3962160" y="685800"/>
              <a:chExt cx="380880" cy="579240"/>
            </a:xfrm>
          </p:grpSpPr>
          <p:sp>
            <p:nvSpPr>
              <p:cNvPr id="795" name=""/>
              <p:cNvSpPr/>
              <p:nvPr/>
            </p:nvSpPr>
            <p:spPr>
              <a:xfrm>
                <a:off x="3962160" y="761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62160" y="685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 flipH="1">
              <a:off x="2590560" y="99036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106668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85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2438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57800" y="18284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361960" y="1752480"/>
              <a:ext cx="380880" cy="578880"/>
              <a:chOff x="2361960" y="1752480"/>
              <a:chExt cx="380880" cy="578880"/>
            </a:xfrm>
          </p:grpSpPr>
          <p:sp>
            <p:nvSpPr>
              <p:cNvPr id="803" name=""/>
              <p:cNvSpPr/>
              <p:nvPr/>
            </p:nvSpPr>
            <p:spPr>
              <a:xfrm>
                <a:off x="2361960" y="18284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361960" y="17524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236196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19160" y="2438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133000" y="2209680"/>
              <a:ext cx="30492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2209680"/>
              <a:ext cx="304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981080" y="4357800"/>
            <a:ext cx="4572000" cy="2349360"/>
            <a:chOff x="1981080" y="4357800"/>
            <a:chExt cx="4572000" cy="2349360"/>
          </a:xfrm>
        </p:grpSpPr>
        <p:grpSp>
          <p:nvGrpSpPr>
            <p:cNvPr id="810" name=""/>
            <p:cNvGrpSpPr/>
            <p:nvPr/>
          </p:nvGrpSpPr>
          <p:grpSpPr>
            <a:xfrm>
              <a:off x="4038480" y="4357800"/>
              <a:ext cx="380880" cy="579240"/>
              <a:chOff x="4038480" y="4357800"/>
              <a:chExt cx="380880" cy="579240"/>
            </a:xfrm>
          </p:grpSpPr>
          <p:sp>
            <p:nvSpPr>
              <p:cNvPr id="811" name=""/>
              <p:cNvSpPr/>
              <p:nvPr/>
            </p:nvSpPr>
            <p:spPr>
              <a:xfrm>
                <a:off x="4038480" y="4433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8480" y="4357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4038480" y="4357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81080" y="6095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57800" y="48769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895480" y="4876920"/>
              <a:ext cx="380880" cy="579240"/>
              <a:chOff x="2895480" y="4876920"/>
              <a:chExt cx="380880" cy="579240"/>
            </a:xfrm>
          </p:grpSpPr>
          <p:sp>
            <p:nvSpPr>
              <p:cNvPr id="817" name=""/>
              <p:cNvSpPr/>
              <p:nvPr/>
            </p:nvSpPr>
            <p:spPr>
              <a:xfrm>
                <a:off x="2895480" y="4952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895480" y="4876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89548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26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666520" y="53341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400" y="53341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124080" y="4648320"/>
              <a:ext cx="9144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464832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2438280" y="5562720"/>
              <a:ext cx="380880" cy="579240"/>
              <a:chOff x="2438280" y="5562720"/>
              <a:chExt cx="380880" cy="579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438280" y="5638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38280" y="5562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438280" y="5562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0932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71800" y="6186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postorder from right to lef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g h d i e b j f c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evel order from left to righ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a b c d e f g h i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re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leftChild)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5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5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77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78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84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89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92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99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122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138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re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lef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186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187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05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12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17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20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24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27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9:34Z</dcterms:modified>
  <cp:revision>356</cp:revision>
  <dc:subject/>
  <dc:title>Data Representation Methods</dc:title>
</cp:coreProperties>
</file>