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C838-26E1-4E78-893E-0F4D2468A1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 linked representation always take space that is linear in the number of elements in the tree. An array representation may take an exponential amount of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42D-F5D3-447B-BC20-74BFC8A3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395-C053-4DAA-8A38-559C7118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8F1-296C-474F-8C01-5F7B1950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E23-5C6A-439A-840B-88A115D1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6AE-A767-497D-9195-336A75CC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6EA-DDCD-4A1A-B3DB-37816D9B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6D1-8452-4022-ADB9-260E5F49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AB0-15F3-4837-AC71-4C49ECE2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B55-A89D-4BD7-B20B-6A30E96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FF5-8A20-4FBD-8481-2B9458E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4A0-A527-4D35-95F5-0C22C41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965-97F5-43EC-B5C0-6CCB9E6C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2535-EF1A-4F8A-80BA-4ED3EF019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inary Tree Properties &amp; Re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73152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11890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295280" y="2666880"/>
            <a:ext cx="5181480" cy="3399120"/>
            <a:chOff x="1295280" y="2666880"/>
            <a:chExt cx="5181480" cy="3399120"/>
          </a:xfrm>
        </p:grpSpPr>
        <p:grpSp>
          <p:nvGrpSpPr>
            <p:cNvPr id="52" name=""/>
            <p:cNvGrpSpPr/>
            <p:nvPr/>
          </p:nvGrpSpPr>
          <p:grpSpPr>
            <a:xfrm>
              <a:off x="1752480" y="4724280"/>
              <a:ext cx="380880" cy="579600"/>
              <a:chOff x="1752480" y="4724280"/>
              <a:chExt cx="380880" cy="579600"/>
            </a:xfrm>
          </p:grpSpPr>
          <p:sp>
            <p:nvSpPr>
              <p:cNvPr id="53" name=""/>
              <p:cNvSpPr/>
              <p:nvPr/>
            </p:nvSpPr>
            <p:spPr>
              <a:xfrm>
                <a:off x="175248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52480" y="4724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295280" y="5410080"/>
              <a:ext cx="380880" cy="579600"/>
              <a:chOff x="1295280" y="5410080"/>
              <a:chExt cx="380880" cy="579600"/>
            </a:xfrm>
          </p:grpSpPr>
          <p:sp>
            <p:nvSpPr>
              <p:cNvPr id="56" name=""/>
              <p:cNvSpPr/>
              <p:nvPr/>
            </p:nvSpPr>
            <p:spPr>
              <a:xfrm>
                <a:off x="1295280" y="5486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95280" y="5410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86000" y="5410080"/>
              <a:ext cx="380880" cy="579600"/>
              <a:chOff x="2286000" y="5410080"/>
              <a:chExt cx="380880" cy="579600"/>
            </a:xfrm>
          </p:grpSpPr>
          <p:sp>
            <p:nvSpPr>
              <p:cNvPr id="59" name=""/>
              <p:cNvSpPr/>
              <p:nvPr/>
            </p:nvSpPr>
            <p:spPr>
              <a:xfrm>
                <a:off x="2286000" y="5486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0" y="5410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H="1">
              <a:off x="1599840" y="51055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50292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809880" y="4800600"/>
              <a:ext cx="380880" cy="579600"/>
              <a:chOff x="3809880" y="4800600"/>
              <a:chExt cx="380880" cy="579600"/>
            </a:xfrm>
          </p:grpSpPr>
          <p:sp>
            <p:nvSpPr>
              <p:cNvPr id="64" name=""/>
              <p:cNvSpPr/>
              <p:nvPr/>
            </p:nvSpPr>
            <p:spPr>
              <a:xfrm>
                <a:off x="3809880" y="4876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809880" y="4800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343400" y="5486400"/>
              <a:ext cx="380880" cy="579600"/>
              <a:chOff x="4343400" y="5486400"/>
              <a:chExt cx="380880" cy="579600"/>
            </a:xfrm>
          </p:grpSpPr>
          <p:sp>
            <p:nvSpPr>
              <p:cNvPr id="67" name=""/>
              <p:cNvSpPr/>
              <p:nvPr/>
            </p:nvSpPr>
            <p:spPr>
              <a:xfrm>
                <a:off x="4343400" y="5562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43400" y="5486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191120" y="5105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6095880" y="3733920"/>
              <a:ext cx="380880" cy="579240"/>
              <a:chOff x="6095880" y="3733920"/>
              <a:chExt cx="380880" cy="579240"/>
            </a:xfrm>
          </p:grpSpPr>
          <p:sp>
            <p:nvSpPr>
              <p:cNvPr id="71" name=""/>
              <p:cNvSpPr/>
              <p:nvPr/>
            </p:nvSpPr>
            <p:spPr>
              <a:xfrm>
                <a:off x="6095880" y="3809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95880" y="3733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638680" y="4419720"/>
              <a:ext cx="380880" cy="579240"/>
              <a:chOff x="5638680" y="4419720"/>
              <a:chExt cx="380880" cy="579240"/>
            </a:xfrm>
          </p:grpSpPr>
          <p:sp>
            <p:nvSpPr>
              <p:cNvPr id="74" name=""/>
              <p:cNvSpPr/>
              <p:nvPr/>
            </p:nvSpPr>
            <p:spPr>
              <a:xfrm>
                <a:off x="5638680" y="4495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38680" y="4419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5943240" y="41148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895480" y="3733920"/>
              <a:ext cx="380880" cy="579240"/>
              <a:chOff x="2895480" y="3733920"/>
              <a:chExt cx="380880" cy="579240"/>
            </a:xfrm>
          </p:grpSpPr>
          <p:sp>
            <p:nvSpPr>
              <p:cNvPr id="78" name=""/>
              <p:cNvSpPr/>
              <p:nvPr/>
            </p:nvSpPr>
            <p:spPr>
              <a:xfrm>
                <a:off x="2895480" y="3809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95480" y="3733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>
              <a:off x="2057400" y="4038480"/>
              <a:ext cx="8380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403848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72000" y="2666880"/>
              <a:ext cx="380880" cy="579600"/>
              <a:chOff x="4572000" y="2666880"/>
              <a:chExt cx="380880" cy="579600"/>
            </a:xfrm>
          </p:grpSpPr>
          <p:sp>
            <p:nvSpPr>
              <p:cNvPr id="83" name=""/>
              <p:cNvSpPr/>
              <p:nvPr/>
            </p:nvSpPr>
            <p:spPr>
              <a:xfrm>
                <a:off x="4572000" y="2743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72000" y="26668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3200400" y="29718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6920" y="30481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LEFTSPOT" descr=""/>
          <p:cNvPicPr/>
          <p:nvPr/>
        </p:nvPicPr>
        <p:blipFill>
          <a:blip r:embed="rId3"/>
          <a:stretch/>
        </p:blipFill>
        <p:spPr>
          <a:xfrm>
            <a:off x="52578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88" name="SPOTLIGH" descr=""/>
          <p:cNvPicPr/>
          <p:nvPr/>
        </p:nvPicPr>
        <p:blipFill>
          <a:blip r:embed="rId4"/>
          <a:stretch/>
        </p:blipFill>
        <p:spPr>
          <a:xfrm>
            <a:off x="2971800" y="7621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te Binary Tree With n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ull binary tree that has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as described earl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nary tree defined by the nodes numbe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uniq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complet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990720" y="1219320"/>
            <a:ext cx="6476760" cy="3398400"/>
            <a:chOff x="990720" y="1219320"/>
            <a:chExt cx="6476760" cy="3398400"/>
          </a:xfrm>
        </p:grpSpPr>
        <p:grpSp>
          <p:nvGrpSpPr>
            <p:cNvPr id="522" name=""/>
            <p:cNvGrpSpPr/>
            <p:nvPr/>
          </p:nvGrpSpPr>
          <p:grpSpPr>
            <a:xfrm>
              <a:off x="990720" y="1219320"/>
              <a:ext cx="6324480" cy="3398400"/>
              <a:chOff x="990720" y="1219320"/>
              <a:chExt cx="6324480" cy="3398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1447920" y="2590920"/>
                <a:ext cx="5486400" cy="1218960"/>
                <a:chOff x="1447920" y="2590920"/>
                <a:chExt cx="5486400" cy="12189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447920" y="3352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053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257800" y="3352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553080" y="342900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5486400" y="26668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172200" y="259092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752120" y="259092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71800" y="259092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267080" y="1219320"/>
                <a:ext cx="380880" cy="579600"/>
                <a:chOff x="4267080" y="1219320"/>
                <a:chExt cx="380880" cy="5796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267080" y="129564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21932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590920" y="1524240"/>
                <a:ext cx="3581280" cy="1341000"/>
                <a:chOff x="2590920" y="1524240"/>
                <a:chExt cx="3581280" cy="134100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5791320" y="2286000"/>
                  <a:ext cx="380880" cy="579240"/>
                  <a:chOff x="5791320" y="2286000"/>
                  <a:chExt cx="380880" cy="5792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91320" y="236196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91320" y="228600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590920" y="2286000"/>
                  <a:ext cx="380880" cy="579240"/>
                  <a:chOff x="2590920" y="2286000"/>
                  <a:chExt cx="380880" cy="5792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2590920" y="236196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590920" y="228600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2" name=""/>
                <p:cNvSpPr/>
                <p:nvPr/>
              </p:nvSpPr>
              <p:spPr>
                <a:xfrm flipH="1">
                  <a:off x="2895480" y="152424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572000" y="160020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990720" y="3581640"/>
                <a:ext cx="6324480" cy="1036080"/>
                <a:chOff x="990720" y="3581640"/>
                <a:chExt cx="6324480" cy="103608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990720" y="3962520"/>
                  <a:ext cx="380880" cy="578880"/>
                  <a:chOff x="990720" y="3962520"/>
                  <a:chExt cx="380880" cy="57888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990720" y="403848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990720" y="396252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1981080" y="3962520"/>
                  <a:ext cx="380880" cy="578880"/>
                  <a:chOff x="1981080" y="3962520"/>
                  <a:chExt cx="380880" cy="57888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1981080" y="403848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981080" y="396252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>
                  <a:off x="1294920" y="36576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828800" y="358164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3" name=""/>
                <p:cNvGrpSpPr/>
                <p:nvPr/>
              </p:nvGrpSpPr>
              <p:grpSpPr>
                <a:xfrm>
                  <a:off x="3048120" y="4038480"/>
                  <a:ext cx="380880" cy="579240"/>
                  <a:chOff x="3048120" y="4038480"/>
                  <a:chExt cx="380880" cy="579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30481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0481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4038480" y="4038480"/>
                  <a:ext cx="380880" cy="579240"/>
                  <a:chOff x="4038480" y="4038480"/>
                  <a:chExt cx="380880" cy="57924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403848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03848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 flipH="1">
                  <a:off x="3352320" y="373392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886200" y="365760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1" name=""/>
                <p:cNvGrpSpPr/>
                <p:nvPr/>
              </p:nvGrpSpPr>
              <p:grpSpPr>
                <a:xfrm>
                  <a:off x="4876920" y="4038480"/>
                  <a:ext cx="380880" cy="579240"/>
                  <a:chOff x="4876920" y="4038480"/>
                  <a:chExt cx="380880" cy="5792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48769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8769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5562720" y="4038480"/>
                  <a:ext cx="380880" cy="579240"/>
                  <a:chOff x="5562720" y="4038480"/>
                  <a:chExt cx="380880" cy="5792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55627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55627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248520" y="4038480"/>
                  <a:ext cx="380880" cy="579240"/>
                  <a:chOff x="6248520" y="4038480"/>
                  <a:chExt cx="380880" cy="57924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62485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2485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934320" y="4038480"/>
                  <a:ext cx="380880" cy="579240"/>
                  <a:chOff x="6934320" y="4038480"/>
                  <a:chExt cx="380880" cy="57924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69343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9343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3" name=""/>
                <p:cNvSpPr/>
                <p:nvPr/>
              </p:nvSpPr>
              <p:spPr>
                <a:xfrm flipH="1">
                  <a:off x="5105520" y="373392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562720" y="373392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6476760" y="373392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858000" y="373392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"/>
            <p:cNvSpPr/>
            <p:nvPr/>
          </p:nvSpPr>
          <p:spPr>
            <a:xfrm>
              <a:off x="4343400" y="1219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66880" y="2286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67280" y="2286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47920" y="3276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28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34120" y="3276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6680" y="3962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7400" y="3962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718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38480" y="4038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006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864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722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01480" y="1003320"/>
            <a:ext cx="6777360" cy="4168800"/>
          </a:xfrm>
          <a:custGeom>
            <a:avLst/>
            <a:gdLst/>
            <a:ahLst/>
            <a:rect l="l" t="t" r="r" b="b"/>
            <a:pathLst>
              <a:path w="4269" h="2626">
                <a:moveTo>
                  <a:pt x="170" y="2338"/>
                </a:moveTo>
                <a:cubicBezTo>
                  <a:pt x="468" y="2354"/>
                  <a:pt x="761" y="2414"/>
                  <a:pt x="1051" y="2485"/>
                </a:cubicBezTo>
                <a:cubicBezTo>
                  <a:pt x="1152" y="2510"/>
                  <a:pt x="1256" y="2516"/>
                  <a:pt x="1356" y="2542"/>
                </a:cubicBezTo>
                <a:cubicBezTo>
                  <a:pt x="1816" y="2531"/>
                  <a:pt x="1762" y="2626"/>
                  <a:pt x="1965" y="2463"/>
                </a:cubicBezTo>
                <a:cubicBezTo>
                  <a:pt x="1984" y="2408"/>
                  <a:pt x="2012" y="2364"/>
                  <a:pt x="2022" y="2304"/>
                </a:cubicBezTo>
                <a:cubicBezTo>
                  <a:pt x="2029" y="2263"/>
                  <a:pt x="2033" y="2166"/>
                  <a:pt x="2056" y="2124"/>
                </a:cubicBezTo>
                <a:cubicBezTo>
                  <a:pt x="2074" y="2091"/>
                  <a:pt x="2101" y="2063"/>
                  <a:pt x="2124" y="2033"/>
                </a:cubicBezTo>
                <a:cubicBezTo>
                  <a:pt x="2151" y="1997"/>
                  <a:pt x="2163" y="1944"/>
                  <a:pt x="2191" y="1909"/>
                </a:cubicBezTo>
                <a:cubicBezTo>
                  <a:pt x="2207" y="1890"/>
                  <a:pt x="2265" y="1825"/>
                  <a:pt x="2304" y="1808"/>
                </a:cubicBezTo>
                <a:cubicBezTo>
                  <a:pt x="2326" y="1798"/>
                  <a:pt x="2372" y="1785"/>
                  <a:pt x="2372" y="1785"/>
                </a:cubicBezTo>
                <a:cubicBezTo>
                  <a:pt x="2485" y="1789"/>
                  <a:pt x="2598" y="1789"/>
                  <a:pt x="2711" y="1796"/>
                </a:cubicBezTo>
                <a:cubicBezTo>
                  <a:pt x="2813" y="1802"/>
                  <a:pt x="2914" y="1843"/>
                  <a:pt x="3016" y="1853"/>
                </a:cubicBezTo>
                <a:cubicBezTo>
                  <a:pt x="3233" y="1875"/>
                  <a:pt x="3453" y="1876"/>
                  <a:pt x="3671" y="1887"/>
                </a:cubicBezTo>
                <a:cubicBezTo>
                  <a:pt x="3907" y="1878"/>
                  <a:pt x="3906" y="1889"/>
                  <a:pt x="4055" y="1853"/>
                </a:cubicBezTo>
                <a:cubicBezTo>
                  <a:pt x="4123" y="1818"/>
                  <a:pt x="4089" y="1838"/>
                  <a:pt x="4168" y="1785"/>
                </a:cubicBezTo>
                <a:cubicBezTo>
                  <a:pt x="4179" y="1777"/>
                  <a:pt x="4202" y="1762"/>
                  <a:pt x="4202" y="1762"/>
                </a:cubicBezTo>
                <a:cubicBezTo>
                  <a:pt x="4206" y="1751"/>
                  <a:pt x="4208" y="1739"/>
                  <a:pt x="4213" y="1728"/>
                </a:cubicBezTo>
                <a:cubicBezTo>
                  <a:pt x="4219" y="1716"/>
                  <a:pt x="4231" y="1708"/>
                  <a:pt x="4236" y="1695"/>
                </a:cubicBezTo>
                <a:cubicBezTo>
                  <a:pt x="4247" y="1666"/>
                  <a:pt x="4251" y="1634"/>
                  <a:pt x="4258" y="1604"/>
                </a:cubicBezTo>
                <a:cubicBezTo>
                  <a:pt x="4262" y="1589"/>
                  <a:pt x="4269" y="1559"/>
                  <a:pt x="4269" y="1559"/>
                </a:cubicBezTo>
                <a:cubicBezTo>
                  <a:pt x="4265" y="1511"/>
                  <a:pt x="4261" y="1371"/>
                  <a:pt x="4236" y="1311"/>
                </a:cubicBezTo>
                <a:cubicBezTo>
                  <a:pt x="4225" y="1286"/>
                  <a:pt x="4081" y="1110"/>
                  <a:pt x="4077" y="1107"/>
                </a:cubicBezTo>
                <a:cubicBezTo>
                  <a:pt x="4050" y="1087"/>
                  <a:pt x="4020" y="1067"/>
                  <a:pt x="3998" y="1040"/>
                </a:cubicBezTo>
                <a:cubicBezTo>
                  <a:pt x="3877" y="891"/>
                  <a:pt x="3982" y="999"/>
                  <a:pt x="3885" y="904"/>
                </a:cubicBezTo>
                <a:cubicBezTo>
                  <a:pt x="3844" y="820"/>
                  <a:pt x="3872" y="873"/>
                  <a:pt x="3795" y="746"/>
                </a:cubicBezTo>
                <a:cubicBezTo>
                  <a:pt x="3732" y="641"/>
                  <a:pt x="3775" y="610"/>
                  <a:pt x="3671" y="543"/>
                </a:cubicBezTo>
                <a:cubicBezTo>
                  <a:pt x="3641" y="498"/>
                  <a:pt x="3630" y="464"/>
                  <a:pt x="3580" y="441"/>
                </a:cubicBezTo>
                <a:cubicBezTo>
                  <a:pt x="3547" y="426"/>
                  <a:pt x="3462" y="406"/>
                  <a:pt x="3422" y="384"/>
                </a:cubicBezTo>
                <a:cubicBezTo>
                  <a:pt x="3365" y="353"/>
                  <a:pt x="3362" y="344"/>
                  <a:pt x="3298" y="328"/>
                </a:cubicBezTo>
                <a:cubicBezTo>
                  <a:pt x="3253" y="301"/>
                  <a:pt x="3212" y="278"/>
                  <a:pt x="3163" y="260"/>
                </a:cubicBezTo>
                <a:cubicBezTo>
                  <a:pt x="3102" y="215"/>
                  <a:pt x="3044" y="181"/>
                  <a:pt x="2971" y="159"/>
                </a:cubicBezTo>
                <a:cubicBezTo>
                  <a:pt x="2941" y="150"/>
                  <a:pt x="2880" y="136"/>
                  <a:pt x="2880" y="136"/>
                </a:cubicBezTo>
                <a:cubicBezTo>
                  <a:pt x="2876" y="125"/>
                  <a:pt x="2880" y="107"/>
                  <a:pt x="2869" y="102"/>
                </a:cubicBezTo>
                <a:cubicBezTo>
                  <a:pt x="2844" y="92"/>
                  <a:pt x="2692" y="73"/>
                  <a:pt x="2654" y="68"/>
                </a:cubicBezTo>
                <a:cubicBezTo>
                  <a:pt x="2589" y="26"/>
                  <a:pt x="2524" y="20"/>
                  <a:pt x="2451" y="0"/>
                </a:cubicBezTo>
                <a:cubicBezTo>
                  <a:pt x="2176" y="4"/>
                  <a:pt x="1902" y="5"/>
                  <a:pt x="1627" y="12"/>
                </a:cubicBezTo>
                <a:cubicBezTo>
                  <a:pt x="1485" y="16"/>
                  <a:pt x="1360" y="105"/>
                  <a:pt x="1231" y="147"/>
                </a:cubicBezTo>
                <a:cubicBezTo>
                  <a:pt x="1158" y="196"/>
                  <a:pt x="1209" y="166"/>
                  <a:pt x="1062" y="215"/>
                </a:cubicBezTo>
                <a:cubicBezTo>
                  <a:pt x="1051" y="219"/>
                  <a:pt x="1028" y="226"/>
                  <a:pt x="1028" y="226"/>
                </a:cubicBezTo>
                <a:cubicBezTo>
                  <a:pt x="994" y="249"/>
                  <a:pt x="960" y="271"/>
                  <a:pt x="926" y="294"/>
                </a:cubicBezTo>
                <a:cubicBezTo>
                  <a:pt x="892" y="316"/>
                  <a:pt x="849" y="321"/>
                  <a:pt x="813" y="339"/>
                </a:cubicBezTo>
                <a:cubicBezTo>
                  <a:pt x="798" y="347"/>
                  <a:pt x="782" y="353"/>
                  <a:pt x="768" y="362"/>
                </a:cubicBezTo>
                <a:cubicBezTo>
                  <a:pt x="721" y="394"/>
                  <a:pt x="678" y="430"/>
                  <a:pt x="633" y="464"/>
                </a:cubicBezTo>
                <a:cubicBezTo>
                  <a:pt x="577" y="506"/>
                  <a:pt x="493" y="536"/>
                  <a:pt x="441" y="588"/>
                </a:cubicBezTo>
                <a:cubicBezTo>
                  <a:pt x="379" y="650"/>
                  <a:pt x="373" y="741"/>
                  <a:pt x="328" y="814"/>
                </a:cubicBezTo>
                <a:cubicBezTo>
                  <a:pt x="287" y="881"/>
                  <a:pt x="222" y="926"/>
                  <a:pt x="181" y="994"/>
                </a:cubicBezTo>
                <a:cubicBezTo>
                  <a:pt x="152" y="1114"/>
                  <a:pt x="196" y="979"/>
                  <a:pt x="136" y="1062"/>
                </a:cubicBezTo>
                <a:cubicBezTo>
                  <a:pt x="124" y="1079"/>
                  <a:pt x="122" y="1100"/>
                  <a:pt x="113" y="1119"/>
                </a:cubicBezTo>
                <a:cubicBezTo>
                  <a:pt x="99" y="1149"/>
                  <a:pt x="81" y="1178"/>
                  <a:pt x="68" y="1209"/>
                </a:cubicBezTo>
                <a:cubicBezTo>
                  <a:pt x="36" y="1286"/>
                  <a:pt x="23" y="1366"/>
                  <a:pt x="0" y="1446"/>
                </a:cubicBezTo>
                <a:cubicBezTo>
                  <a:pt x="4" y="1631"/>
                  <a:pt x="5" y="1815"/>
                  <a:pt x="12" y="2000"/>
                </a:cubicBezTo>
                <a:cubicBezTo>
                  <a:pt x="15" y="2069"/>
                  <a:pt x="44" y="2147"/>
                  <a:pt x="113" y="2169"/>
                </a:cubicBezTo>
                <a:cubicBezTo>
                  <a:pt x="144" y="2210"/>
                  <a:pt x="165" y="2244"/>
                  <a:pt x="181" y="2293"/>
                </a:cubicBezTo>
                <a:cubicBezTo>
                  <a:pt x="169" y="2330"/>
                  <a:pt x="170" y="2315"/>
                  <a:pt x="170" y="2338"/>
                </a:cubicBezTo>
                <a:close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using the numbering scheme for a full binary tree. The node that is numbe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red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ree[i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219320" y="5791320"/>
            <a:ext cx="5486400" cy="840600"/>
            <a:chOff x="1219320" y="5791320"/>
            <a:chExt cx="5486400" cy="840600"/>
          </a:xfrm>
        </p:grpSpPr>
        <p:sp>
          <p:nvSpPr>
            <p:cNvPr id="598" name=""/>
            <p:cNvSpPr/>
            <p:nvPr/>
          </p:nvSpPr>
          <p:spPr>
            <a:xfrm>
              <a:off x="2286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67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48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29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0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91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3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34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6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19320" y="5791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tre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86000" y="6172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91120" y="6172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6240" y="6172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66832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1900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80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5556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4200" y="5791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9284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611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2868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696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38080" y="2133720"/>
            <a:ext cx="6324840" cy="3551040"/>
            <a:chOff x="838080" y="2133720"/>
            <a:chExt cx="6324840" cy="3551040"/>
          </a:xfrm>
        </p:grpSpPr>
        <p:grpSp>
          <p:nvGrpSpPr>
            <p:cNvPr id="624" name=""/>
            <p:cNvGrpSpPr/>
            <p:nvPr/>
          </p:nvGrpSpPr>
          <p:grpSpPr>
            <a:xfrm>
              <a:off x="990720" y="2286000"/>
              <a:ext cx="5943600" cy="3398760"/>
              <a:chOff x="990720" y="2286000"/>
              <a:chExt cx="5943600" cy="3398760"/>
            </a:xfrm>
          </p:grpSpPr>
          <p:sp>
            <p:nvSpPr>
              <p:cNvPr id="625" name=""/>
              <p:cNvSpPr/>
              <p:nvPr/>
            </p:nvSpPr>
            <p:spPr>
              <a:xfrm>
                <a:off x="144792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449568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25780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53080" y="449568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486400" y="373392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72200" y="3657600"/>
                <a:ext cx="5335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752120" y="3657600"/>
                <a:ext cx="8384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971800" y="3657600"/>
                <a:ext cx="609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4267080" y="2286000"/>
                <a:ext cx="380880" cy="579600"/>
                <a:chOff x="4267080" y="2286000"/>
                <a:chExt cx="380880" cy="5796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267080" y="23623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67080" y="22860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791320" y="3352680"/>
                <a:ext cx="380880" cy="579600"/>
                <a:chOff x="5791320" y="3352680"/>
                <a:chExt cx="380880" cy="5796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7913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91320" y="335268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590920" y="3352680"/>
                <a:ext cx="380880" cy="459720"/>
                <a:chOff x="2590920" y="3352680"/>
                <a:chExt cx="380880" cy="459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5909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590920" y="335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"/>
              <p:cNvSpPr/>
              <p:nvPr/>
            </p:nvSpPr>
            <p:spPr>
              <a:xfrm flipH="1">
                <a:off x="2895480" y="2590920"/>
                <a:ext cx="1371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572000" y="2666880"/>
                <a:ext cx="129528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990720" y="5029200"/>
                <a:ext cx="380880" cy="579600"/>
                <a:chOff x="990720" y="5029200"/>
                <a:chExt cx="380880" cy="5796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990720" y="51055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990720" y="50292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81080" y="5029200"/>
                <a:ext cx="380880" cy="579600"/>
                <a:chOff x="1981080" y="5029200"/>
                <a:chExt cx="380880" cy="5796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81080" y="51055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81080" y="50292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 flipH="1">
                <a:off x="1294920" y="4724280"/>
                <a:ext cx="2286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828800" y="4648320"/>
                <a:ext cx="304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3048120" y="5105520"/>
                <a:ext cx="380880" cy="579240"/>
                <a:chOff x="3048120" y="5105520"/>
                <a:chExt cx="380880" cy="5792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048120" y="518148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48120" y="510552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 flipH="1">
                <a:off x="3352320" y="480060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43400" y="2286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67280" y="33526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447920" y="4343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8128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334120" y="4343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62940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066680" y="5029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057400" y="5029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971800" y="5105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5720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382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199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193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339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055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81680" y="4114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080" y="4724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860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5480" y="4800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ight-Skewed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96880" y="4800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needs an array whose length is betwe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809880" y="838080"/>
            <a:ext cx="3048120" cy="2288520"/>
            <a:chOff x="3809880" y="838080"/>
            <a:chExt cx="3048120" cy="2288520"/>
          </a:xfrm>
        </p:grpSpPr>
        <p:sp>
          <p:nvSpPr>
            <p:cNvPr id="678" name=""/>
            <p:cNvSpPr/>
            <p:nvPr/>
          </p:nvSpPr>
          <p:spPr>
            <a:xfrm>
              <a:off x="3809880" y="106668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09880" y="990360"/>
              <a:ext cx="38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16002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1523880"/>
              <a:ext cx="38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86200" y="9903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0" y="1523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14800" y="83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52880" y="14475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5181480" y="1752480"/>
              <a:ext cx="609480" cy="764280"/>
              <a:chOff x="5181480" y="1752480"/>
              <a:chExt cx="609480" cy="764280"/>
            </a:xfrm>
          </p:grpSpPr>
          <p:sp>
            <p:nvSpPr>
              <p:cNvPr id="687" name=""/>
              <p:cNvSpPr/>
              <p:nvPr/>
            </p:nvSpPr>
            <p:spPr>
              <a:xfrm>
                <a:off x="5181480" y="213336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57800" y="20570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0080" y="1752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5867280" y="27432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6728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43600" y="266688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14800" y="1371600"/>
              <a:ext cx="457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76920" y="190476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86400" y="24382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143000" y="3352680"/>
            <a:ext cx="7391160" cy="840960"/>
            <a:chOff x="1143000" y="3352680"/>
            <a:chExt cx="7391160" cy="840960"/>
          </a:xfrm>
        </p:grpSpPr>
        <p:sp>
          <p:nvSpPr>
            <p:cNvPr id="698" name=""/>
            <p:cNvSpPr/>
            <p:nvPr/>
          </p:nvSpPr>
          <p:spPr>
            <a:xfrm>
              <a:off x="2209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90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71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352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33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14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95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76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57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38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19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43000" y="3352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e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0968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480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19560" y="3733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9200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175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434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113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60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78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1616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8444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527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0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81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62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43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400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4004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083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660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448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24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4680" y="3733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2648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nary tree node is represented as an object whose data typ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inaryTree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required by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* (space required by one nod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Class BinaryTree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dataStructur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BinaryTree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 el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BinaryTreeNode leftChild;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lef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BinaryTreeNode rightChild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righ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constructors and any other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com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Representa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33520" y="1295280"/>
            <a:ext cx="7467480" cy="5397480"/>
            <a:chOff x="533520" y="1295280"/>
            <a:chExt cx="7467480" cy="5397480"/>
          </a:xfrm>
        </p:grpSpPr>
        <p:grpSp>
          <p:nvGrpSpPr>
            <p:cNvPr id="740" name=""/>
            <p:cNvGrpSpPr/>
            <p:nvPr/>
          </p:nvGrpSpPr>
          <p:grpSpPr>
            <a:xfrm>
              <a:off x="3505320" y="1371600"/>
              <a:ext cx="1143000" cy="520560"/>
              <a:chOff x="3505320" y="1371600"/>
              <a:chExt cx="1143000" cy="520560"/>
            </a:xfrm>
          </p:grpSpPr>
          <p:sp>
            <p:nvSpPr>
              <p:cNvPr id="741" name=""/>
              <p:cNvSpPr/>
              <p:nvPr/>
            </p:nvSpPr>
            <p:spPr>
              <a:xfrm>
                <a:off x="3505320" y="14479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86560" y="14479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67440" y="14479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86560" y="13716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5181480" y="2438280"/>
              <a:ext cx="1143000" cy="520560"/>
              <a:chOff x="5181480" y="2438280"/>
              <a:chExt cx="1143000" cy="520560"/>
            </a:xfrm>
          </p:grpSpPr>
          <p:sp>
            <p:nvSpPr>
              <p:cNvPr id="746" name=""/>
              <p:cNvSpPr/>
              <p:nvPr/>
            </p:nvSpPr>
            <p:spPr>
              <a:xfrm>
                <a:off x="5181480" y="2514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62720" y="2514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627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209680" y="2438280"/>
              <a:ext cx="1143000" cy="520560"/>
              <a:chOff x="2209680" y="2438280"/>
              <a:chExt cx="1143000" cy="520560"/>
            </a:xfrm>
          </p:grpSpPr>
          <p:sp>
            <p:nvSpPr>
              <p:cNvPr id="751" name=""/>
              <p:cNvSpPr/>
              <p:nvPr/>
            </p:nvSpPr>
            <p:spPr>
              <a:xfrm>
                <a:off x="2209680" y="2514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590920" y="2514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71800" y="2514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90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1371600" y="3733920"/>
              <a:ext cx="1143000" cy="520560"/>
              <a:chOff x="1371600" y="3733920"/>
              <a:chExt cx="1143000" cy="520560"/>
            </a:xfrm>
          </p:grpSpPr>
          <p:sp>
            <p:nvSpPr>
              <p:cNvPr id="756" name=""/>
              <p:cNvSpPr/>
              <p:nvPr/>
            </p:nvSpPr>
            <p:spPr>
              <a:xfrm>
                <a:off x="1371600" y="381024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52840" y="381024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133720" y="381024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52840" y="3733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533520" y="5029200"/>
              <a:ext cx="1143000" cy="520560"/>
              <a:chOff x="533520" y="5029200"/>
              <a:chExt cx="1143000" cy="520560"/>
            </a:xfrm>
          </p:grpSpPr>
          <p:sp>
            <p:nvSpPr>
              <p:cNvPr id="761" name=""/>
              <p:cNvSpPr/>
              <p:nvPr/>
            </p:nvSpPr>
            <p:spPr>
              <a:xfrm>
                <a:off x="533520" y="51055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14760" y="51055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95640" y="51055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1476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324480" y="3581280"/>
              <a:ext cx="1143000" cy="520560"/>
              <a:chOff x="6324480" y="3581280"/>
              <a:chExt cx="1143000" cy="520560"/>
            </a:xfrm>
          </p:grpSpPr>
          <p:sp>
            <p:nvSpPr>
              <p:cNvPr id="766" name=""/>
              <p:cNvSpPr/>
              <p:nvPr/>
            </p:nvSpPr>
            <p:spPr>
              <a:xfrm>
                <a:off x="6324480" y="3657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705720" y="3657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86600" y="3657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705720" y="3581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5943600" y="4800600"/>
              <a:ext cx="1143000" cy="520560"/>
              <a:chOff x="5943600" y="4800600"/>
              <a:chExt cx="1143000" cy="520560"/>
            </a:xfrm>
          </p:grpSpPr>
          <p:sp>
            <p:nvSpPr>
              <p:cNvPr id="771" name=""/>
              <p:cNvSpPr/>
              <p:nvPr/>
            </p:nvSpPr>
            <p:spPr>
              <a:xfrm>
                <a:off x="5943600" y="48769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324840" y="48769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705720" y="48769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324840" y="48006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858000" y="5715000"/>
              <a:ext cx="1143000" cy="520560"/>
              <a:chOff x="6858000" y="5715000"/>
              <a:chExt cx="1143000" cy="520560"/>
            </a:xfrm>
          </p:grpSpPr>
          <p:sp>
            <p:nvSpPr>
              <p:cNvPr id="776" name=""/>
              <p:cNvSpPr/>
              <p:nvPr/>
            </p:nvSpPr>
            <p:spPr>
              <a:xfrm>
                <a:off x="6858000" y="57913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239240" y="57913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0120" y="57913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39240" y="57150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819520" y="167652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95680" y="1676520"/>
              <a:ext cx="12193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1828800" y="274320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1066680" y="4038480"/>
              <a:ext cx="4572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72200" y="2666880"/>
              <a:ext cx="60948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095880" y="3886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34320" y="5105520"/>
              <a:ext cx="83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43200" y="5486400"/>
              <a:ext cx="38088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43200" y="5867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43200" y="6248520"/>
              <a:ext cx="380880" cy="380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76720" y="541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leftChi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76720" y="5791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le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76720" y="61722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rightChi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71600" y="1295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ro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16002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Binary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h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c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if two binary trees are c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th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arithmetic expression represented by 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in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pre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post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binary tree operations are done by performing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ra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raversal, each element of th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, all action (make a clone, display, evaluate the operator, etc.) with respect to this element is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 Number Of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number of nodes in a binary tree whose 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one node at each of 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3124080"/>
            <a:ext cx="3657600" cy="3322800"/>
            <a:chOff x="1371600" y="3124080"/>
            <a:chExt cx="3657600" cy="332280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5181480"/>
              <a:ext cx="380880" cy="579600"/>
              <a:chOff x="1828800" y="5181480"/>
              <a:chExt cx="380880" cy="579600"/>
            </a:xfrm>
          </p:grpSpPr>
          <p:sp>
            <p:nvSpPr>
              <p:cNvPr id="93" name=""/>
              <p:cNvSpPr/>
              <p:nvPr/>
            </p:nvSpPr>
            <p:spPr>
              <a:xfrm>
                <a:off x="182880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371600" y="5867280"/>
              <a:ext cx="380880" cy="579600"/>
              <a:chOff x="1371600" y="5867280"/>
              <a:chExt cx="380880" cy="579600"/>
            </a:xfrm>
          </p:grpSpPr>
          <p:sp>
            <p:nvSpPr>
              <p:cNvPr id="96" name=""/>
              <p:cNvSpPr/>
              <p:nvPr/>
            </p:nvSpPr>
            <p:spPr>
              <a:xfrm>
                <a:off x="1371600" y="5943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71600" y="5867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1676160" y="55627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971800" y="4191120"/>
              <a:ext cx="380880" cy="579240"/>
              <a:chOff x="2971800" y="4191120"/>
              <a:chExt cx="380880" cy="579240"/>
            </a:xfrm>
          </p:grpSpPr>
          <p:sp>
            <p:nvSpPr>
              <p:cNvPr id="100" name=""/>
              <p:cNvSpPr/>
              <p:nvPr/>
            </p:nvSpPr>
            <p:spPr>
              <a:xfrm>
                <a:off x="2971800" y="42670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71800" y="41911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H="1">
              <a:off x="2133720" y="4495680"/>
              <a:ext cx="8380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648320" y="3124080"/>
              <a:ext cx="380880" cy="579600"/>
              <a:chOff x="4648320" y="3124080"/>
              <a:chExt cx="380880" cy="579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64832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4832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H="1">
              <a:off x="3276720" y="3429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257800" y="342900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number of nodes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imum Number Of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ssible nodes at 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s are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19320" y="2666880"/>
            <a:ext cx="5486400" cy="1218960"/>
            <a:chOff x="1219320" y="2666880"/>
            <a:chExt cx="5486400" cy="1218960"/>
          </a:xfrm>
        </p:grpSpPr>
        <p:sp>
          <p:nvSpPr>
            <p:cNvPr id="111" name=""/>
            <p:cNvSpPr/>
            <p:nvPr/>
          </p:nvSpPr>
          <p:spPr>
            <a:xfrm>
              <a:off x="1219320" y="342864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6720" y="350496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29200" y="342864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24480" y="350496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257800" y="274284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266688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523520" y="266688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66688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038480" y="1295280"/>
            <a:ext cx="380880" cy="579600"/>
            <a:chOff x="4038480" y="1295280"/>
            <a:chExt cx="380880" cy="579600"/>
          </a:xfrm>
        </p:grpSpPr>
        <p:sp>
          <p:nvSpPr>
            <p:cNvPr id="120" name=""/>
            <p:cNvSpPr/>
            <p:nvPr/>
          </p:nvSpPr>
          <p:spPr>
            <a:xfrm>
              <a:off x="4038480" y="13716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1295280"/>
              <a:ext cx="38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362320" y="1600200"/>
            <a:ext cx="3581280" cy="1341000"/>
            <a:chOff x="2362320" y="1600200"/>
            <a:chExt cx="3581280" cy="1341000"/>
          </a:xfrm>
        </p:grpSpPr>
        <p:grpSp>
          <p:nvGrpSpPr>
            <p:cNvPr id="123" name=""/>
            <p:cNvGrpSpPr/>
            <p:nvPr/>
          </p:nvGrpSpPr>
          <p:grpSpPr>
            <a:xfrm>
              <a:off x="5562720" y="2361960"/>
              <a:ext cx="380880" cy="579240"/>
              <a:chOff x="5562720" y="2361960"/>
              <a:chExt cx="380880" cy="579240"/>
            </a:xfrm>
          </p:grpSpPr>
          <p:sp>
            <p:nvSpPr>
              <p:cNvPr id="124" name=""/>
              <p:cNvSpPr/>
              <p:nvPr/>
            </p:nvSpPr>
            <p:spPr>
              <a:xfrm>
                <a:off x="5562720" y="24379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62720" y="23619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362320" y="2361960"/>
              <a:ext cx="380880" cy="579240"/>
              <a:chOff x="2362320" y="2361960"/>
              <a:chExt cx="380880" cy="5792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62320" y="24379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62320" y="23619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2666880" y="16002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3400" y="1676160"/>
              <a:ext cx="12952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62120" y="3657600"/>
            <a:ext cx="6324480" cy="1036800"/>
            <a:chOff x="762120" y="3657600"/>
            <a:chExt cx="6324480" cy="1036800"/>
          </a:xfrm>
        </p:grpSpPr>
        <p:grpSp>
          <p:nvGrpSpPr>
            <p:cNvPr id="132" name=""/>
            <p:cNvGrpSpPr/>
            <p:nvPr/>
          </p:nvGrpSpPr>
          <p:grpSpPr>
            <a:xfrm>
              <a:off x="762120" y="4038840"/>
              <a:ext cx="380880" cy="579240"/>
              <a:chOff x="762120" y="4038840"/>
              <a:chExt cx="380880" cy="579240"/>
            </a:xfrm>
          </p:grpSpPr>
          <p:sp>
            <p:nvSpPr>
              <p:cNvPr id="133" name=""/>
              <p:cNvSpPr/>
              <p:nvPr/>
            </p:nvSpPr>
            <p:spPr>
              <a:xfrm>
                <a:off x="762120" y="4114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120" y="4038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752480" y="4038840"/>
              <a:ext cx="380880" cy="579240"/>
              <a:chOff x="1752480" y="4038840"/>
              <a:chExt cx="380880" cy="579240"/>
            </a:xfrm>
          </p:grpSpPr>
          <p:sp>
            <p:nvSpPr>
              <p:cNvPr id="136" name=""/>
              <p:cNvSpPr/>
              <p:nvPr/>
            </p:nvSpPr>
            <p:spPr>
              <a:xfrm>
                <a:off x="1752480" y="4114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52480" y="4038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1066320" y="3733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0200" y="3657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819520" y="4114800"/>
              <a:ext cx="380880" cy="579600"/>
              <a:chOff x="2819520" y="4114800"/>
              <a:chExt cx="380880" cy="579600"/>
            </a:xfrm>
          </p:grpSpPr>
          <p:sp>
            <p:nvSpPr>
              <p:cNvPr id="141" name=""/>
              <p:cNvSpPr/>
              <p:nvPr/>
            </p:nvSpPr>
            <p:spPr>
              <a:xfrm>
                <a:off x="28195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195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809880" y="4114800"/>
              <a:ext cx="380880" cy="579600"/>
              <a:chOff x="3809880" y="4114800"/>
              <a:chExt cx="380880" cy="579600"/>
            </a:xfrm>
          </p:grpSpPr>
          <p:sp>
            <p:nvSpPr>
              <p:cNvPr id="144" name=""/>
              <p:cNvSpPr/>
              <p:nvPr/>
            </p:nvSpPr>
            <p:spPr>
              <a:xfrm>
                <a:off x="38098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098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H="1">
              <a:off x="3123720" y="381024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576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648320" y="4114800"/>
              <a:ext cx="380880" cy="579600"/>
              <a:chOff x="4648320" y="4114800"/>
              <a:chExt cx="380880" cy="579600"/>
            </a:xfrm>
          </p:grpSpPr>
          <p:sp>
            <p:nvSpPr>
              <p:cNvPr id="149" name=""/>
              <p:cNvSpPr/>
              <p:nvPr/>
            </p:nvSpPr>
            <p:spPr>
              <a:xfrm>
                <a:off x="46483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483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334120" y="4114800"/>
              <a:ext cx="380880" cy="579600"/>
              <a:chOff x="5334120" y="4114800"/>
              <a:chExt cx="380880" cy="579600"/>
            </a:xfrm>
          </p:grpSpPr>
          <p:sp>
            <p:nvSpPr>
              <p:cNvPr id="152" name=""/>
              <p:cNvSpPr/>
              <p:nvPr/>
            </p:nvSpPr>
            <p:spPr>
              <a:xfrm>
                <a:off x="53341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019920" y="4114800"/>
              <a:ext cx="380880" cy="579600"/>
              <a:chOff x="6019920" y="4114800"/>
              <a:chExt cx="380880" cy="579600"/>
            </a:xfrm>
          </p:grpSpPr>
          <p:sp>
            <p:nvSpPr>
              <p:cNvPr id="155" name=""/>
              <p:cNvSpPr/>
              <p:nvPr/>
            </p:nvSpPr>
            <p:spPr>
              <a:xfrm>
                <a:off x="60199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99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705720" y="4114800"/>
              <a:ext cx="380880" cy="579600"/>
              <a:chOff x="6705720" y="4114800"/>
              <a:chExt cx="380880" cy="579600"/>
            </a:xfrm>
          </p:grpSpPr>
          <p:sp>
            <p:nvSpPr>
              <p:cNvPr id="158" name=""/>
              <p:cNvSpPr/>
              <p:nvPr/>
            </p:nvSpPr>
            <p:spPr>
              <a:xfrm>
                <a:off x="6705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>
              <a:off x="4876920" y="3810240"/>
              <a:ext cx="3045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381024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248160" y="381024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9400" y="381024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86000" y="505620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imum number of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 + 2 + 4 + 8 + … +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umber Of Nodes &amp; 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umber of nodes in a binary tree whose 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&lt;= n &lt;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 &lt;= h &lt;=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ull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binary tree of a given heigh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–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2362320"/>
            <a:ext cx="7162920" cy="4162680"/>
            <a:chOff x="914400" y="2362320"/>
            <a:chExt cx="7162920" cy="4162680"/>
          </a:xfrm>
        </p:grpSpPr>
        <p:grpSp>
          <p:nvGrpSpPr>
            <p:cNvPr id="170" name=""/>
            <p:cNvGrpSpPr/>
            <p:nvPr/>
          </p:nvGrpSpPr>
          <p:grpSpPr>
            <a:xfrm>
              <a:off x="914400" y="2362320"/>
              <a:ext cx="6324480" cy="3398760"/>
              <a:chOff x="914400" y="2362320"/>
              <a:chExt cx="6324480" cy="339876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371600" y="3733920"/>
                <a:ext cx="5486400" cy="1218960"/>
                <a:chOff x="1371600" y="3733920"/>
                <a:chExt cx="5486400" cy="12189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71600" y="4495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000" y="4572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181480" y="4495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476760" y="457200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5410080" y="38098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95880" y="373392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1675800" y="373392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95480" y="373392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191120" y="2362320"/>
                <a:ext cx="380880" cy="579240"/>
                <a:chOff x="4191120" y="2362320"/>
                <a:chExt cx="380880" cy="579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191120" y="243828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91120" y="236232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514600" y="2666880"/>
                <a:ext cx="3581280" cy="1341720"/>
                <a:chOff x="2514600" y="2666880"/>
                <a:chExt cx="3581280" cy="134172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5715000" y="3429000"/>
                  <a:ext cx="380880" cy="579600"/>
                  <a:chOff x="5715000" y="3429000"/>
                  <a:chExt cx="380880" cy="579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715000" y="350532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715000" y="342900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2514600" y="3429000"/>
                  <a:ext cx="380880" cy="579600"/>
                  <a:chOff x="2514600" y="3429000"/>
                  <a:chExt cx="380880" cy="5796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2514600" y="350532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514600" y="342900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H="1">
                  <a:off x="2819160" y="2666880"/>
                  <a:ext cx="137160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95680" y="2743200"/>
                  <a:ext cx="129528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914400" y="4724280"/>
                <a:ext cx="6324480" cy="1036800"/>
                <a:chOff x="914400" y="4724280"/>
                <a:chExt cx="6324480" cy="103680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914400" y="5105520"/>
                  <a:ext cx="380880" cy="579240"/>
                  <a:chOff x="914400" y="5105520"/>
                  <a:chExt cx="380880" cy="5792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914400" y="518148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914400" y="510552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1904760" y="5105520"/>
                  <a:ext cx="380880" cy="579240"/>
                  <a:chOff x="1904760" y="5105520"/>
                  <a:chExt cx="380880" cy="5792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1904760" y="518148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904760" y="510552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>
                  <a:off x="1218600" y="480060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752480" y="472428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2971800" y="5181480"/>
                  <a:ext cx="380880" cy="579600"/>
                  <a:chOff x="2971800" y="5181480"/>
                  <a:chExt cx="380880" cy="5796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29718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9718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160" y="5181480"/>
                  <a:ext cx="380880" cy="579600"/>
                  <a:chOff x="3962160" y="5181480"/>
                  <a:chExt cx="380880" cy="5796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6216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16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 flipH="1">
                  <a:off x="3276000" y="487692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09880" y="480060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4800600" y="5181480"/>
                  <a:ext cx="380880" cy="579600"/>
                  <a:chOff x="4800600" y="5181480"/>
                  <a:chExt cx="380880" cy="5796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8006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8006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5486400" y="5181480"/>
                  <a:ext cx="380880" cy="579600"/>
                  <a:chOff x="5486400" y="5181480"/>
                  <a:chExt cx="380880" cy="5796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54864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864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172200" y="5181480"/>
                  <a:ext cx="380880" cy="579600"/>
                  <a:chOff x="6172200" y="5181480"/>
                  <a:chExt cx="380880" cy="5796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1722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1722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858000" y="5181480"/>
                  <a:ext cx="380880" cy="579600"/>
                  <a:chOff x="6858000" y="5181480"/>
                  <a:chExt cx="380880" cy="5796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68580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8580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 flipH="1">
                  <a:off x="5029200" y="4876920"/>
                  <a:ext cx="3045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86400" y="4876920"/>
                  <a:ext cx="1522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6400440" y="4876920"/>
                  <a:ext cx="1522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81680" y="4876920"/>
                  <a:ext cx="30492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523880" y="594360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ull binary tre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umbering Nodes In A Full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by levels from top to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a level number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90720" y="3200400"/>
            <a:ext cx="6324480" cy="3398400"/>
            <a:chOff x="990720" y="3200400"/>
            <a:chExt cx="6324480" cy="3398400"/>
          </a:xfrm>
        </p:grpSpPr>
        <p:grpSp>
          <p:nvGrpSpPr>
            <p:cNvPr id="229" name=""/>
            <p:cNvGrpSpPr/>
            <p:nvPr/>
          </p:nvGrpSpPr>
          <p:grpSpPr>
            <a:xfrm>
              <a:off x="1447920" y="4572000"/>
              <a:ext cx="5486400" cy="1218960"/>
              <a:chOff x="1447920" y="4572000"/>
              <a:chExt cx="5486400" cy="1218960"/>
            </a:xfrm>
          </p:grpSpPr>
          <p:sp>
            <p:nvSpPr>
              <p:cNvPr id="230" name=""/>
              <p:cNvSpPr/>
              <p:nvPr/>
            </p:nvSpPr>
            <p:spPr>
              <a:xfrm>
                <a:off x="1447920" y="533376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05320" y="54100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57800" y="533376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53080" y="5410080"/>
                <a:ext cx="38124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86400" y="464796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4572000"/>
                <a:ext cx="5335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752120" y="4572000"/>
                <a:ext cx="8384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71800" y="4572000"/>
                <a:ext cx="609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267080" y="3200400"/>
              <a:ext cx="380880" cy="579600"/>
              <a:chOff x="4267080" y="3200400"/>
              <a:chExt cx="380880" cy="579600"/>
            </a:xfrm>
          </p:grpSpPr>
          <p:sp>
            <p:nvSpPr>
              <p:cNvPr id="239" name=""/>
              <p:cNvSpPr/>
              <p:nvPr/>
            </p:nvSpPr>
            <p:spPr>
              <a:xfrm>
                <a:off x="4267080" y="3276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67080" y="3200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590920" y="3505320"/>
              <a:ext cx="3581280" cy="1341000"/>
              <a:chOff x="2590920" y="3505320"/>
              <a:chExt cx="3581280" cy="13410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5791320" y="4267080"/>
                <a:ext cx="380880" cy="579240"/>
                <a:chOff x="5791320" y="4267080"/>
                <a:chExt cx="380880" cy="5792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791320" y="434304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91320" y="426708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590920" y="4267080"/>
                <a:ext cx="380880" cy="579240"/>
                <a:chOff x="2590920" y="4267080"/>
                <a:chExt cx="380880" cy="5792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590920" y="434304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590920" y="426708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H="1">
                <a:off x="2895480" y="3505320"/>
                <a:ext cx="1371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72000" y="3581280"/>
                <a:ext cx="1295280" cy="83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990720" y="5562720"/>
              <a:ext cx="6324480" cy="1036080"/>
              <a:chOff x="990720" y="5562720"/>
              <a:chExt cx="6324480" cy="10360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990720" y="5943600"/>
                <a:ext cx="380880" cy="578880"/>
                <a:chOff x="990720" y="5943600"/>
                <a:chExt cx="380880" cy="5788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990720" y="6019560"/>
                  <a:ext cx="380880" cy="38016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990720" y="5943600"/>
                  <a:ext cx="3808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981080" y="5943600"/>
                <a:ext cx="380880" cy="578880"/>
                <a:chOff x="1981080" y="5943600"/>
                <a:chExt cx="380880" cy="5788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981080" y="6019560"/>
                  <a:ext cx="380880" cy="38016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981080" y="5943600"/>
                  <a:ext cx="3808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 flipH="1">
                <a:off x="1294920" y="5638680"/>
                <a:ext cx="2286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28800" y="5562720"/>
                <a:ext cx="30492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048120" y="6019560"/>
                <a:ext cx="380880" cy="579240"/>
                <a:chOff x="3048120" y="6019560"/>
                <a:chExt cx="380880" cy="5792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0481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0481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038480" y="6019560"/>
                <a:ext cx="380880" cy="579240"/>
                <a:chOff x="4038480" y="6019560"/>
                <a:chExt cx="380880" cy="5792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03848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03848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flipH="1">
                <a:off x="3352320" y="5715000"/>
                <a:ext cx="2286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86200" y="5638680"/>
                <a:ext cx="30492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4876920" y="6019560"/>
                <a:ext cx="380880" cy="579240"/>
                <a:chOff x="4876920" y="6019560"/>
                <a:chExt cx="380880" cy="579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8769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8769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562720" y="6019560"/>
                <a:ext cx="380880" cy="579240"/>
                <a:chOff x="5562720" y="6019560"/>
                <a:chExt cx="380880" cy="579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5627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5627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248520" y="6019560"/>
                <a:ext cx="380880" cy="579240"/>
                <a:chOff x="6248520" y="6019560"/>
                <a:chExt cx="380880" cy="5792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2485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2485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4320" y="6019560"/>
                <a:ext cx="380880" cy="579240"/>
                <a:chOff x="6934320" y="6019560"/>
                <a:chExt cx="380880" cy="5792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9343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43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 flipH="1">
                <a:off x="5105520" y="5715000"/>
                <a:ext cx="30456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62720" y="5715000"/>
                <a:ext cx="1522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476760" y="5715000"/>
                <a:ext cx="1522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58000" y="5715000"/>
                <a:ext cx="3049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43434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6019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/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 and has no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301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child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left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374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4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child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right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447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6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6:11:58Z</dcterms:modified>
  <cp:revision>338</cp:revision>
  <dc:subject/>
  <dc:title>Data Representation Methods</dc:title>
</cp:coreProperties>
</file>