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media/image4.wmf" ContentType="image/x-wmf"/>
  <Override PartName="/ppt/media/image5.gif" ContentType="image/gi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7200" y="705240"/>
            <a:ext cx="4639680" cy="347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99480" y="4408200"/>
            <a:ext cx="559548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aflop computer the 32yr time becomes approx 10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types of complexity: programming complexity, debugging complexity, complexity of compreh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29D-4537-47F8-873D-BAE2360F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B9C7-D1E4-43F7-9318-9AA5CCBC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B61-EC83-4F61-BD1C-95C4E304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7F90-9DBC-401F-A1C9-D7D8845B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C2FF-3BFC-45B6-8AAC-FAA5FD85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41C9-9DE8-480B-9231-8B156ABA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53AF-6B64-4F61-A4C8-406667D4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7D09-8266-4235-9D04-AEFEC397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026D-19AD-4695-B8F1-66E12C8D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6254-CC7D-455D-AD85-2C446E2D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5E81-7CD8-43D4-9D7E-71C32286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22C-C687-48BB-800E-D2FA6A1B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DDA3-AC4B-4844-BF15-1D81913D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49AF-3CD6-4326-9014-A63E91DB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DDA4-1B25-4B7B-898A-3DC01998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306F-30BC-440F-B34E-36924EB4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D2EA-C876-4527-9359-7E7ADA89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BD96-8DE2-4F7D-8530-1A0D156C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81F-1266-4F2D-AD31-8F946628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F37-58A5-4791-A8E8-C0A5D0FE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F93-8EFB-42D8-8F86-42A8DA51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814F-D311-4BB2-B738-FCF3CF85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83A-04C7-4E52-82B8-7600E313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150-6DE6-4D26-8058-86FFB968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66320" cy="2848680"/>
            <a:chOff x="0" y="4206960"/>
            <a:chExt cx="9166320" cy="284868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00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/>
                  <a:ahLst/>
                  <a:rect l="l" t="t" r="r" b="b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/>
                  <a:ahLst/>
                  <a:rect l="l" t="t" r="r" b="b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/>
                  <a:ahLst/>
                  <a:rect l="l" t="t" r="r" b="b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0" y="6624720"/>
              <a:ext cx="9132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b6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/>
              <a:ahLst/>
              <a:rect l="l" t="t" r="r" b="b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F78F-4458-4E57-9B3D-A8FADCEBA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533520"/>
            <a:ext cx="9177480" cy="6522120"/>
            <a:chOff x="0" y="533520"/>
            <a:chExt cx="9177480" cy="6522120"/>
          </a:xfrm>
        </p:grpSpPr>
        <p:sp>
          <p:nvSpPr>
            <p:cNvPr id="70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00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2" name="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0" y="6624720"/>
              <a:ext cx="9132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4" name="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eb6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9" name="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163B-8BDB-46EF-925B-40091B77E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/ insert a[i] into a[0:i-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 = 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j = i - 1; j &gt;= 0 &amp;&amp; t &lt; a[j]; j-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a[j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BV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57200" cy="446040"/>
          </a:xfrm>
          <a:prstGeom prst="rect">
            <a:avLst/>
          </a:prstGeom>
          <a:ln w="0">
            <a:noFill/>
          </a:ln>
        </p:spPr>
      </p:pic>
      <p:pic>
        <p:nvPicPr>
          <p:cNvPr id="147" name="BV" descr=""/>
          <p:cNvPicPr/>
          <p:nvPr/>
        </p:nvPicPr>
        <p:blipFill>
          <a:blip r:embed="rId2"/>
          <a:stretch/>
        </p:blipFill>
        <p:spPr>
          <a:xfrm>
            <a:off x="6324480" y="762120"/>
            <a:ext cx="457200" cy="4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tep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ep is an amount of computing that does not depend on the instance characteristic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adds, 100 subtracts, 1000 multi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l be counted as a single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adds cannot be counted as 1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tep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952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/ insert a[i] into a[0:i-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 = a[i];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j;         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j = i - 1; j &gt;= 0 &amp;&amp; t &lt; a[j]; j--)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a[j];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t;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695600"/>
            <a:ext cx="77724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/ insert a[i] into a[0:i-1]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 = a[i];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j;        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j = i - 1; j &gt;= 0 &amp;&amp; t &lt; a[j]; j--)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a[j];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t;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1143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tep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/e isn’t always 0 o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x = MyMath.sum(a, 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n is the instance characte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s/e count of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tep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952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/ insert a[i] into a[0:i-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 = a[i];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j;         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j = i - 1; j &gt;= 0 &amp;&amp; t &lt; a[j]; j--)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a[j];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t;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695600"/>
            <a:ext cx="77724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/ insert a[i] into a[0:i-1]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 = a[i];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j;         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j = i - 1; j &gt;= 0 &amp;&amp; t &lt; a[j]; j--)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a[j];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t;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6600" y="1143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1143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77320" y="3429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tep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2i + 3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count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count for body of for loop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1+2+3+…+n-1) + 3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n-1)n + 3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n-1)(n+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Asymptotic Complexity of 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lexity of 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r number of operations does not exce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any input of siz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itably larg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ly, the worst-case time is Theta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the best-case is Theta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he worst-case time is expected to quadruple each ti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dou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lexity of 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o much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lgorithm practic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Practical Complexiti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/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98760" y="2211480"/>
          <a:ext cx="6207120" cy="405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8760" y="2211480"/>
                    <a:ext cx="620712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mpractical Complexiti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ructions/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838160" y="2203560"/>
          <a:ext cx="6218280" cy="39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8160" y="2203560"/>
                    <a:ext cx="6218280" cy="39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lexity 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/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a particular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number of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tic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Faster Computer Vs Better Algorithm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ic improvement more 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hardware impro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hare" descr=""/>
          <p:cNvPicPr/>
          <p:nvPr/>
        </p:nvPicPr>
        <p:blipFill>
          <a:blip r:embed="rId1"/>
          <a:stretch/>
        </p:blipFill>
        <p:spPr>
          <a:xfrm>
            <a:off x="6553080" y="990720"/>
            <a:ext cx="1543320" cy="1474560"/>
          </a:xfrm>
          <a:prstGeom prst="rect">
            <a:avLst/>
          </a:prstGeom>
          <a:ln w="0">
            <a:noFill/>
          </a:ln>
        </p:spPr>
      </p:pic>
      <p:pic>
        <p:nvPicPr>
          <p:cNvPr id="201" name="snail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365040" cy="36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/ insert a[i] into a[0:i-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 = 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j = i - 1; j &gt;= 0 &amp;&amp;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 &lt; a[j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j-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a[j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n instance characteristic … n, n = a.length for insertion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count as a function of this instance characteris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j = i - 1; j &gt;= 0 &amp;&amp;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 &lt; a[j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j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[j + 1] = a[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comparisons are m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j = i - 1; j &gt;= 0 &amp;&amp;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 &lt; a[j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j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[j + 1] = a[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compares depends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[]s and t as well as on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st-case count = maximum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-case count = minimum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Worst-Case 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j = i - 1; j &gt;= 0 &amp;&amp;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 &lt; a[j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j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[j + 1] = a[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3733920"/>
            <a:ext cx="77724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[1, 2, 3, 4] and t = 0 =&gt; 4 comp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[1,2,3,…,i] and t = 0 =&gt; i comp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Worst-Case 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 = 1; i &lt; n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j = i - 1; j &gt;= 0 &amp;&amp;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 &lt; a[j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j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[j + 1] = a[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4038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ompares = 1 + 2 + 3 + … + (n-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360" y="4724280"/>
            <a:ext cx="19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n-1)n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Agam</dc:creator>
  <dc:description/>
  <dc:language>en-US</dc:language>
  <cp:lastModifiedBy>sahni</cp:lastModifiedBy>
  <dcterms:modified xsi:type="dcterms:W3CDTF">2004-08-05T13:26:25Z</dcterms:modified>
  <cp:revision>28</cp:revision>
  <dc:subject/>
  <dc:title>Complexity of Insertion Sort</dc:title>
</cp:coreProperties>
</file>