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4118-F2EF-4A10-9A03-848D597D00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ar list is an ordered sequence of elements. A dictionary is just a collection of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Dictionary has these 3 methods. Note that Java has an abstract class Dictionary that has these three methods plus isEmpty and some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cket size equal to size of L1 cache line or of a disk track or sector may yield better performance in the case of non-ideal has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(100,h) go? There is no bucket with index 100/11 = 9. There is a problem with the hash function, because it is supposed to map all valid keys into a valid bu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.hashCode() returns an int based on the reference value of this. So user defined classes must over ride Object.hashCode() for things to work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hCode() is already defined properly for Java’s classes: Integer, Long, Float, Double, String, Character, etc. The hashCode() definition in these classes over rides the default definition in Object. Note that hashCode may return a negative 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hashCode maps into an integer, not into a nonnegative integer. % works properly only with nonnegative inte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a dictionary is not an ordered sequence, it may be represented as a linear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log (size)) for get() results from the use of a binary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search cannot be done in O(log size) time on a chain, because it 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size) time to locate the middle node. Worst-case performance of a sorted chain is no better than that of an unsorted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3CF-B482-4D38-A652-986C0375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B0D-4BD7-475F-B41F-024D8CC0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DD8-A4EA-40B8-B6DE-554C8240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C04-5A25-4AF4-8BA7-80911F42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F34-5B98-49A4-B105-7BD1EBA3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9DA-960F-47FB-9E36-18CE0DED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B69-9BDF-4B20-8148-39D7591E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2ED-94BF-4FE3-9887-FC6599EE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F2B-97F2-4594-A0AC-C8E7EDAD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4CC-643D-4717-A4E0-7D99334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082-332D-42F8-94B7-A6B879E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B6A-6804-45D5-A177-0479349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6C51-A42A-4735-9C7F-792F5868B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ctiona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ey,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have different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EFTSPOT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SPOTLIGH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kip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ti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skip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kip l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ti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1D array (or table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0: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osition of this array is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cket can normally hold only one dictionary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hash func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s each ke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an index in the rang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[0, 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dictionary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its home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f[key]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09480" y="4572000"/>
            <a:ext cx="8001000" cy="993240"/>
            <a:chOff x="609480" y="4572000"/>
            <a:chExt cx="8001000" cy="993240"/>
          </a:xfrm>
        </p:grpSpPr>
        <p:grpSp>
          <p:nvGrpSpPr>
            <p:cNvPr id="195" name=""/>
            <p:cNvGrpSpPr/>
            <p:nvPr/>
          </p:nvGrpSpPr>
          <p:grpSpPr>
            <a:xfrm>
              <a:off x="609480" y="4572000"/>
              <a:ext cx="7924320" cy="457200"/>
              <a:chOff x="609480" y="4572000"/>
              <a:chExt cx="7924320" cy="457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0948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998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905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809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16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623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527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434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617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284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954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58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02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672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39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246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2,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3,c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d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3,e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85,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able[0:7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ey/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 stored in table as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5715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that have the same home bucket ar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ynonyms with respect to the hash function that is i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me bucket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ready occup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223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224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l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the home bucket for a new pair is occupied by a pair with a different ke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f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when there is no space in the home bucket for the new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bucket can hold only one pair, collisions and overflows occur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method to handle over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33520" y="1219320"/>
            <a:ext cx="8152920" cy="532800"/>
            <a:chOff x="533520" y="1219320"/>
            <a:chExt cx="8152920" cy="532800"/>
          </a:xfrm>
        </p:grpSpPr>
        <p:grpSp>
          <p:nvGrpSpPr>
            <p:cNvPr id="248" name=""/>
            <p:cNvGrpSpPr/>
            <p:nvPr/>
          </p:nvGrpSpPr>
          <p:grpSpPr>
            <a:xfrm>
              <a:off x="533520" y="1295280"/>
              <a:ext cx="7924320" cy="456840"/>
              <a:chOff x="533520" y="1295280"/>
              <a:chExt cx="7924320" cy="456840"/>
            </a:xfrm>
          </p:grpSpPr>
          <p:sp>
            <p:nvSpPr>
              <p:cNvPr id="249" name=""/>
              <p:cNvSpPr/>
              <p:nvPr/>
            </p:nvSpPr>
            <p:spPr>
              <a:xfrm>
                <a:off x="53352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238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146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049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4956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864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767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74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74674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85,f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82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2,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49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3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67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73,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Iss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hash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low handl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(number of buckets) of hash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Func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key into an integer in case the key is not an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by the metho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ashCode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an integer into a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integer 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0, b-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buckets in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ava character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 str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converted into a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the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 answer = s.charAt(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swer = (answer &lt;&lt; 16) + s.charAt(1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that are lon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s do not have a uniqu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Nonnegative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blic stat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ger(String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ngth = s.length(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number of characters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ength % 2 ==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length is o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= s.charAt(length - 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--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udent records in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key, element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udent name, linear list of assignment and exam sc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eys are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element whose 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ohn Ad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he element whose 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ana Ro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u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emented as update when there is already a pair with the give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mov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ut(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Nonnegative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length is now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= 0; i &lt; length; i +=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do two characters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+= s.charAt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+= ((int) s.charAt(i + 1)) &lt;&lt; 1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nswer &lt; 0) ? -answer : ans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p Into A Home Buck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method is by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omeBucket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th.abs(theKey.hashCode()) % divis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vis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s number of bucket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homeBucket &lt; divisor =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275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590920"/>
            <a:ext cx="769644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et of all possible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form hash fun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the key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buckets such that approximately the same number of keys get mapped into each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301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302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2590920"/>
            <a:ext cx="7696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2514600"/>
            <a:ext cx="8686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the probability that a randomly selected key has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its home buck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form hash function minimizes the likelihood of an overflow when keys are selected at rand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328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329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ing By Divi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that get mapped (hashed) into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roximat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division method results in a uniform hash function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keys tend to be cor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choice of th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fects the distribution of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of this correlation, applications tend to have a bias towards keys that map into odd integers (or into even on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even number, odd integers hash into odd home buckets and even integers into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4 =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4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4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4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4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4 =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results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odd number, odd (even) integers may hash into any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5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5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does not result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hance of uniformly distributed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o not use an even divi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iased distribution of home buckets is seen, in practice, when the divisor is a multiple of prime number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each prim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s lar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choo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it is a prim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ly, choo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it has no prime factor small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Hash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uses a divisor that is an odd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ifies implementation because we must be able to resize the hash table as more pairs are put into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doubling, for example, requires you to go from a 1D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leng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ch is odd) to an array whose leng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b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ch is also od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JAVA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56016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ctionary With Duplicat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are not required to be dis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 are of the form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word, mean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two or more entries for the same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threaded 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crash of thu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to shoot forth sudde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gu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standard roll of cl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resent As A Linear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= (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…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air dictiona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= (a, b, c, d,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= (aKey, aEleme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 = (bKey, bElement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or linked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43000" y="990720"/>
            <a:ext cx="6845400" cy="548640"/>
            <a:chOff x="1143000" y="990720"/>
            <a:chExt cx="6845400" cy="548640"/>
          </a:xfrm>
        </p:grpSpPr>
        <p:sp>
          <p:nvSpPr>
            <p:cNvPr id="60" name=""/>
            <p:cNvSpPr/>
            <p:nvPr/>
          </p:nvSpPr>
          <p:spPr>
            <a:xfrm>
              <a:off x="1143000" y="1012680"/>
              <a:ext cx="6845400" cy="520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93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0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8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65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2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36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4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1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8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65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22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80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37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73320" y="990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86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160" y="990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330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560" y="990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74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80880" y="2057400"/>
            <a:ext cx="83822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 at right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43000" y="990720"/>
            <a:ext cx="6845400" cy="548640"/>
            <a:chOff x="1143000" y="990720"/>
            <a:chExt cx="6845400" cy="548640"/>
          </a:xfrm>
        </p:grpSpPr>
        <p:sp>
          <p:nvSpPr>
            <p:cNvPr id="84" name=""/>
            <p:cNvSpPr/>
            <p:nvPr/>
          </p:nvSpPr>
          <p:spPr>
            <a:xfrm>
              <a:off x="1143000" y="1012680"/>
              <a:ext cx="6845400" cy="520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93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0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8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5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2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9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36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4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1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8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5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2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0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37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3320" y="990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990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990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990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990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7760" y="99072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80880" y="1887480"/>
            <a:ext cx="838224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 at left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09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084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364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0772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0372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232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32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057400"/>
            <a:ext cx="93726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ut at proper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36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156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68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084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408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2680" y="150804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59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057400"/>
            <a:ext cx="9372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63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156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368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84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0408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22680" y="150804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86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2895480"/>
            <a:ext cx="93726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16:59Z</dcterms:modified>
  <cp:revision>283</cp:revision>
  <dc:subject/>
  <dc:title>Data Representation Methods</dc:title>
</cp:coreProperties>
</file>