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787C-6AF4-4880-8CD1-DDEE4468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7A4-CEE7-4F89-BD94-66BFF01B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903-48E1-44EC-93AB-579891D0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578-3347-45F9-A70A-636BBE91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76F-F6A7-4270-8FD4-4A40E27B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EA4-3F7F-4183-92FC-ADFBAD14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E98-7644-4CAC-A301-4C93D5DC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E5F-2BEB-4B5C-8DE9-73273222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2C0-AB7E-4AE6-8963-A61964B9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754-5AA0-4793-A843-F479E9BF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B9D-1D8B-44BE-8465-FE77A094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6E4-8339-4420-BADA-42C24E7B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642C-50EF-410D-80FA-12ACC7281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5:17:06Z</dcterms:modified>
  <cp:revision>270</cp:revision>
  <dc:subject/>
  <dc:title>Data Representation Methods</dc:title>
</cp:coreProperties>
</file>