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E71EE60-0EA2-4A1B-8A6D-EAD750F9AB4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in Pascal and Fortran for exam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, for our example the difference in space overhead between the two representation methods is small, 20 bytes, the space overhead for the row-major scheme is 12 bytes regardless of the number of rows in the array. In the array of arrays scheme, the space overhead is 8 * (r+1) bytes. So the overhead for an array with 10000 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80008 bytes when the array of array scheme is used and only 12 bytes when the row-major scheme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ass Matrix uses the row-major representation of a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xt considers several kinds of special matrices—diagonal, tridiagonal, lower triangular, upper triangular, and symmetric. Applications are given in the text and exerci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1D array that is used to store the lower triangle is y, then following the above mapping y[i] = i +1 . y[] = {1, 2, 3, 4, …, 10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using the irregular array mapping of a lower triangular matrix we are able to use conventional Java syntax to access elements, but for large n, the space overhead is quite a bit more than when the row-major mapping into a 1D array is used. The row-major mapping requires you to develop a formula to access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bout #bytes/element of array? Excluded in above 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4 separate arrays are x, x[0], x[1], and x[2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37B8-66A6-4829-A13B-95D28CB6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C75A-EB07-4F07-A134-35097771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E0C5-2BE7-4574-81C1-1046FD69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7BC6-22E2-4C53-A9A9-AB3B3C62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7537-AF6D-4F21-B627-6E3F459C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B6F1-D2C7-40FE-8997-02786FA3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7F0C-3ACA-4231-A2D3-E6DB4BEE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0467-774D-46A3-A4D1-BAFC62DA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BA10-1609-4B79-B58F-011D0632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E530-0376-4483-ADEC-5FAB5A85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B74F-A255-4121-A3BF-35D392F5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57D2-7138-4D1D-8663-2DB2577B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0269-A105-49F0-A74B-E2DBCEAC0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rray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LEFTSPOT" descr=""/>
          <p:cNvPicPr/>
          <p:nvPr/>
        </p:nvPicPr>
        <p:blipFill>
          <a:blip r:embed="rId1"/>
          <a:stretch/>
        </p:blipFill>
        <p:spPr>
          <a:xfrm>
            <a:off x="5638680" y="114300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SPOTLIGH" descr=""/>
          <p:cNvPicPr/>
          <p:nvPr/>
        </p:nvPicPr>
        <p:blipFill>
          <a:blip r:embed="rId2"/>
          <a:stretch/>
        </p:blipFill>
        <p:spPr>
          <a:xfrm>
            <a:off x="2438280" y="121932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rray Representation In Java, C, and C++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38858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representation is called the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rray-of-arra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res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contiguous memory of size 3, 4, 4, and 4 for the 4 1D arr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memory block of siz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umber of row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umber of row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s of siz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umber of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301760" y="1295280"/>
            <a:ext cx="2959200" cy="2508480"/>
            <a:chOff x="1301760" y="1295280"/>
            <a:chExt cx="2959200" cy="2508480"/>
          </a:xfrm>
        </p:grpSpPr>
        <p:sp>
          <p:nvSpPr>
            <p:cNvPr id="196" name=""/>
            <p:cNvSpPr/>
            <p:nvPr/>
          </p:nvSpPr>
          <p:spPr>
            <a:xfrm>
              <a:off x="1301760" y="17589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01760" y="24447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01760" y="31305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4968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3056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1144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9268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4968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3056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1144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9268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4968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3056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1144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9268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76520" y="213372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76520" y="266688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76520" y="342900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03320" y="185904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83480" y="1859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65080" y="185904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45600" y="1859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03320" y="246852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3480" y="2468520"/>
              <a:ext cx="27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6472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456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0296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8384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647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4596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47920" y="1295280"/>
              <a:ext cx="76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x[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ow-Major Mapp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3 x 4 arr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 b c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 f g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 j k 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into 1D array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collecting elements by r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a row elements are collected from left to r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ws are collected from top to bot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get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[]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{a, b, c, d, e, f, g, h, i, j, k, l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5943600"/>
            <a:ext cx="7385040" cy="403560"/>
            <a:chOff x="762120" y="5943600"/>
            <a:chExt cx="7385040" cy="403560"/>
          </a:xfrm>
        </p:grpSpPr>
        <p:sp>
          <p:nvSpPr>
            <p:cNvPr id="230" name=""/>
            <p:cNvSpPr/>
            <p:nvPr/>
          </p:nvSpPr>
          <p:spPr>
            <a:xfrm>
              <a:off x="762120" y="594972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31960" y="5943600"/>
              <a:ext cx="99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w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59320" y="595620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05120" y="5949720"/>
              <a:ext cx="99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w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26000" y="595620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72160" y="5949720"/>
              <a:ext cx="99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w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92680" y="595620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91120" y="5949720"/>
              <a:ext cx="99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959720" y="595620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05520" y="5949720"/>
              <a:ext cx="99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w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26400" y="595620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93080" y="595620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Locating Element</a:t>
            </a:r>
            <a:r>
              <a:rPr b="0" lang="en-US" sz="4000" spc="-1" strike="noStrike">
                <a:solidFill>
                  <a:srgbClr val="ff0033"/>
                </a:solidFill>
                <a:latin typeface="Times New Roman"/>
              </a:rPr>
              <a:t> x[i][j]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44792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s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row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s to the left of row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to the left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[i][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[i][j]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mapped to positio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c +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1D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33520" y="1447920"/>
            <a:ext cx="7461000" cy="930600"/>
            <a:chOff x="533520" y="1447920"/>
            <a:chExt cx="7461000" cy="930600"/>
          </a:xfrm>
        </p:grpSpPr>
        <p:grpSp>
          <p:nvGrpSpPr>
            <p:cNvPr id="245" name=""/>
            <p:cNvGrpSpPr/>
            <p:nvPr/>
          </p:nvGrpSpPr>
          <p:grpSpPr>
            <a:xfrm>
              <a:off x="609480" y="1974960"/>
              <a:ext cx="7385040" cy="403560"/>
              <a:chOff x="609480" y="1974960"/>
              <a:chExt cx="7385040" cy="403560"/>
            </a:xfrm>
          </p:grpSpPr>
          <p:sp>
            <p:nvSpPr>
              <p:cNvPr id="246" name=""/>
              <p:cNvSpPr/>
              <p:nvPr/>
            </p:nvSpPr>
            <p:spPr>
              <a:xfrm>
                <a:off x="609480" y="198108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79320" y="1974960"/>
                <a:ext cx="990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ow 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606680" y="198756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752480" y="1981080"/>
                <a:ext cx="990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ow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673360" y="198756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819520" y="1981080"/>
                <a:ext cx="990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ow 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740040" y="198756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038480" y="1981080"/>
                <a:ext cx="990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807080" y="198756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952880" y="1981080"/>
                <a:ext cx="990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ow 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873760" y="198756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940440" y="198756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533520" y="14479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23880" y="14479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1460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2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14479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3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00600" y="14479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pace Overhe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44792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bytes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t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1D array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bytes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1D array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bytes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umber of column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2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umber of rows =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ength /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9640" y="1981080"/>
            <a:ext cx="7454880" cy="397440"/>
            <a:chOff x="539640" y="1981080"/>
            <a:chExt cx="7454880" cy="397440"/>
          </a:xfrm>
        </p:grpSpPr>
        <p:sp>
          <p:nvSpPr>
            <p:cNvPr id="266" name=""/>
            <p:cNvSpPr/>
            <p:nvPr/>
          </p:nvSpPr>
          <p:spPr>
            <a:xfrm>
              <a:off x="539640" y="198756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1981080"/>
              <a:ext cx="99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w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06680" y="198756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52480" y="1981080"/>
              <a:ext cx="99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w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73360" y="198756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19520" y="1981080"/>
              <a:ext cx="99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w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40040" y="198756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38480" y="1981080"/>
              <a:ext cx="99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07080" y="198756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1981080"/>
              <a:ext cx="99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w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73760" y="198756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40440" y="198756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sadvantag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contiguous memory of s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lumn-Major Mapp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304560" y="990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b c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 f g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 j k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into 1D array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collecting elements by colum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in a column elements are collected from top to bot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umns are collected from left to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get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y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{a, e, i, b, f, j, c, g, k, d, h, l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tri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 of values. Has rows and columns, but numbering begins at 1 rather than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b c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row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 f g h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 j k l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notati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(i,j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ath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[i][j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use a 2D array to represent a matri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hortcomings Of Using A 2D Array For A Matri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304560" y="22096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es are off by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arrays do not support matrix operations such 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ranspo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ulti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 so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2D arrays. Can’t do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x + 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x –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x * 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tc. in Ja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a clas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atr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object-oriented support of all matrix operations. See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agonal Matri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914400" y="304776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x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rix in which all nonzero terms are on the diag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agonal Matri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219320" y="5335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0 0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2 0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0 3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0 0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9880" y="1143000"/>
            <a:ext cx="1295640" cy="2438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(i,j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on diagonal if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= 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diagonal elements in a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n x 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diagonal elements are 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diagonal only v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1D Array Representation In Java, C, and C++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4038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dimensional arra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 = [a, b, c, d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 into contiguous memory lo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844560" y="1219320"/>
            <a:ext cx="7302600" cy="1365120"/>
            <a:chOff x="844560" y="1219320"/>
            <a:chExt cx="7302600" cy="1365120"/>
          </a:xfrm>
        </p:grpSpPr>
        <p:sp>
          <p:nvSpPr>
            <p:cNvPr id="54" name=""/>
            <p:cNvSpPr/>
            <p:nvPr/>
          </p:nvSpPr>
          <p:spPr>
            <a:xfrm>
              <a:off x="8445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017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589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161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733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305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877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49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021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593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165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737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3309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881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453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025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43200" y="1219320"/>
              <a:ext cx="2438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2" marL="2286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2742840" y="21337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99320" y="2133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240" y="21337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3720" y="2133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514600" y="2590560"/>
            <a:ext cx="1066680" cy="1052640"/>
            <a:chOff x="2514600" y="2590560"/>
            <a:chExt cx="1066680" cy="1052640"/>
          </a:xfrm>
        </p:grpSpPr>
        <p:sp>
          <p:nvSpPr>
            <p:cNvPr id="76" name=""/>
            <p:cNvSpPr/>
            <p:nvPr/>
          </p:nvSpPr>
          <p:spPr>
            <a:xfrm flipV="1">
              <a:off x="2895480" y="2590560"/>
              <a:ext cx="0" cy="68580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14600" y="3124080"/>
              <a:ext cx="1066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st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85800" y="5562720"/>
            <a:ext cx="7315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ocation(x[i]) = start +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wer Triangular Matri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x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rix in which all nonzero terms are either on or below the diag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4343400"/>
            <a:ext cx="8534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(i,j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part of lower triangle iff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&gt;=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elements in lower triangle is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+ 2 + … + n = n(n+1)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only the lower tri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1981080"/>
            <a:ext cx="586764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0 0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3 0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 5 6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 8 9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rray Of Arrays Re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280" y="4495680"/>
            <a:ext cx="883944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n irregular 2-D array … length of rows is not required to be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01760" y="1295280"/>
            <a:ext cx="3026880" cy="3194280"/>
            <a:chOff x="1301760" y="1295280"/>
            <a:chExt cx="3026880" cy="3194280"/>
          </a:xfrm>
        </p:grpSpPr>
        <p:sp>
          <p:nvSpPr>
            <p:cNvPr id="299" name=""/>
            <p:cNvSpPr/>
            <p:nvPr/>
          </p:nvSpPr>
          <p:spPr>
            <a:xfrm>
              <a:off x="1301760" y="17589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01760" y="24447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301760" y="31305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4968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4968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3056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74968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3056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1144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76520" y="213372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76520" y="266688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76520" y="342900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02600" y="1859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8026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8348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026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834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647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47920" y="1295280"/>
              <a:ext cx="76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x[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01760" y="38163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49680" y="39686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30560" y="39686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11440" y="39686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92680" y="39686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76520" y="411480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02600" y="3992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83480" y="3992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64720" y="3992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45600" y="3992400"/>
              <a:ext cx="383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reating And Using An Irregular Array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51920" y="11430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// declare a two-dimensional array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// and allocate the desired number of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][] irregularArray =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numberOfRows][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// now allocate space for the elements in each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= 0; i &lt; numberOfRows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regularArray[i] =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ew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ize[i]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// use the array like any regular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regularArray[2][3] = 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regularArray[4][6] = irregularArray[2][3]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regularArray[1][1] +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ap Lower Triangular Array Into A 1D Arra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533160" y="914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row-major order, but omit terms that are not part of the lower triang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0 0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3 0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 5 6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 8 9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, 2, 3, 4, 5, 6, 7, 8, 9,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Index Of Element [i][j]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09120" y="2743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is: row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row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row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preceded by row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of row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elements that precede row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 + 2 + 3 + … + i-1 = i(i-1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elemen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i,j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t positio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(i-1)/2 + j 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1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447920" y="1676520"/>
            <a:ext cx="5854680" cy="784800"/>
            <a:chOff x="1447920" y="1676520"/>
            <a:chExt cx="5854680" cy="784800"/>
          </a:xfrm>
        </p:grpSpPr>
        <p:grpSp>
          <p:nvGrpSpPr>
            <p:cNvPr id="335" name=""/>
            <p:cNvGrpSpPr/>
            <p:nvPr/>
          </p:nvGrpSpPr>
          <p:grpSpPr>
            <a:xfrm>
              <a:off x="1523880" y="2057400"/>
              <a:ext cx="5778720" cy="403920"/>
              <a:chOff x="1523880" y="2057400"/>
              <a:chExt cx="5778720" cy="403920"/>
            </a:xfrm>
          </p:grpSpPr>
          <p:sp>
            <p:nvSpPr>
              <p:cNvPr id="336" name=""/>
              <p:cNvSpPr/>
              <p:nvPr/>
            </p:nvSpPr>
            <p:spPr>
              <a:xfrm>
                <a:off x="1523880" y="2070000"/>
                <a:ext cx="444600" cy="37476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523880" y="2063880"/>
                <a:ext cx="46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981080" y="2063880"/>
                <a:ext cx="4572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981080" y="2063880"/>
                <a:ext cx="46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438280" y="2063880"/>
                <a:ext cx="60984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514600" y="2063880"/>
                <a:ext cx="46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048120" y="206388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46560" y="2057400"/>
                <a:ext cx="990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114800" y="206388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260960" y="2057400"/>
                <a:ext cx="990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ow 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181480" y="206388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248520" y="206388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1447920" y="167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905120" y="167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2320" y="167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71800" y="167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pace Overhea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4038480"/>
            <a:ext cx="7772400" cy="28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overhead = 4 bytes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4 bytes f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x.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8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xcludes space needed for the elements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844560" y="1219320"/>
            <a:ext cx="7302600" cy="2423880"/>
            <a:chOff x="844560" y="1219320"/>
            <a:chExt cx="7302600" cy="2423880"/>
          </a:xfrm>
        </p:grpSpPr>
        <p:sp>
          <p:nvSpPr>
            <p:cNvPr id="82" name=""/>
            <p:cNvSpPr/>
            <p:nvPr/>
          </p:nvSpPr>
          <p:spPr>
            <a:xfrm>
              <a:off x="8445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017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589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161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733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305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877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449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021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593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165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737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309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881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53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025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43200" y="1219320"/>
              <a:ext cx="2438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2" marL="2286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27000" y="216360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83480" y="2163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41400" y="216360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97880" y="2163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2895480" y="2590560"/>
              <a:ext cx="0" cy="68580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14600" y="3124080"/>
              <a:ext cx="1066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st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2D Array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80520" y="22860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lements of a 2-dimensional arra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lar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t [][]a = new int[3][4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shown as a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0][0]     a[0][1]    a[0][2]    a[0]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1][0]     a[1][1]    a[1][2]    a[1]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2][0]     a[2][1]    a[2][2]    a[2]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ows Of A 2D Arr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5960" y="22860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0][0]     a[0][1]    a[0][2]    a[0][3]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1][0]     a[1][1]    a[1][2]    a[1][3]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2][0]     a[2][1]    a[2][2]    a[2][3]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590920"/>
            <a:ext cx="6629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124080"/>
            <a:ext cx="6629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3733920"/>
            <a:ext cx="6629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lumns Of A 2D Arr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80520" y="22860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0][0]     a[0][1]    a[0][2]    a[0]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1][0]     a[1][1]    a[1][2]    a[1]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2][0]     a[2][1]    a[2][2]    a[2]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905120"/>
            <a:ext cx="0" cy="243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1905120"/>
            <a:ext cx="0" cy="243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1828800"/>
            <a:ext cx="0" cy="243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1828800"/>
            <a:ext cx="0" cy="243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472428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umn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72428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um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472428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um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472428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um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2D Array Representation In Java, C, and C++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3733560"/>
            <a:ext cx="7772400" cy="281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2D array as a 1D array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r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 = [row0, row1, row 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ow 0 = [a,b, c, d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ow 1 = [e, f, g, h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ow 2 = [i, j, k, l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ore 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D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219320"/>
            <a:ext cx="777240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-dimensional arra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, b, c,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, f, g,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, j, k,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2D Array Representation In Java, C, and C++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449532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.length =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[0].length =  x[1].length = x[2].length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301760" y="1295280"/>
            <a:ext cx="2959200" cy="2508480"/>
            <a:chOff x="1301760" y="1295280"/>
            <a:chExt cx="2959200" cy="2508480"/>
          </a:xfrm>
        </p:grpSpPr>
        <p:sp>
          <p:nvSpPr>
            <p:cNvPr id="128" name=""/>
            <p:cNvSpPr/>
            <p:nvPr/>
          </p:nvSpPr>
          <p:spPr>
            <a:xfrm>
              <a:off x="1301760" y="17589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01760" y="24447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01760" y="31305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4968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3056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1144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9268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4968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3056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144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9268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4968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3056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1144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268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76520" y="213372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6520" y="266688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76520" y="342900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03320" y="185904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83480" y="1859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65080" y="185904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45600" y="1859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03320" y="246852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83480" y="2468520"/>
              <a:ext cx="27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6472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456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296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8384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647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4596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47920" y="1295280"/>
              <a:ext cx="76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x[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pace Overhea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38858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overhead = overhead for 4 1D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4 * 8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32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number of rows + 1) x 8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301760" y="1295280"/>
            <a:ext cx="2959200" cy="2508480"/>
            <a:chOff x="1301760" y="1295280"/>
            <a:chExt cx="2959200" cy="2508480"/>
          </a:xfrm>
        </p:grpSpPr>
        <p:sp>
          <p:nvSpPr>
            <p:cNvPr id="162" name=""/>
            <p:cNvSpPr/>
            <p:nvPr/>
          </p:nvSpPr>
          <p:spPr>
            <a:xfrm>
              <a:off x="1301760" y="17589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01760" y="24447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01760" y="31305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4968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3056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1144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9268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4968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3056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1144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9268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4968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3056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1144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9268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76520" y="213372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266688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6520" y="342900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03320" y="185904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83480" y="1859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65080" y="185904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45600" y="1859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03320" y="246852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83480" y="2468520"/>
              <a:ext cx="27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6472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456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0296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8384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647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4596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47920" y="1295280"/>
              <a:ext cx="76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x[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4-08-05T14:40:23Z</dcterms:modified>
  <cp:revision>38</cp:revision>
  <dc:subject/>
  <dc:title>Data Representation Methods</dc:title>
</cp:coreProperties>
</file>