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570-4690-4B62-9983-6EB4C7F4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F88-A902-4008-95A9-85BB5E0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E17-6F9F-46D3-840E-7970973E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368-60BD-4344-AD6C-B40EC3E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05D-DF24-43E7-8186-96688982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0D6-E50F-4CC0-AFA9-FF119B5E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3BF-30E0-4E55-802F-01E303B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99C-9B05-465F-BC97-01EE40F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E7E-B887-4F38-88EF-25CCDED4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2A2-732E-4BA7-8EDB-C110F84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07A-D3AA-4C6C-AEBC-4B8DFEC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FCD-2654-430E-8E61-DFA99F3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3F9-E344-440D-884A-1BA7A8D1C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Sept. 2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1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FREE FOOD!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ed by IEEE and H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ational Instruments"/>
          <p:cNvPicPr/>
          <p:nvPr/>
        </p:nvPicPr>
        <p:blipFill>
          <a:blip r:embed="rId1"/>
          <a:stretch/>
        </p:blipFill>
        <p:spPr>
          <a:xfrm>
            <a:off x="2590920" y="304920"/>
            <a:ext cx="426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9:53:34Z</dcterms:created>
  <dc:creator>monica</dc:creator>
  <dc:description/>
  <dc:language>en-US</dc:language>
  <cp:lastModifiedBy>monica</cp:lastModifiedBy>
  <dcterms:modified xsi:type="dcterms:W3CDTF">2002-09-16T19:54:30Z</dcterms:modified>
  <cp:revision>2</cp:revision>
  <dc:subject/>
  <dc:title>    Information Session Monday Sept. 23rd NEB 100 6:15 pm  -FREE FOOD!-     </dc:title>
</cp:coreProperties>
</file>