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1F4-7833-4367-AE88-C840C416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C9B-1D9C-42E5-833C-830F64D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D0F-753E-4CEC-9B07-44ADFC0C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343-7ADB-4BC2-B485-079B6A7A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4EC-A045-4CF4-B525-8FF8F8FB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3CB-31F7-46D3-A5E3-EF997B6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9B5-C068-490C-89D7-5EFCD2DF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8CC-9A3C-4266-8F73-6A6D054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0D6-3C00-420E-B782-FC6A45B5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2F1-1B94-4377-8B47-ED001FD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3A5-AFB4-4C79-8F08-B5F9996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61D-3862-4952-AD12-5B58023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886-CFA8-40FF-B43B-2B0BE56F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… Wednesday, Sept 16, Periods E2 and E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 2333, 2334, 2336, 2342, 2346, 23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bulletin board for section to room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on Wednesday Period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’s lecture will be taped Thursday Period 4 in CSE 2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09-24T14:15:26Z</dcterms:modified>
  <cp:revision>3</cp:revision>
  <dc:subject/>
  <dc:title>Announcements</dc:title>
</cp:coreProperties>
</file>