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1A3-B721-437B-876C-802125DB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57A-87A7-40C6-89D7-FD9F52DF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B8BE-F404-4D1D-AFA2-63998D23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CEF4-5E03-4679-8F10-AD4E75E3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C6C-BE6E-48D9-97CA-4C875B09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21D-1FEE-4039-99B3-E0254A86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28E-590D-43E3-B7A0-438EF887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BEA-452D-4440-82DD-AC55ABD4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0AB-9AF2-4A95-ACBD-94D5E0A9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D6D-0783-43A1-86AE-8C21DCE4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FBCC-755D-422F-89BC-89710A61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EC5-0947-41F7-A259-0800230A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E439-FF3F-4ABA-8A9A-1575CBA7C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" descr=""/>
          <p:cNvPicPr/>
          <p:nvPr/>
        </p:nvPicPr>
        <p:blipFill>
          <a:blip r:embed="rId1"/>
          <a:stretch/>
        </p:blipFill>
        <p:spPr>
          <a:xfrm>
            <a:off x="2000160" y="233280"/>
            <a:ext cx="514368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ping of 10/10 lecture on 10/9 Period 4, CSE 12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ping of 10/17 lecture on 10/16 Period 4, CSE 12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16:05:40Z</dcterms:created>
  <dc:creator>Preferred Customer</dc:creator>
  <dc:description/>
  <dc:language>en-US</dc:language>
  <cp:lastModifiedBy>Preferred Customer</cp:lastModifiedBy>
  <dcterms:modified xsi:type="dcterms:W3CDTF">2001-10-08T14:07:14Z</dcterms:modified>
  <cp:revision>8</cp:revision>
  <dc:subject/>
  <dc:title>Announcements</dc:title>
</cp:coreProperties>
</file>