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CA5-2DA9-468F-8FB3-E81B4B07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82A-98EC-43F3-B259-6E78662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08F-D344-4715-9F1B-9449BB8E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260-B6F8-428D-873E-903236A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F2B-D7CD-4FAF-AE67-E36B27BC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3EE-F9ED-4BB1-A950-8E151366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42F-A1C3-4163-BCF5-B7040750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429-5B63-48F3-BDAD-BB71B2E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47E-0A29-43B4-8F11-2343EC46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F76-6533-40C1-88CB-D82EF27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977-B228-4B9E-8BF8-99821AE3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426-43B6-4CD4-907C-256C514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529-A833-4C72-9938-EDA8B2CC6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has been gra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4 du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5 will be posted Monday and will be due 12/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1 will be taped and put on Internet.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1-14T14:28:06Z</dcterms:modified>
  <cp:revision>4</cp:revision>
  <dc:subject/>
  <dc:title>Announcements</dc:title>
</cp:coreProperties>
</file>