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4AE-3970-4D9A-AB87-14158F45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04D-108A-4D1B-BA24-8CEF6297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458-CEB5-43D6-8B36-D4E13B5E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A53-1827-448B-A364-342478B1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4B8-F0E7-480D-9208-5726F9AA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F03-6AA6-4430-A112-534544DB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2B8-6973-4D23-8BCC-BDE5603F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6F1-9AB1-4F6E-9791-9EA945C3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621-5396-4EDA-B8E1-5419AF56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93A-42FA-4010-BD31-3482FBFB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351-E0B1-48FB-9D79-3DD8DC8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DAC-B8FB-4433-BB39-DF40E7E3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96C0-5303-4D02-A1D1-ABA0F7A43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1 average 61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 average 83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remaining assignment and exam scores to historic aver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do some form of extrapolation from Exam 2 &amp;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Hopcroft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76244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2:15:38Z</dcterms:created>
  <dc:creator>sahni</dc:creator>
  <dc:description/>
  <dc:language>en-US</dc:language>
  <cp:lastModifiedBy>sahni</cp:lastModifiedBy>
  <dcterms:modified xsi:type="dcterms:W3CDTF">2003-10-10T14:08:30Z</dcterms:modified>
  <cp:revision>5</cp:revision>
  <dc:subject/>
  <dc:title>Announcements</dc:title>
</cp:coreProperties>
</file>