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E8E-931B-4886-84EB-2A05F65A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BBB-B680-44FF-A45F-B19DC316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311-31F1-4575-BF73-EE4E9D23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684-AB4A-44B3-AFFD-88BAA323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516-3DF6-42CB-B871-F1DCC853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963-C355-467D-890C-FD3C1E52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18D-DD33-4943-9F5F-E286D40C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F3B-95F3-48B9-A04A-1BCC80FA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458-DA2B-4EF7-8494-6306BEC2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5B8-3F22-4E39-B414-1926086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09A-5424-4F93-AD84-351CC53D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DC4-8DE9-4879-9721-390F1A6C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CF46-E174-4CB4-B625-7DFD4729A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2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M Day—Monday Oct.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 lecture on Web site (Lec 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back during class Mon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1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46818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2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47228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3" descr=""/>
          <p:cNvPicPr/>
          <p:nvPr/>
        </p:nvPicPr>
        <p:blipFill>
          <a:blip r:embed="rId1"/>
          <a:stretch/>
        </p:blipFill>
        <p:spPr>
          <a:xfrm>
            <a:off x="2362320" y="266760"/>
            <a:ext cx="495936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2:15:38Z</dcterms:created>
  <dc:creator>sahni</dc:creator>
  <dc:description/>
  <dc:language>en-US</dc:language>
  <cp:lastModifiedBy>sahni</cp:lastModifiedBy>
  <dcterms:modified xsi:type="dcterms:W3CDTF">2003-10-03T12:15:48Z</dcterms:modified>
  <cp:revision>1</cp:revision>
  <dc:subject/>
  <dc:title>Announcements</dc:title>
</cp:coreProperties>
</file>